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6FA-E041-437B-B01A-A6A24DA8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7B9C-298B-4D7B-AE90-ADC12D4A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9C1-F9DC-403B-B075-79E6CBE3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41F-7263-4E6C-977F-9D95F3FF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44B-EBEB-4E83-9AAD-167E1A0F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ACC-27CB-43FC-B9A1-D48B5746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2FE-769A-4705-A6A4-B95774CA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64D-EAB5-4944-82E6-13641A3A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92E-D12E-49DC-A07A-D85E6C98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1E2C-3F15-495B-BC93-47AC76AF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58D5-AD80-454D-B99D-93C7465A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38D-A22A-4DE8-A52F-FD8A99C6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9AD9-CAC2-4D25-9F18-79B0AB0B09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美丽的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21427200">
            <a:off x="449280" y="2513160"/>
            <a:ext cx="6813360" cy="25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ffff66">
                      <a:alpha val="50000"/>
                    </a:srgbClr>
                  </a:outerShdw>
                </a:effectLst>
                <a:latin typeface="黑体"/>
              </a:rPr>
              <a:t>在山的那边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ffff66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" name=""/>
          <p:cNvSpPr/>
          <p:nvPr/>
        </p:nvSpPr>
        <p:spPr>
          <a:xfrm>
            <a:off x="7194960" y="4707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  <a:ea typeface="华文彩云"/>
              </a:rPr>
              <a:t>王家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美丽的山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841480" y="1220760"/>
            <a:ext cx="48135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１、第二题（语文本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２、第三题（笔记本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３、预习《走一步，再走一步》（笔记本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　１）标段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　２）字词：注音，解释，造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　３）朗读：签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　４）第一题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30400" y="328680"/>
            <a:ext cx="5230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检查项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课本：包书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红蓝钢笔或水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小纸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小字本：抄写《静夜思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笔记本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)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今天我们学习了…”“今天我学到了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预习《在山的那边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朗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家长签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字词注音、解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课后第一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美丽的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美丽的山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07960" y="457200"/>
            <a:ext cx="1095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痴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隐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铁青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凝成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诱惑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喧腾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一瞬间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60360" y="533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发呆地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53840" y="1143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隐藏，不外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12880" y="175248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青黑色，多形容人恐惧、盛怒或患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时发青的脸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38040" y="2971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凝结而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69240" y="358128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使用手段，使人认识模糊而做坏事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吸引，招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14080" y="48308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喧闹，沸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44120" y="5410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一眨眼之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324480" y="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黑体"/>
              </a:rPr>
              <a:t>检查预习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美丽的山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80880" y="380880"/>
            <a:ext cx="2362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整体感知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7" name=""/>
          <p:cNvSpPr/>
          <p:nvPr/>
        </p:nvSpPr>
        <p:spPr>
          <a:xfrm>
            <a:off x="3310920" y="2286000"/>
            <a:ext cx="27410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思考讨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１、在山的那边是什么？“山”和“海”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含义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２、概括诗歌两部分的内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３、诗歌表达了作者怎样的思想感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美丽的山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80880" y="380880"/>
            <a:ext cx="2362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整体感知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0" name=""/>
          <p:cNvSpPr/>
          <p:nvPr/>
        </p:nvSpPr>
        <p:spPr>
          <a:xfrm>
            <a:off x="4889520" y="0"/>
            <a:ext cx="217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思考讨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１、在山的那边是什么？“山”和“海”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　　含义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２、概括诗歌两部分的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３、诗歌表达了作者怎样的思想感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7120" y="20732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参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82080" y="274320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１、山——困难；海——理想／信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9280" y="3505320"/>
            <a:ext cx="570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２、第一节：童年时候的想望和困惑——现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第二节：长大以后的拼搏和奋斗——象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3400" y="4572000"/>
            <a:ext cx="131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３、要不怕困难，坚持奋斗，才能实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人生理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美丽的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7" name=""/>
          <p:cNvSpPr/>
          <p:nvPr/>
        </p:nvSpPr>
        <p:spPr>
          <a:xfrm>
            <a:off x="1924200" y="1881360"/>
            <a:ext cx="52099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诗歌的语言是非常凝练而又有丰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内涵的，请找出你喜欢的并认为含义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刻的诗句细细品味，你不理解的词语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句子也划下来一起讨论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07360" y="5378400"/>
            <a:ext cx="820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范例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59840" y="5348160"/>
            <a:ext cx="820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范例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1560" y="5378400"/>
            <a:ext cx="820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范例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7" action="ppaction://hlinksldjump"/>
          </p:cNvPr>
          <p:cNvSpPr/>
          <p:nvPr/>
        </p:nvSpPr>
        <p:spPr>
          <a:xfrm>
            <a:off x="8015400" y="6248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美丽的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4" name=""/>
          <p:cNvSpPr/>
          <p:nvPr/>
        </p:nvSpPr>
        <p:spPr>
          <a:xfrm>
            <a:off x="1120680" y="1828800"/>
            <a:ext cx="2527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范例１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山那边的山啊，铁青着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给我的幻想打了一个零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32004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32004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32004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32004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75440" y="2338560"/>
            <a:ext cx="2009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将山拟人化，表面写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的颜色，实际写自己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情难过，形象生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4" action="ppaction://hlinksldjump"/>
          </p:cNvPr>
          <p:cNvSpPr/>
          <p:nvPr/>
        </p:nvSpPr>
        <p:spPr>
          <a:xfrm>
            <a:off x="8077320" y="63244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62240" y="4075200"/>
            <a:ext cx="1106280" cy="179280"/>
          </a:xfrm>
          <a:custGeom>
            <a:avLst/>
            <a:gdLst/>
            <a:ahLst/>
            <a:rect l="l" t="t" r="r" b="b"/>
            <a:pathLst>
              <a:path w="697" h="113">
                <a:moveTo>
                  <a:pt x="0" y="19"/>
                </a:moveTo>
                <a:cubicBezTo>
                  <a:pt x="12" y="23"/>
                  <a:pt x="25" y="23"/>
                  <a:pt x="35" y="31"/>
                </a:cubicBezTo>
                <a:cubicBezTo>
                  <a:pt x="46" y="40"/>
                  <a:pt x="46" y="62"/>
                  <a:pt x="59" y="66"/>
                </a:cubicBezTo>
                <a:cubicBezTo>
                  <a:pt x="74" y="71"/>
                  <a:pt x="90" y="58"/>
                  <a:pt x="106" y="54"/>
                </a:cubicBezTo>
                <a:cubicBezTo>
                  <a:pt x="110" y="42"/>
                  <a:pt x="107" y="23"/>
                  <a:pt x="118" y="19"/>
                </a:cubicBezTo>
                <a:cubicBezTo>
                  <a:pt x="166" y="0"/>
                  <a:pt x="181" y="74"/>
                  <a:pt x="200" y="101"/>
                </a:cubicBezTo>
                <a:cubicBezTo>
                  <a:pt x="208" y="89"/>
                  <a:pt x="212" y="75"/>
                  <a:pt x="223" y="66"/>
                </a:cubicBezTo>
                <a:cubicBezTo>
                  <a:pt x="244" y="47"/>
                  <a:pt x="294" y="19"/>
                  <a:pt x="294" y="19"/>
                </a:cubicBezTo>
                <a:cubicBezTo>
                  <a:pt x="329" y="71"/>
                  <a:pt x="306" y="83"/>
                  <a:pt x="365" y="101"/>
                </a:cubicBezTo>
                <a:cubicBezTo>
                  <a:pt x="484" y="21"/>
                  <a:pt x="400" y="43"/>
                  <a:pt x="459" y="90"/>
                </a:cubicBezTo>
                <a:cubicBezTo>
                  <a:pt x="469" y="98"/>
                  <a:pt x="482" y="97"/>
                  <a:pt x="494" y="101"/>
                </a:cubicBezTo>
                <a:cubicBezTo>
                  <a:pt x="506" y="97"/>
                  <a:pt x="518" y="95"/>
                  <a:pt x="529" y="90"/>
                </a:cubicBezTo>
                <a:cubicBezTo>
                  <a:pt x="542" y="84"/>
                  <a:pt x="550" y="66"/>
                  <a:pt x="564" y="66"/>
                </a:cubicBezTo>
                <a:cubicBezTo>
                  <a:pt x="578" y="66"/>
                  <a:pt x="587" y="84"/>
                  <a:pt x="600" y="90"/>
                </a:cubicBezTo>
                <a:cubicBezTo>
                  <a:pt x="611" y="95"/>
                  <a:pt x="623" y="97"/>
                  <a:pt x="635" y="101"/>
                </a:cubicBezTo>
                <a:cubicBezTo>
                  <a:pt x="643" y="89"/>
                  <a:pt x="644" y="66"/>
                  <a:pt x="658" y="66"/>
                </a:cubicBezTo>
                <a:cubicBezTo>
                  <a:pt x="697" y="66"/>
                  <a:pt x="694" y="93"/>
                  <a:pt x="694" y="113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8200" y="4049640"/>
            <a:ext cx="765360" cy="223920"/>
          </a:xfrm>
          <a:custGeom>
            <a:avLst/>
            <a:gdLst/>
            <a:ahLst/>
            <a:rect l="l" t="t" r="r" b="b"/>
            <a:pathLst>
              <a:path w="482" h="141">
                <a:moveTo>
                  <a:pt x="0" y="0"/>
                </a:moveTo>
                <a:cubicBezTo>
                  <a:pt x="4" y="16"/>
                  <a:pt x="8" y="31"/>
                  <a:pt x="12" y="47"/>
                </a:cubicBezTo>
                <a:cubicBezTo>
                  <a:pt x="15" y="59"/>
                  <a:pt x="11" y="82"/>
                  <a:pt x="23" y="82"/>
                </a:cubicBezTo>
                <a:cubicBezTo>
                  <a:pt x="37" y="82"/>
                  <a:pt x="36" y="56"/>
                  <a:pt x="47" y="47"/>
                </a:cubicBezTo>
                <a:cubicBezTo>
                  <a:pt x="57" y="39"/>
                  <a:pt x="70" y="39"/>
                  <a:pt x="82" y="35"/>
                </a:cubicBezTo>
                <a:cubicBezTo>
                  <a:pt x="94" y="43"/>
                  <a:pt x="109" y="48"/>
                  <a:pt x="118" y="59"/>
                </a:cubicBezTo>
                <a:cubicBezTo>
                  <a:pt x="126" y="69"/>
                  <a:pt x="117" y="96"/>
                  <a:pt x="129" y="94"/>
                </a:cubicBezTo>
                <a:cubicBezTo>
                  <a:pt x="157" y="90"/>
                  <a:pt x="200" y="47"/>
                  <a:pt x="200" y="47"/>
                </a:cubicBezTo>
                <a:cubicBezTo>
                  <a:pt x="203" y="50"/>
                  <a:pt x="257" y="109"/>
                  <a:pt x="270" y="106"/>
                </a:cubicBezTo>
                <a:cubicBezTo>
                  <a:pt x="284" y="103"/>
                  <a:pt x="283" y="79"/>
                  <a:pt x="294" y="70"/>
                </a:cubicBezTo>
                <a:cubicBezTo>
                  <a:pt x="304" y="62"/>
                  <a:pt x="317" y="63"/>
                  <a:pt x="329" y="59"/>
                </a:cubicBezTo>
                <a:cubicBezTo>
                  <a:pt x="333" y="71"/>
                  <a:pt x="330" y="90"/>
                  <a:pt x="341" y="94"/>
                </a:cubicBezTo>
                <a:cubicBezTo>
                  <a:pt x="364" y="103"/>
                  <a:pt x="407" y="70"/>
                  <a:pt x="423" y="59"/>
                </a:cubicBezTo>
                <a:cubicBezTo>
                  <a:pt x="473" y="134"/>
                  <a:pt x="450" y="109"/>
                  <a:pt x="482" y="141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99960" y="36781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幻想破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美丽的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6" name=""/>
          <p:cNvSpPr/>
          <p:nvPr/>
        </p:nvSpPr>
        <p:spPr>
          <a:xfrm>
            <a:off x="520920" y="1905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范例２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920" y="2611440"/>
            <a:ext cx="21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一颗从小飘来的种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却在我的心中扎下了深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3048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41440" y="3429000"/>
            <a:ext cx="22046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来“我”不懈努力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理想的树立也需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日积月累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72760" y="1928880"/>
            <a:ext cx="2100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童年的认识毕竟肤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32520" y="2593800"/>
            <a:ext cx="2314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喻妈妈不经意的引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362320" y="2362320"/>
            <a:ext cx="1522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895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8077320" y="63244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79800" y="3078000"/>
            <a:ext cx="615960" cy="127080"/>
          </a:xfrm>
          <a:custGeom>
            <a:avLst/>
            <a:gdLst/>
            <a:ahLst/>
            <a:rect l="l" t="t" r="r" b="b"/>
            <a:pathLst>
              <a:path w="388" h="80">
                <a:moveTo>
                  <a:pt x="0" y="24"/>
                </a:moveTo>
                <a:cubicBezTo>
                  <a:pt x="18" y="80"/>
                  <a:pt x="29" y="77"/>
                  <a:pt x="82" y="59"/>
                </a:cubicBezTo>
                <a:cubicBezTo>
                  <a:pt x="88" y="41"/>
                  <a:pt x="92" y="0"/>
                  <a:pt x="129" y="12"/>
                </a:cubicBezTo>
                <a:cubicBezTo>
                  <a:pt x="156" y="21"/>
                  <a:pt x="199" y="59"/>
                  <a:pt x="199" y="59"/>
                </a:cubicBezTo>
                <a:cubicBezTo>
                  <a:pt x="206" y="54"/>
                  <a:pt x="255" y="19"/>
                  <a:pt x="270" y="24"/>
                </a:cubicBezTo>
                <a:cubicBezTo>
                  <a:pt x="297" y="33"/>
                  <a:pt x="340" y="71"/>
                  <a:pt x="340" y="71"/>
                </a:cubicBezTo>
                <a:cubicBezTo>
                  <a:pt x="348" y="47"/>
                  <a:pt x="356" y="1"/>
                  <a:pt x="388" y="1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3787920"/>
            <a:ext cx="671400" cy="206280"/>
          </a:xfrm>
          <a:custGeom>
            <a:avLst/>
            <a:gdLst/>
            <a:ahLst/>
            <a:rect l="l" t="t" r="r" b="b"/>
            <a:pathLst>
              <a:path w="423" h="130">
                <a:moveTo>
                  <a:pt x="0" y="36"/>
                </a:moveTo>
                <a:cubicBezTo>
                  <a:pt x="28" y="118"/>
                  <a:pt x="1" y="114"/>
                  <a:pt x="59" y="94"/>
                </a:cubicBezTo>
                <a:cubicBezTo>
                  <a:pt x="61" y="87"/>
                  <a:pt x="77" y="19"/>
                  <a:pt x="106" y="36"/>
                </a:cubicBezTo>
                <a:cubicBezTo>
                  <a:pt x="130" y="50"/>
                  <a:pt x="153" y="106"/>
                  <a:pt x="153" y="106"/>
                </a:cubicBezTo>
                <a:cubicBezTo>
                  <a:pt x="246" y="74"/>
                  <a:pt x="137" y="122"/>
                  <a:pt x="200" y="59"/>
                </a:cubicBezTo>
                <a:cubicBezTo>
                  <a:pt x="209" y="50"/>
                  <a:pt x="223" y="51"/>
                  <a:pt x="235" y="47"/>
                </a:cubicBezTo>
                <a:cubicBezTo>
                  <a:pt x="263" y="130"/>
                  <a:pt x="235" y="126"/>
                  <a:pt x="294" y="106"/>
                </a:cubicBezTo>
                <a:cubicBezTo>
                  <a:pt x="329" y="0"/>
                  <a:pt x="295" y="33"/>
                  <a:pt x="353" y="71"/>
                </a:cubicBezTo>
                <a:cubicBezTo>
                  <a:pt x="363" y="78"/>
                  <a:pt x="376" y="79"/>
                  <a:pt x="388" y="83"/>
                </a:cubicBezTo>
                <a:cubicBezTo>
                  <a:pt x="400" y="75"/>
                  <a:pt x="423" y="59"/>
                  <a:pt x="423" y="5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美丽的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0" name=""/>
          <p:cNvSpPr/>
          <p:nvPr/>
        </p:nvSpPr>
        <p:spPr>
          <a:xfrm>
            <a:off x="654120" y="18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范例３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87520" y="2502000"/>
            <a:ext cx="79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是的，我曾一次又一次地失望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当我爬上那一座座诱惑着我的山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但我又一次次鼓起信心向前走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9718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29718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7339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7339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4197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44197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4197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4197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23720" y="4038480"/>
            <a:ext cx="2360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强调 “我”的努力，不灰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83680" y="2438280"/>
            <a:ext cx="164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强调失望次数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02200" y="3200400"/>
            <a:ext cx="330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说明遇到的困难非常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4" action="ppaction://hlinksldjump"/>
          </p:cNvPr>
          <p:cNvSpPr/>
          <p:nvPr/>
        </p:nvSpPr>
        <p:spPr>
          <a:xfrm>
            <a:off x="8077320" y="63244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美丽的山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533520"/>
            <a:ext cx="24382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ff0000">
                      <a:alpha val="50000"/>
                    </a:srgbClr>
                  </a:outerShdw>
                </a:effectLst>
                <a:latin typeface="黑体"/>
              </a:rPr>
              <a:t>体验反思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ff000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0" name=""/>
          <p:cNvSpPr/>
          <p:nvPr/>
        </p:nvSpPr>
        <p:spPr>
          <a:xfrm>
            <a:off x="2220120" y="2154240"/>
            <a:ext cx="4752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讨论交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在你的生活学习中，一定也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无数座山，等着你去征服或已被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征服。结合自己的生活经历说说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首诗给你的启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6:41:00Z</dcterms:created>
  <dc:creator>wutao</dc:creator>
  <dc:description/>
  <dc:language>en-US</dc:language>
  <cp:lastModifiedBy>zj</cp:lastModifiedBy>
  <dcterms:modified xsi:type="dcterms:W3CDTF">2004-06-24T08:15:35Z</dcterms:modified>
  <cp:revision>100</cp:revision>
  <dc:subject/>
  <dc:title>PowerPoint 演示文稿</dc:title>
</cp:coreProperties>
</file>