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D85-A2A1-406D-B2F5-88492E13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3AD-CD6A-43CC-AC11-53200780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69F-06AA-4F10-A918-671515EA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00C-EBA7-4EBE-8758-DC4AE676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D39E-277E-4828-9CB2-648BA2C8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67BB-8B4B-4F4A-8956-EE8F8C63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2DF7-A4C3-44B4-90D2-EBA43B68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AB6E-CB63-4B4B-A992-C145A35E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0BCB-AFBD-46B1-B6C6-CD807EE6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7C51-BAE7-4483-BF00-6C2E89EE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0F3F-D9CC-4D2B-9B98-6CA12A45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EC4-2B76-493C-BCD8-CD35A37D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23B2-C550-4EDC-A94F-AF5233DE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E270-A86F-4868-8479-260DDD24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81F6-0007-4E16-AD9C-E01F316F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8119-0F5E-445F-B4F2-23DBDCD9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58B5-56ED-4A26-9B45-E71625D7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A7B-97E6-4F27-A039-3B9F2A25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2EC-065E-4DA7-8C26-EB733F7B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6F2-3506-4EAB-A22E-B335D800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C39-76C5-41BE-A2DE-7950547A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946-F563-43C7-A91F-9D7CC051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37C-0881-4AD3-8F47-B154AD69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37D-2BE3-4DD8-B3DC-2272793C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B6B6-24B6-4033-9E25-9DA483BBA5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6BA8-0A88-4DE8-AE17-84A024226E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在山的那边</a:t>
            </a:r>
            <a:br>
              <a:rPr sz="4400"/>
            </a:br>
            <a:r>
              <a:rPr b="0" lang="zh-CN" sz="1800" spc="-1" strike="noStrike">
                <a:solidFill>
                  <a:srgbClr val="221304"/>
                </a:solidFill>
                <a:latin typeface="Times New Roman"/>
              </a:rPr>
              <a:t>王家新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0" name="山的那边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429000" cy="4648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山那边是什么呢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海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5181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山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266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2767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妈妈给我说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3733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是用信念凝成的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19720"/>
            <a:ext cx="2361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有一天我终于爬上了那个山顶——在山的那边，依然是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342900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48006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观沧海1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429000" cy="4648320"/>
          </a:xfrm>
          <a:prstGeom prst="rect">
            <a:avLst/>
          </a:prstGeom>
          <a:ln w="0">
            <a:noFill/>
          </a:ln>
        </p:spPr>
      </p:pic>
      <p:pic>
        <p:nvPicPr>
          <p:cNvPr id="101" name="山的那边" descr=""/>
          <p:cNvPicPr/>
          <p:nvPr/>
        </p:nvPicPr>
        <p:blipFill>
          <a:blip r:embed="rId3"/>
          <a:stretch/>
        </p:blipFill>
        <p:spPr>
          <a:xfrm>
            <a:off x="5029200" y="1981080"/>
            <a:ext cx="3429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3880" y="380880"/>
            <a:ext cx="601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朗读全诗，感悟诗中的思想感情。诗歌，除字面上的意思外，往往还有深层含义。探究二下，诗中的“海”与“山”蕴含着什么意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666880"/>
            <a:ext cx="4343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在不停地翻过无数座山后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在一次次地战胜失望之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5909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你终会攀上这样一座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山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281952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895480"/>
            <a:ext cx="76320" cy="60984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48769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4648320"/>
            <a:ext cx="2895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而在这座山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那边，就是海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502920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理想、信念、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4876920"/>
            <a:ext cx="76320" cy="60948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5335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联系上下文，品味下边诗句中加点的词语（括号里的问题可作参考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2971800"/>
            <a:ext cx="693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．我常伏在窗口痴想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这个词在这里是什么意思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733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876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痴想：是幻想、呆想、想得出神的意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5638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你小时候有痴想过什么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00200" y="45720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．山那边的山啊，铁青着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这是写山的颜色吗？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94b6"/>
                </a:solidFill>
                <a:latin typeface="Times New Roman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3048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因为看不到尽头，或者说山那边还是青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4267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94b6"/>
                </a:solidFill>
                <a:latin typeface="Times New Roman"/>
              </a:rPr>
              <a:t>这里是指我的脸色铁青，因为我看不到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3276720"/>
            <a:ext cx="533160" cy="75960"/>
          </a:xfrm>
          <a:prstGeom prst="rightArrow">
            <a:avLst>
              <a:gd name="adj1" fmla="val 50000"/>
              <a:gd name="adj2" fmla="val 17547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4495680"/>
            <a:ext cx="533160" cy="76320"/>
          </a:xfrm>
          <a:prstGeom prst="rightArrow">
            <a:avLst>
              <a:gd name="adj1" fmla="val 50000"/>
              <a:gd name="adj2" fmla="val 1746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28800" y="457200"/>
            <a:ext cx="6019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．当我爬上那一座座诱惑着我的山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山顶”的诱惑力在哪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2362320"/>
            <a:ext cx="7391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因为我听到海依然在远方为我喧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雪白的海潮啊，夜夜奔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次次漫湿了我枯干的心灵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在我的心中山的那边有海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53352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一次次漫湿了我枯干的心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枯干”在这里是什么意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1828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0" lang="zh-CN" sz="2400" spc="-1" strike="noStrike">
                <a:solidFill>
                  <a:srgbClr val="3694b6"/>
                </a:solidFill>
                <a:latin typeface="Times New Roman"/>
              </a:rPr>
              <a:t>失望、沮丧的意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20040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读一读，写一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痴想    隐秘    铁青     凝成     诱惑     喧腾     一瞬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00200" y="685800"/>
            <a:ext cx="63244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作业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“我终于见到了大海”为题写一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示：这个大海可以是自然的，也可以是生活的；可以是甜美的，也可以是苦涩的；可以是宁静的，也可以是狂暴的；可以是开朗的，可以是阴郁的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要求：</a:t>
            </a: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300</a:t>
            </a: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字以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可以发挥想像，要有议论抒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a1bd69"/>
                </a:solidFill>
                <a:latin typeface="Times New Roman"/>
              </a:rPr>
              <a:t>预习第二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09:18:24Z</dcterms:created>
  <dc:creator>wutao</dc:creator>
  <dc:description/>
  <dc:language>en-US</dc:language>
  <cp:lastModifiedBy>teacher</cp:lastModifiedBy>
  <dcterms:modified xsi:type="dcterms:W3CDTF">2002-09-01T12:05:47Z</dcterms:modified>
  <cp:revision>100</cp:revision>
  <dc:subject/>
  <dc:title>在山的那边 王家新 </dc:title>
</cp:coreProperties>
</file>