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B1B-B8D9-4E5E-9CF1-02C5EDB8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025-8B5C-456E-A178-5CB4731B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619-6D60-4AD0-BECD-F2AC6EF4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96D-8A5A-4840-88AB-4E226E6A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AA4-2A46-469F-8A83-F460597A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E5B-260A-4727-B758-874123D3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2A2-67CE-4F7E-99B7-CC560B3C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C13-D477-41A8-812D-32D5D555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FBF-28B1-4212-9B47-0DB1FD3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211-3984-4507-B905-528577F0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EB9-7B59-4ED6-8875-B24690E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796-8EDE-4698-8CF3-0B82F7D5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6F8D-56F7-4AAD-8FEC-0D2DC512B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《在山的那边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王家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de0001_image002" descr=""/>
          <p:cNvPicPr/>
          <p:nvPr/>
        </p:nvPicPr>
        <p:blipFill>
          <a:blip r:embed="rId1"/>
          <a:stretch/>
        </p:blipFill>
        <p:spPr>
          <a:xfrm>
            <a:off x="361800" y="914400"/>
            <a:ext cx="84204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给我的幻想打了一个零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5040" y="189000"/>
            <a:ext cx="539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诗的语言是非常凝练而又有丰富内涵的，请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喜欢的并认为含义深刻的诗句细细品味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己的发现一起交流、讨论，边读边议边品味，揣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歌语言的魅力。看谁的眼睛最敏锐，能发现美，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89160" y="2492280"/>
            <a:ext cx="12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山那边的山哟，铁青着脸，给我的幻想打了一个零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03000" y="458136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怎么看出“我”是好不容易爬上了山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给我的幻想打了一个零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9400" y="1413000"/>
            <a:ext cx="56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中，你觉得诗人的心情如何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种写法好不好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24800" y="62064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山那边的山哟，铁青着脸，给我的幻想打了一个零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!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次鼓起信心向前走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73960" y="620640"/>
            <a:ext cx="14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的，我曾一次又一次的失望过，当我爬上那一座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诱惑着我的山顶，但我又一次次鼓起信心向前走去。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573360"/>
            <a:ext cx="28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这句诗你得到什么启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的枯干的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49040" y="260280"/>
            <a:ext cx="533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为我听到海依然在远方为我喧腾那雪白的海潮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夜夜奔来，一次次了漫湿了我的枯干的心灵…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味语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瞬间照亮你的眼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6640" y="260280"/>
            <a:ext cx="539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们啊，请相信在不停的翻过无数座山后，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次次的战胜失望之后，你终会攀上这样一座山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在这座山的那边，就是海呀，是一个全新的世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一瞬间照亮你的眼睛。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54440" y="4149720"/>
            <a:ext cx="524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同学们有没有过成功的经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把你的生活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人生体验与同学们一起分享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文导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1557360"/>
            <a:ext cx="84362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，如果我们不是生活在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的海滨，而是生活在大山里，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抬头可见的只有高耸入云的大山，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苍茫茫，连绵不断，你会想到什么呢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43000" y="907920"/>
            <a:ext cx="523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大山挡住了我们的视线，大山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的世界是一个封闭的世界，而大海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是一个更为广阔的天地。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的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45640" y="260280"/>
            <a:ext cx="34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天高任鸟飞  海阔凭鱼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0560" y="162864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大海是如此的雄伟壮阔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516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歌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960" y="333360"/>
            <a:ext cx="484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歌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是通过凝炼、优美又有节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语言抒发诗人的思想感情，我们要通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朗读来品味语言，用情去读，用心去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同时要联系自己的生活体验，从诗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得到有益的人生启示，帮助自己成长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朗读诗歌，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联系生活，感悟人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生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0800" y="981000"/>
            <a:ext cx="477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痴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想 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隐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秘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成       诱惑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喧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 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漫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湿     一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瞬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究学习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60280"/>
            <a:ext cx="88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在山的那边是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和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诗为什么分为二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表达了诗人怎样的感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2360" y="692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那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09280" y="692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0560" y="170028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700280"/>
            <a:ext cx="215640" cy="1224000"/>
          </a:xfrm>
          <a:prstGeom prst="downArrow">
            <a:avLst>
              <a:gd name="adj1" fmla="val 50000"/>
              <a:gd name="adj2" fmla="val 1419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0960" y="2997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重重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困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70720" y="3027240"/>
            <a:ext cx="257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的天地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21040" y="4292640"/>
            <a:ext cx="154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情往往是这样，并不是爬了一座山就能达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的地的，要翻过无数座山，才能到达理想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失望是因为对长期性艰巨性估计不足。认识深化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可以战胜失望，乃至不再失望，就能够“一次次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起信心向前走去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4:08:24Z</dcterms:created>
  <dc:creator>wutao</dc:creator>
  <dc:description/>
  <dc:language>en-US</dc:language>
  <cp:lastModifiedBy>zj</cp:lastModifiedBy>
  <dcterms:modified xsi:type="dcterms:W3CDTF">2004-07-14T07:23:04Z</dcterms:modified>
  <cp:revision>100</cp:revision>
  <dc:subject/>
  <dc:title>《在山的那边》 </dc:title>
</cp:coreProperties>
</file>