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9EA-A11E-4A37-8462-67859F69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A7C-4AC4-4F7C-A9C3-EAE4385C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BCF-6EFB-4C30-9F82-16187F08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DBE-EF7B-4D7D-A740-12F228FC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D9E-19DE-449A-AF00-6118973A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63D-394E-476D-8C3F-9FD1DA67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635-CA1C-44D9-82EE-C29A3BDD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075-286A-45D4-81BE-4DAB8750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A2A-2A2D-4401-A735-6655597C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E03-6DA5-4BD1-B1AE-8021BC8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9D6-FBC7-4603-8449-CBF6391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120-E1CC-412C-BF36-365F172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9963-FE58-499C-AACD-B7ECA00BDF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珠穆朗玛峰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91840" y="350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  <a:ea typeface="隶书"/>
              </a:rPr>
              <a:t>王家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0920" y="1905120"/>
            <a:ext cx="502920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98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华文彩云"/>
              </a:rPr>
              <a:t>在山的那边</a:t>
            </a:r>
            <a:endParaRPr b="1" lang="en-US" sz="66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华文彩云"/>
              <a:ea typeface="华文彩云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7621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方正姚体"/>
              </a:rPr>
              <a:t>诗的作者在童年时代就满怀着对大海的热烈向往，长大后依然不停的追寻它。这种为了实现美好的理想，不怕困难，不畏曲折，坚持奋斗，努力拚搏的精神，正是作者所要表达的深层内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533520"/>
            <a:ext cx="832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ff"/>
                </a:solidFill>
                <a:latin typeface="方正姚体"/>
                <a:ea typeface="方正姚体"/>
              </a:rPr>
              <a:t>其次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，是从作者在表达对生活的态度时所创造的具体形象中，找出它暗示读者的意蕴。作者用“山那边的山啊，铁青着脸”抒发什么感情呢？——我的初次努力受到打击，情绪低落。“——那雪白的海潮啊，夜夜奔来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一次次漫湿了我枯干的心灵……”则表现了“热切的向往、坚定的信念，鼓舞着我一次次的去奋斗。” 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10666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ff"/>
                </a:solidFill>
                <a:latin typeface="Times New Roman"/>
                <a:ea typeface="方正姚体"/>
              </a:rPr>
              <a:t>第三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方正姚体"/>
              </a:rPr>
              <a:t>，要理解诗中各种手法的运用，如比喻、象征的内涵，排比、反复的效果等，感悟画外音。当然，还要体会它的遣词造句的精练和妙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0" y="6094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盼望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7524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艾  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666880"/>
            <a:ext cx="8229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海员说，他最喜欢的是起锚所激起的那一片洁白的浪花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海员说，最使他高兴的是抛锚所发出的那一阵铁链的喧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盼望出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盼望到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89120" y="2286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问题探索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起锚的“浪花”和抛锚的“喧哗”各象征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44792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浪花——象征出发；喧哗——象征到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981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海员为什么为起锚而高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514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起锚，是新工作的开始，是建立新业绩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2004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海员为什么为抛锚的喧哗而高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09880"/>
            <a:ext cx="83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抛锚，是一次航行的胜利，透出海员的自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419720"/>
            <a:ext cx="84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一个盼望出发，一个盼望到达，两个盼望是否矛盾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4100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是矛盾的。而是统一互补，表现了海员的责任感和自豪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81080" y="609480"/>
            <a:ext cx="66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在山那边，在黄色的深谷那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伸展着一条乡村的小径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我看见森林和黄昏的火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还在绕着荨麻的篱笆的疏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那里，在教堂的圆屋顶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天穹的砂粒清早就泛出蓝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而从湖面吹来水粼粼的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拂动着路旁小草的铃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并不是因为春天在田畴上唱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宽阔的绿色道路才叫人望眼欲穿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-1333440" y="285768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770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在山的那边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609480"/>
            <a:ext cx="580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我怀着那灰鹤的忧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爱上了高山上的修道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每个黄昏，当蓝色变得朦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当桥上挂起淡淡的晚霞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你走来了，我可怜的漂泊者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弯着腰朝向爱情的十字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修道院的人都有颗温柔的心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他们祈祷，你贪婪地聆听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但愿你在救世主的圣像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也祝福我死去的魂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j0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62120" y="1600200"/>
            <a:ext cx="7696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我终于看见了大海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52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正确朗读下列词语中的划线字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057400"/>
            <a:ext cx="601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隐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秘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          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喧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腾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           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瞬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间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  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痴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想（     ）         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青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漫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湿（     ）         诱惑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1880" y="20574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89680" y="2133720"/>
            <a:ext cx="10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86240" y="327672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uā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335268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66680" y="42670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4343400"/>
            <a:ext cx="6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334120"/>
            <a:ext cx="9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5410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90920" y="3049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整体把握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95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（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）、诗中所说的“海”、和“山”指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4400" y="3962520"/>
            <a:ext cx="44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（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）、“海”和“山”喻什么哲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9880" y="2286000"/>
            <a:ext cx="42436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海——指的是理想的境界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山——指的是重重困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572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奔向理想的人生征途是漫长的，只要百折不挠地奋斗，理想的境界终将能实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1714320" y="285732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问题讨论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0" name=""/>
          <p:cNvSpPr/>
          <p:nvPr/>
        </p:nvSpPr>
        <p:spPr>
          <a:xfrm>
            <a:off x="3274200" y="914400"/>
            <a:ext cx="24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为什么说是“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隐秘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的想望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752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爬山只为望海，并未告知他人，所以“隐秘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50532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为什么说“山那边的山啊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铁青着脸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572000"/>
            <a:ext cx="725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拟人手法。是主观感觉，是说山好像铁青着脸嘲笑我的无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60948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给我的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幻想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打一个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零分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”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7652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那边还是山而非大海，所以是幻想；零分是说幻想全落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8680" y="3352680"/>
            <a:ext cx="44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一颗 从小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飘来的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种子”喻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191120"/>
            <a:ext cx="8169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喻一个信念，妈妈给我的信念——山那边是海；飘来的，非确指理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我喧腾——诗人确信远方有海——说明理想可以实现；枯干的心灵——喻对理想的渴望；理想滋润了我的心灵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7680" y="36781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在一瞬间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照亮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你的眼睛”什么意味、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02920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全新的世界”被照亮，应是光辉灿烂的；理想的实现使人兴奋、惊喜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80880"/>
            <a:ext cx="748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因为我听到海依然在远方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为我喧腾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……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枯干的心灵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”什么寓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8380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黑体"/>
                <a:ea typeface="黑体"/>
              </a:rPr>
              <a:t>《在山的那边》是一首</a:t>
            </a:r>
            <a:r>
              <a:rPr b="1" lang="zh-CN" sz="60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新诗</a:t>
            </a:r>
            <a:r>
              <a:rPr b="1" lang="zh-CN" sz="3600" spc="-1" strike="noStrike" u="sng">
                <a:solidFill>
                  <a:srgbClr val="990099"/>
                </a:solidFill>
                <a:uFillTx/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209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新诗，指五四以来产生的白话诗歌，也叫现代诗，是与传统诗歌（旧体诗）相对而言的。它具有其他传统诗歌的特点，感情充沛，想象丰富，语言凝练，富于形象。有一定的节奏和韵律，和传统旧体诗相比，比较灵活自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304920"/>
            <a:ext cx="794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隶书"/>
              </a:rPr>
              <a:t>如何阅读这首新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600200"/>
            <a:ext cx="86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姚体"/>
                <a:ea typeface="方正姚体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诗歌以情动人，阅读诗歌 </a:t>
            </a:r>
            <a:r>
              <a:rPr b="1" lang="zh-CN" sz="4800" spc="-1" strike="noStrike">
                <a:solidFill>
                  <a:srgbClr val="0033cc"/>
                </a:solidFill>
                <a:latin typeface="方正姚体"/>
                <a:ea typeface="方正姚体"/>
              </a:rPr>
              <a:t>:</a:t>
            </a:r>
            <a:r>
              <a:rPr b="1" lang="zh-CN" sz="4800" spc="-1" strike="noStrike">
                <a:solidFill>
                  <a:srgbClr val="33ccff"/>
                </a:solidFill>
                <a:latin typeface="方正姚体"/>
                <a:ea typeface="方正姚体"/>
              </a:rPr>
              <a:t>首先</a:t>
            </a:r>
            <a:r>
              <a:rPr b="1" lang="zh-CN" sz="4800" spc="-1" strike="noStrike">
                <a:solidFill>
                  <a:srgbClr val="0033cc"/>
                </a:solidFill>
                <a:latin typeface="方正姚体"/>
                <a:ea typeface="方正姚体"/>
              </a:rPr>
              <a:t>，要善于从它所表现出来的思想感情入手，领悟诗歌所言之志。那么，这首诗的感情脉络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40840" y="30492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怀着疑问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朦胧的梦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0840" y="129528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探究结果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满怀希望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0840" y="2286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遭遇失败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失望而归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0840" y="32004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再次思索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没有屈服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40840" y="41148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坚定信念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鼓足信心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0840" y="50292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屡战挫折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不停追寻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40840" y="59436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到达目标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成功喜悦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8288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8195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7339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46483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55627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02:32:45Z</dcterms:created>
  <dc:creator>wutao</dc:creator>
  <dc:description/>
  <dc:language>en-US</dc:language>
  <cp:lastModifiedBy>zj</cp:lastModifiedBy>
  <dcterms:modified xsi:type="dcterms:W3CDTF">2004-07-14T07:20:36Z</dcterms:modified>
  <cp:revision>100</cp:revision>
  <dc:subject/>
  <dc:title>PowerPoint 演示文稿</dc:title>
</cp:coreProperties>
</file>