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6C3-A0CE-4996-AF6A-A4E7778C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41D-3504-40A2-BDD5-5247C654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26F-4073-4A56-A9A0-4703A67A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ABD-1071-47C5-96A1-F10F3E7B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1F34-5468-4AD0-9EA6-CB166842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C678-8F40-4413-A146-A28DF59D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07B5-FA61-45BA-A7F7-F247912F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8614-F7EC-49D4-A11C-F4C277B0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8153-DFD4-4BC2-B9D6-C27D14FB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222A-D570-4D5A-A6FC-68886D6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3608-FF60-4C26-AC2F-432B010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4D7-4F5F-4BE4-AE6A-7B8D3DB6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E71A-8D38-4F57-831C-28944579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27CF-1973-4360-9800-8164D10B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9DDF-79B0-46B8-B27C-B2EAD760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77AA-61B5-46EE-8CB1-6596D3DE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9328-AE6E-46B6-9EF1-EA75C4DF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2F4-3B94-4190-9A81-A4955FCE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A8B-368A-4EF6-A234-F21C63DD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445-BFAB-4556-B95E-49AD5FBA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A0C-F530-4151-8848-A56528DE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5F6-519E-4AAA-8014-650B9074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A86-50B4-4777-8290-3E33DE7C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7BF-74D2-4F3A-96B7-7785AFC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CC4C-D3FB-472E-BD84-186699F142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8EDB-9E65-4D9E-B4C6-9FBAA841ED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在山的那边</a:t>
            </a:r>
            <a:br>
              <a:rPr sz="4400"/>
            </a:br>
            <a:r>
              <a:rPr b="0" lang="zh-CN" sz="1800" spc="-1" strike="noStrike">
                <a:solidFill>
                  <a:srgbClr val="221304"/>
                </a:solidFill>
                <a:latin typeface="Times New Roman"/>
              </a:rPr>
              <a:t>王家新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山的那边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429000" cy="4648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山那边是什么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5181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山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276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妈妈给我说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733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是用信念凝成的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19720"/>
            <a:ext cx="2361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有一天我终于爬上了那个山顶——在山的那边，依然是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342900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48006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观沧海1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101" name="山的那边" descr=""/>
          <p:cNvPicPr/>
          <p:nvPr/>
        </p:nvPicPr>
        <p:blipFill>
          <a:blip r:embed="rId3"/>
          <a:stretch/>
        </p:blipFill>
        <p:spPr>
          <a:xfrm>
            <a:off x="5029200" y="1981080"/>
            <a:ext cx="3429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38088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朗读全诗，感悟诗中的思想感情。诗歌，除字面上的意思外，往往还有深层含义。探究二下，诗中的“海”与“山”蕴含着什么意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66688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在不停地翻过无数座山后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在一次次地战胜失望之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5909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你终会攀上这样一座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山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8195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89548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48769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64832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而在这座山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那边，就是海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50292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理想、信念、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87692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5335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联系上下文，品味下边诗句中加点的词语（括号里的问题可作参考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297180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．我常伏在窗口痴想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这个词在这里是什么意思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733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876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痴想：是幻想、呆想、想得出神的意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5638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你小时候有痴想过什么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00200" y="4572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山那边的山啊，铁青着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这是写山的颜色吗？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因为看不到尽头，或者说山那边还是青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267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这里是指我的脸色铁青，因为我看不到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3276720"/>
            <a:ext cx="533160" cy="75960"/>
          </a:xfrm>
          <a:prstGeom prst="rightArrow">
            <a:avLst>
              <a:gd name="adj1" fmla="val 50000"/>
              <a:gd name="adj2" fmla="val 17547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495680"/>
            <a:ext cx="533160" cy="76320"/>
          </a:xfrm>
          <a:prstGeom prst="rightArrow">
            <a:avLst>
              <a:gd name="adj1" fmla="val 50000"/>
              <a:gd name="adj2" fmla="val 1746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45720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当我爬上那一座座诱惑着我的山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山顶”的诱惑力在哪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236232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因为我听到海依然在远方为我喧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雪白的海潮啊，夜夜奔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次次漫湿了我枯干的心灵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在我的心中山的那边有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53352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一次次漫湿了我枯干的心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枯干”在这里是什么意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失望、沮丧的意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2004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读一读，写一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痴想    隐秘    铁青     凝成     诱惑     喧腾     一瞬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00200" y="685800"/>
            <a:ext cx="63244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作业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“我终于见到了大海”为题写一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：这个大海可以是自然的，也可以是生活的；可以是甜美的，也可以是苦涩的；可以是宁静的，也可以是狂暴的；可以是开朗的，可以是阴郁的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要求：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字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可以发挥想像，要有议论抒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预习第二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9:18:24Z</dcterms:created>
  <dc:creator>wutao</dc:creator>
  <dc:description/>
  <dc:language>en-US</dc:language>
  <cp:lastModifiedBy>teacher</cp:lastModifiedBy>
  <dcterms:modified xsi:type="dcterms:W3CDTF">2002-09-01T12:05:47Z</dcterms:modified>
  <cp:revision>100</cp:revision>
  <dc:subject/>
  <dc:title>在山的那边 王家新 </dc:title>
</cp:coreProperties>
</file>