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86B-FBFC-43AF-8BA3-132F4C0B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DD0-CC29-4465-A107-0C38E9B9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5BE-1773-4752-BF54-4667C63E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0BC-8AC5-4E5A-8E99-74C136BB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503-8989-40B2-823D-815DF7E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AFB-AE4C-4F3C-97EF-13511C1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840-BA1D-437C-8E5A-CB885F8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9D2-83AC-45FE-B202-6F27504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504-187F-4F8D-BB87-FE1DBD5D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A56-239C-4924-ABA5-C6C43A3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A39-DD51-49EA-88E4-D79D4D5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D3D-63A7-480C-ADC7-C7297FF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D27-7AFE-4221-BC99-497B1AF4D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珠穆朗玛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91840" y="350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  <a:ea typeface="隶书"/>
              </a:rPr>
              <a:t>王家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1905120"/>
            <a:ext cx="50292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98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华文彩云"/>
              </a:rPr>
              <a:t>在山的那边</a:t>
            </a:r>
            <a:endParaRPr b="1" lang="en-US" sz="66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华文彩云"/>
              <a:ea typeface="华文彩云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7621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方正姚体"/>
              </a:rPr>
              <a:t>诗的作者在童年时代就满怀着对大海的热烈向往，长大后依然不停的追寻它。这种为了实现美好的理想，不怕困难，不畏曲折，坚持奋斗，努力拚搏的精神，正是作者所要表达的深层内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533520"/>
            <a:ext cx="832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ff"/>
                </a:solidFill>
                <a:latin typeface="方正姚体"/>
                <a:ea typeface="方正姚体"/>
              </a:rPr>
              <a:t>其次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，是从作者在表达对生活的态度时所创造的具体形象中，找出它暗示读者的意蕴。作者用“山那边的山啊，铁青着脸”抒发什么感情呢？——我的初次努力受到打击，情绪低落。“——那雪白的海潮啊，夜夜奔来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一次次漫湿了我枯干的心灵……”则表现了“热切的向往、坚定的信念，鼓舞着我一次次的去奋斗。” 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0666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imes New Roman"/>
                <a:ea typeface="方正姚体"/>
              </a:rPr>
              <a:t>第三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方正姚体"/>
              </a:rPr>
              <a:t>，要理解诗中各种手法的运用，如比喻、象征的内涵，排比、反复的效果等，感悟画外音。当然，还要体会它的遣词造句的精练和妙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0" y="6094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盼望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7524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艾  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666880"/>
            <a:ext cx="8229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海员说，他最喜欢的是起锚所激起的那一片洁白的浪花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海员说，最使他高兴的是抛锚所发出的那一阵铁链的喧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盼望出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一个盼望到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89120" y="228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问题探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起锚的“浪花”和抛锚的“喧哗”各象征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44792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浪花——象征出发；喧哗——象征到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981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海员为什么为起锚而高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514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起锚，是新工作的开始，是建立新业绩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2004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海员为什么为抛锚的喧哗而高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9880"/>
            <a:ext cx="83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抛锚，是一次航行的胜利，透出海员的自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84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一个盼望出发，一个盼望到达，两个盼望是否矛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4100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是矛盾的。而是统一互补，表现了海员的责任感和自豪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81080" y="60948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在山那边，在黄色的深谷那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伸展着一条乡村的小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我看见森林和黄昏的火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还在绕着荨麻的篱笆的疏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那里，在教堂的圆屋顶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天穹的砂粒清早就泛出蓝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而从湖面吹来水粼粼的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拂动着路旁小草的铃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并不是因为春天在田畴上唱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宽阔的绿色道路才叫人望眼欲穿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1333440" y="285768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770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在山的那边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609480"/>
            <a:ext cx="580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我怀着那灰鹤的忧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爱上了高山上的修道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每个黄昏，当蓝色变得朦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当桥上挂起淡淡的晚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你走来了，我可怜的漂泊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弯着腰朝向爱情的十字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修道院的人都有颗温柔的心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他们祈祷，你贪婪地聆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但愿你在救世主的圣像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也祝福我死去的魂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j0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62120" y="160020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我终于看见了大海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52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正确朗读下列词语中的划线字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057400"/>
            <a:ext cx="601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隐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秘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喧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腾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  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瞬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间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  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痴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想（     ）       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青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漫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湿（     ）         诱惑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1880" y="20574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9680" y="2133720"/>
            <a:ext cx="10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6240" y="327672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ā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35268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66680" y="42670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4343400"/>
            <a:ext cx="6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334120"/>
            <a:ext cx="9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410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90920" y="3049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整体把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（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、诗中所说的“海”、和“山”指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4400" y="3962520"/>
            <a:ext cx="44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（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、“海”和“山”喻什么哲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880" y="2286000"/>
            <a:ext cx="42436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海——指的是理想的境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山——指的是重重困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572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奔向理想的人生征途是漫长的，只要百折不挠地奋斗，理想的境界终将能实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1714320" y="285732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问题讨论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0" name=""/>
          <p:cNvSpPr/>
          <p:nvPr/>
        </p:nvSpPr>
        <p:spPr>
          <a:xfrm>
            <a:off x="3274200" y="914400"/>
            <a:ext cx="24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为什么说是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隐秘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的想望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爬山只为望海，并未告知他人，所以“隐秘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50532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为什么说“山那边的山啊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铁青着脸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572000"/>
            <a:ext cx="725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拟人手法。是主观感觉，是说山好像铁青着脸嘲笑我的无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给我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幻想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打一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零分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7652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那边还是山而非大海，所以是幻想；零分是说幻想全落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8680" y="335268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一颗 从小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飘来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种子”喻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191120"/>
            <a:ext cx="8169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喻一个信念，妈妈给我的信念——山那边是海；飘来的，非确指理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我喧腾——诗人确信远方有海——说明理想可以实现；枯干的心灵——喻对理想的渴望；理想滋润了我的心灵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7680" y="36781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在一瞬间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照亮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你的眼睛”什么意味、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0292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全新的世界”被照亮，应是光辉灿烂的；理想的实现使人兴奋、惊喜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0880"/>
            <a:ext cx="74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、“因为我听到海依然在远方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为我喧腾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枯干的心灵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”什么寓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8380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《在山的那边》是一首</a:t>
            </a:r>
            <a:r>
              <a:rPr b="1" lang="zh-CN" sz="60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新诗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209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新诗，指五四以来产生的白话诗歌，也叫现代诗，是与传统诗歌（旧体诗）相对而言的。它具有其他传统诗歌的特点，感情充沛，想象丰富，语言凝练，富于形象。有一定的节奏和韵律，和传统旧体诗相比，比较灵活自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04920"/>
            <a:ext cx="794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隶书"/>
              </a:rPr>
              <a:t>如何阅读这首新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6002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姚体"/>
                <a:ea typeface="方正姚体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诗歌以情动人，阅读诗歌 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:</a:t>
            </a:r>
            <a:r>
              <a:rPr b="1" lang="zh-CN" sz="4800" spc="-1" strike="noStrike">
                <a:solidFill>
                  <a:srgbClr val="33ccff"/>
                </a:solidFill>
                <a:latin typeface="方正姚体"/>
                <a:ea typeface="方正姚体"/>
              </a:rPr>
              <a:t>首先</a:t>
            </a: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，要善于从它所表现出来的思想感情入手，领悟诗歌所言之志。那么，这首诗的感情脉络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40840" y="30492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怀着疑问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朦胧的梦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0840" y="12952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探究结果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满怀希望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0840" y="2286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遭遇失败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失望而归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840" y="32004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再次思索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没有屈服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0840" y="41148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坚定信念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鼓足信心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0840" y="50292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屡战挫折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不停追寻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40840" y="59436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到达目标 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成功喜悦</a:t>
            </a:r>
            <a:r>
              <a:rPr b="1" lang="zh-CN" sz="3200" spc="-1" strike="noStrike">
                <a:solidFill>
                  <a:srgbClr val="990099"/>
                </a:solidFill>
                <a:latin typeface="华文中宋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828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8195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7339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46483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55627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2:32:45Z</dcterms:created>
  <dc:creator>wutao</dc:creator>
  <dc:description/>
  <dc:language>en-US</dc:language>
  <cp:lastModifiedBy>zj</cp:lastModifiedBy>
  <dcterms:modified xsi:type="dcterms:W3CDTF">2004-07-14T07:20:36Z</dcterms:modified>
  <cp:revision>100</cp:revision>
  <dc:subject/>
  <dc:title>PowerPoint 演示文稿</dc:title>
</cp:coreProperties>
</file>