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836C-006F-4BB5-ABB6-03A1741FD9B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上节课布置同学们回去考虑，准备了自己的冒险经历，请大家根据提纲畅所欲言。总结所得。导入课文和莫顿一起去体验他的冒险，看看我们又能得到什么启示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体味心情时，找同学范读，其他同学点评，看是否符合当时那种害怕的心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找出描写莫顿害怕紧张的句子与词语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复述故事时引导学生体味人生，学会克服人生路上的艰险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联系课文的场景，设计脱险方案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7ABC-389B-405F-B990-8B20AEC3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9B17-DEC1-4B0A-8B0B-AFC71740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E918-60C0-426F-955D-88859E8A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E2B3-92BF-43AC-BC6B-2D219EDE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0BF5-E5C1-48C5-B682-F57E56D9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FCC8-AD4D-4357-9CCD-60ECD6F2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AD61-E774-402A-8AF2-FC66F856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3AB0-C181-44A5-B822-057C1535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E59B-63A1-48A2-B8F9-B4EAD88E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DC46-3F42-4761-8860-D094E2C0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2573-ABDF-4DC2-97EC-9BCE3F3B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14E9-4A8C-46E7-BA05-F83DB139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E207-A814-4FA8-B357-204C3B9D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811B-1BEF-4788-9E6B-35C5A65E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339F-2DED-46C8-88B7-B4ED5492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2F56-DB58-4F8D-B90F-55E7E69E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6313-FE5E-4935-B0CA-DF8A196F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030-D531-400D-8BD9-D5AC0250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F50-524B-42F9-960F-7FC13AC0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C614-9071-4582-937E-12C389B7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54C-A55F-475B-9E0D-347F9445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B576-087A-456B-9A19-DEA1CB00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3A74-A7B7-4385-8935-F6E00B05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C514-57CB-42C1-BEF8-71D2ED47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4EA5-7018-4F48-A852-9AA2F90290F3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2F21-642E-4869-91F7-B7606B91808A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走一步，再走一步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cc"/>
                </a:solidFill>
                <a:latin typeface="Times New Roman"/>
                <a:ea typeface="华文行楷"/>
              </a:rPr>
              <a:t>莫顿</a:t>
            </a:r>
            <a:r>
              <a:rPr b="0" lang="zh-CN" sz="6000" spc="-1" strike="noStrike">
                <a:solidFill>
                  <a:srgbClr val="ffffcc"/>
                </a:solidFill>
                <a:latin typeface="Times New Roman"/>
                <a:ea typeface="华文行楷"/>
              </a:rPr>
              <a:t>·</a:t>
            </a:r>
            <a:r>
              <a:rPr b="0" lang="zh-CN" sz="6000" spc="-1" strike="noStrike">
                <a:solidFill>
                  <a:srgbClr val="ffffcc"/>
                </a:solidFill>
                <a:latin typeface="Times New Roman"/>
                <a:ea typeface="华文行楷"/>
              </a:rPr>
              <a:t>亨特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导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imes New Roman"/>
              </a:rPr>
              <a:t>谈一下自己曾经有过的冒险经历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imes New Roman"/>
              </a:rPr>
              <a:t>在这次冒险中你害怕了吗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imes New Roman"/>
              </a:rPr>
              <a:t>你最终是如何脱险的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imes New Roman"/>
              </a:rPr>
              <a:t>在这次经历中你得到了什么？学会了什么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朗读课文，体味心情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大声朗读课文，体会一下“我”在文中流动的是怎样的情绪？并找出自己不明白的字与词，把它们归纳出来 ，我们集体解决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莫顿的冒险历程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莫顿是如何涉险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莫顿如何脱险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莫顿从这次冒险中得到了什么？（用文中的话回答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犹豫不定（原因</a:t>
            </a:r>
            <a:br>
              <a:rPr sz="2800"/>
            </a:b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）→杰利鼓励→跟随攀爬→被困石架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父友赶到→父亲鼓励（语言）→走一步（具体）→再走一步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不要想着远在下面的……我所要到的地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开动脑筋，亲身体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如果你现在是莫顿的同学，而他的父亲又没来，你会怎么做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假如你是莫顿，你现在是孤身一人在悬崖上，你又会怎样呢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练口才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如果你要把这个故事讲给你的父母或者是爷爷奶奶，你会怎么讲？结论你会怎么下？这个结论也就是你从这篇文章中所领悟到的东西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感悟全篇，交流所得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　　人生如同攀登，会遇到各种不同的意想不到的艰难险阻，我们能不能把大山踩在脚下，能不能战胜他，关键看我们的毅力和方法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　　我们要坚信只要我们有勇气，有聪明的方法，我们就一定会成功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　　我祝愿大家都可以攀上我们梦想中的顶峰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35000" y="2116080"/>
            <a:ext cx="4371840" cy="192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谢谢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PE02043_" descr=""/>
          <p:cNvPicPr/>
          <p:nvPr/>
        </p:nvPicPr>
        <p:blipFill>
          <a:blip r:embed="rId1"/>
          <a:stretch/>
        </p:blipFill>
        <p:spPr>
          <a:xfrm>
            <a:off x="3384720" y="1693800"/>
            <a:ext cx="2374560" cy="3468600"/>
          </a:xfrm>
          <a:prstGeom prst="rect">
            <a:avLst/>
          </a:prstGeom>
          <a:ln w="0">
            <a:noFill/>
          </a:ln>
        </p:spPr>
      </p:pic>
      <p:pic>
        <p:nvPicPr>
          <p:cNvPr id="146" name="SO01871_" descr=""/>
          <p:cNvPicPr/>
          <p:nvPr/>
        </p:nvPicPr>
        <p:blipFill>
          <a:blip r:embed="rId2"/>
          <a:stretch/>
        </p:blipFill>
        <p:spPr>
          <a:xfrm>
            <a:off x="4659480" y="2529000"/>
            <a:ext cx="43718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1T08:21:31Z</dcterms:created>
  <dc:creator>wutao</dc:creator>
  <dc:description/>
  <dc:language>en-US</dc:language>
  <cp:lastModifiedBy>zj</cp:lastModifiedBy>
  <dcterms:modified xsi:type="dcterms:W3CDTF">2004-07-14T07:17:10Z</dcterms:modified>
  <cp:revision>100</cp:revision>
  <dc:subject/>
  <dc:title>走一步，再走一步</dc:title>
</cp:coreProperties>
</file>