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BE49-E351-4B2E-9912-3BC566505A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无论怎样的危险和困难，只要把它分解开来，分解为一小步一小步，困难就不大了。“你只要想着你是在走一小步”，“走了这一步再走下一步”，一步一步走下去，有天大的困难也可以闯过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 关键是化整为零。大困难是由小困难组成的，小困难是不难战胜的，一步一步战胜了小困难，最后就战胜了巨大的困难。当然，重要的还在于走好每一步，一步一步坚持不懈的走下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这种人生经验，给人以战胜一切艰难险阻的信心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264-6D01-43AD-BB6B-724E0E12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2A9-E2C1-4A36-A24B-7C1CCCC8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970-AE16-4867-9488-D5ABFA12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6C0-68B3-452D-8892-B78971DE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F150-6D37-483D-B709-661DC354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643C-A859-4895-8AA0-C24CF33A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3489-F15A-4563-AF93-F2064587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7D8A-B103-4527-97B9-6D601170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5EC2-BAED-435C-9200-5E9A5BD0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89B3-A994-4001-A74B-42C90621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0A08-7E4B-4B50-8FB3-560A09F5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A8F-9AD1-4233-BFF7-E540A5B2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A3EC-F4DE-40CA-80FF-2D8C7808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2B4A-06F6-4EC8-BB2E-ECD1DDB0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36FB-5EBD-4E41-A23E-47FAA756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6686-F430-4F91-93CC-8AA0EF6B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043B-4A59-48BE-8E24-BA649325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8ED-409E-4B33-BA4E-49E563FF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831-93B7-4353-9DBB-0D188037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66C-6143-4A90-A53B-3429C1A6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89B-0608-4A35-8FAA-AE106279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E42-6243-41C3-A666-1A6EBA4C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ED7-BF64-4055-B4D4-66603AAB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6B6-41F2-4E4E-B17E-09CF8DDD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00E9-8B8B-45A0-B930-F262CA0FE3B7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CC6B-0F02-45C3-A358-BB331E387B62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sc0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99072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走一步，再走一步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80060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莫顿</a:t>
            </a: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·  </a:t>
            </a: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亨特  </a:t>
            </a: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(</a:t>
            </a: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美国</a:t>
            </a:r>
            <a:r>
              <a:rPr b="0" lang="zh-CN" sz="4000" spc="-1" strike="noStrike">
                <a:solidFill>
                  <a:srgbClr val="eec85e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32000" y="981000"/>
            <a:ext cx="69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⑵ </a:t>
            </a: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确立角度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2349360"/>
            <a:ext cx="7345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父亲的做法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杰利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四个孩子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907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⑶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探究问题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170028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石架大约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米高，扛梯子把孩子抱下来要保险得多，也简单得多，父亲为什么不这样做？他的做法有什么普遍意义？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71640" y="191628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评论四个孩子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假如“我”的父亲没有来，你作为“我”的同学，将怎么办？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5084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假如你是“我”，孤身一人在悬崖上，将怎么办？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404640"/>
            <a:ext cx="72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哪些地方写了杰利，请一一加以评论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62064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、 语言运用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1557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请利用下列格式，在横线上补出词语，表达自己想说的一个意思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3284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宋体"/>
              </a:rPr>
              <a:t>⑴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时隔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年，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436572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宋体"/>
              </a:rPr>
              <a:t>⑵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我一直牢记着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叫我不        要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     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的训诫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40464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宋体"/>
              </a:rPr>
              <a:t>⑶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向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攀爬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1556280"/>
            <a:ext cx="83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宋体"/>
              </a:rPr>
              <a:t>⑷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有人啜泣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56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宋体"/>
              </a:rPr>
              <a:t>⑸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正纳罕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78936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宋体"/>
              </a:rPr>
              <a:t>⑹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暮色开始四合，</a:t>
            </a:r>
            <a:r>
              <a:rPr b="0" lang="zh-CN" sz="4400" spc="-1" strike="noStrike">
                <a:solidFill>
                  <a:srgbClr val="eaeaea"/>
                </a:solidFill>
                <a:latin typeface="Arial"/>
              </a:rPr>
              <a:t>__________</a:t>
            </a:r>
            <a:r>
              <a:rPr b="0" lang="zh-CN" sz="4400" spc="-1" strike="noStrike">
                <a:solidFill>
                  <a:srgbClr val="eaeaea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5013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宋体"/>
              </a:rPr>
              <a:t>⑺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全身麻木，不能动弹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570240"/>
            <a:ext cx="77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⑼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带着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的口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气说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20500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⑽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我小心翼翼地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335772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⑾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我的信心大增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436572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Arial"/>
              </a:rPr>
              <a:t>⑿</a:t>
            </a:r>
            <a:r>
              <a:rPr b="1" lang="zh-CN" sz="4400" spc="-1" strike="noStrike" u="sng">
                <a:solidFill>
                  <a:srgbClr val="eaeaea"/>
                </a:solidFill>
                <a:uFillTx/>
                <a:latin typeface="Arial"/>
              </a:rPr>
              <a:t>                              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产生了一种巨大的成就感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907920"/>
            <a:ext cx="7490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eaeaea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练笔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生活中难免遇到困难。你遇到过什么困难？是如何克服的？有什么经验教训？写一个片段或一篇短文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请同学们布置专栏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c028" descr=""/>
          <p:cNvPicPr/>
          <p:nvPr/>
        </p:nvPicPr>
        <p:blipFill>
          <a:blip r:embed="rId1"/>
          <a:stretch/>
        </p:blipFill>
        <p:spPr>
          <a:xfrm>
            <a:off x="0" y="-123840"/>
            <a:ext cx="9144000" cy="7105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16360" y="2565360"/>
            <a:ext cx="51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eaea"/>
                </a:solidFill>
                <a:latin typeface="Arial"/>
                <a:ea typeface="华文新魏"/>
              </a:rPr>
              <a:t>第一课时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26920" y="404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一、  复述训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125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、 默读课文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默读是复述的基础。默读要注意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速度，从每分钟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300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字提高到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500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字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，本文大约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1500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字，要求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分半钟看完。默读后要复述故事情节，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Arial"/>
              </a:rPr>
              <a:t>复述的难点是时间、地点、人物、数字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，默读时要注意看清楚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71640" y="76500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、抢答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413000"/>
            <a:ext cx="71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★</a:t>
            </a:r>
            <a:r>
              <a:rPr b="1" lang="zh-CN" sz="4000" spc="-1" strike="noStrike">
                <a:solidFill>
                  <a:srgbClr val="eaeaea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故事发生在美国的哪个城市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3400" y="2565360"/>
            <a:ext cx="74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Verdana"/>
              </a:rPr>
              <a:t>★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故事发生在什么时间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3429000"/>
            <a:ext cx="78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Verdana"/>
              </a:rPr>
              <a:t>★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爬悬崖的一共几个孩子？有名字的有哪两个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9000" y="486900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★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那座悬崖有多高？岩石架有多高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71640" y="1125360"/>
            <a:ext cx="756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、 复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要用普通话正确、流利、有感情的复述课文的故事情节，特别注意交代清楚时间、地点、人物和数字。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1052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二、课文主旨研讨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23450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课文写的是“我”童年时一次“脱险”的经历，其中蕴含着怎样的生活哲理？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sc0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00360" y="2565360"/>
            <a:ext cx="47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eaea"/>
                </a:solidFill>
                <a:latin typeface="Arial"/>
                <a:ea typeface="华文新魏"/>
              </a:rPr>
              <a:t>第二课时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1341360"/>
            <a:ext cx="720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、朗读训练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要求：用普通话正确、流利、有感情的朗读，注意发音、停顿、重音、语调、速度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26920" y="2602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、多角度阅读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12536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⑴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学法指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多角度阅读，首先要确立角度，关键也在于确立角度。怎样确立角度？可以着眼于一个人物，也可以着眼于某一情节，提出问题，思考问题。例如：评论杰利什么地方做得对，什么地方做得不好，就是一个角度。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7T05:03:56Z</dcterms:created>
  <dc:creator>wutao</dc:creator>
  <dc:description/>
  <dc:language>en-US</dc:language>
  <cp:lastModifiedBy>zj</cp:lastModifiedBy>
  <dcterms:modified xsi:type="dcterms:W3CDTF">2004-07-14T07:03:37Z</dcterms:modified>
  <cp:revision>100</cp:revision>
  <dc:subject/>
  <dc:title>幻灯片 1</dc:title>
</cp:coreProperties>
</file>