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gif" ContentType="image/gif"/>
  <Override PartName="/ppt/media/image4.gif" ContentType="image/gif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DDB-0DDB-43D8-A9DB-E0F33EAA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689-6CD9-49B5-9FD2-9C5C2FC4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9A2-8170-49FC-BA6F-11FAB9A2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92F-5804-46A3-913E-3F0224C7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31D5-01CB-48FF-9C76-A8C19DDD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A5A5-0196-4473-A82F-6031A0DC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23E8-5E8C-4455-81DB-1F8A9649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6D9E-F7B5-4029-87FA-DF73A5A1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7DCC-963C-4527-988C-11D13C39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AB3C-5475-4BB8-9ADA-2EC388E1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68C3-8F4E-4C1C-877B-01ABAED5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309-FB13-4A2B-81A1-4407F356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FE0A-D4BC-4CDC-86A3-0C8EC48B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F2ED-8B0A-4D8A-9D36-38A194B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0059-F71D-4E88-985A-027E8124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3CD5-6B68-47CF-9130-0BDE3AEA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8524-90EB-47EA-866E-D3DBEC11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C7C-960F-45EE-B5BE-1B1536A5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3B7-2F9D-4A64-BB3F-439D525F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BB7-E863-4D18-A131-326EAEF3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AEE-3986-4FBA-90F6-62C9B4B1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45F-D385-49F0-9297-2E6BA26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BC4-140A-44CC-9A84-B8BA854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A37-8833-4F76-84D8-F8FCA2ED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63B1-8C77-4B2B-AD93-8B9708631A33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EE04-0827-4D5D-8A4D-B29840553F01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35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36880" y="53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80808"/>
                </a:solidFill>
                <a:uFillTx/>
                <a:latin typeface="Arial"/>
              </a:rPr>
              <a:t>初中语文第一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66680" y="2286000"/>
            <a:ext cx="70326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走一步，再走一步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486400" y="34290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莫顿．亨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8380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0" y="541008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89548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下悬崖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1197000"/>
            <a:ext cx="503280" cy="3960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00960" y="843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毫无信心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00960" y="2787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萌发信心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00960" y="470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信心大增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1219320"/>
            <a:ext cx="86544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2209680"/>
            <a:ext cx="86364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5320" y="190512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走 一 步（详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276720"/>
            <a:ext cx="86508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71640" y="4267080"/>
            <a:ext cx="863640" cy="8654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70600" y="3809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再走一步（略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课文选材详略安排对照表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828800"/>
          <a:ext cx="8001000" cy="4398840"/>
        </p:xfrm>
        <a:graphic>
          <a:graphicData uri="http://schemas.openxmlformats.org/drawingml/2006/table">
            <a:tbl>
              <a:tblPr/>
              <a:tblGrid>
                <a:gridCol w="1739880"/>
                <a:gridCol w="1384200"/>
                <a:gridCol w="1219320"/>
                <a:gridCol w="1143000"/>
                <a:gridCol w="1219320"/>
                <a:gridCol w="1295280"/>
              </a:tblGrid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我的动作和心理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其它孩子的动作和心理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杰利回家喊父亲的情景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回家后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父母的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责骂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写悬崖的陡峭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详略安排情况</a:t>
                      </a:r>
                      <a:endParaRPr b="0" lang="en-US" sz="3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为什么要这样安排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>
                      <a:noFill/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243828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3809880"/>
            <a:ext cx="6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略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不写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07480" y="3809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不写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51055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4800600"/>
            <a:ext cx="5181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这是由中心所决定的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71160" y="3809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稍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5335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Arial"/>
                <a:ea typeface="华文彩云"/>
              </a:rPr>
              <a:t>思考、讨论、回答：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364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24280" y="5791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524720" y="5029200"/>
            <a:ext cx="131436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2205000"/>
            <a:ext cx="6624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你最喜欢文中的哪个人物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为什么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你最不喜欢文中的哪个人物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为什么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假如“我”的父亲急忙赶到悬崖下面，一面安慰“我”，一面急忙爬上石架，把“我”扶下来，这种做法和文中父亲的做法你更喜欢哪一种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为什么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你在生活中曾经遇到过什么困难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当时你是怎么对待的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结果如何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如果现在碰到这种情况，你会怎么办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1447920"/>
            <a:ext cx="662940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写作特色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合理选材，详略分明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以小见大，以事寓理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47080" y="548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553080" y="4653000"/>
            <a:ext cx="16542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62320" y="12193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以小见大，以事寓理”式的结尾示例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信赖，往往能创造美好的境界。（冯骥才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最平常的才是最重要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只要冷静沉着地对待每一件事，任何困难都会迎刃而解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54864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2578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629400" y="4957920"/>
            <a:ext cx="165420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335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华文彩云"/>
              </a:rPr>
              <a:t>居里夫人说过，“生活对于任何人都非易事”。进入初中，这是人生路上的一个新的起点。要在新的起点上，追求美好的理想，就要面对无数困难。怎样面对无数困难，将是我们初中学习生活中，也是人生道路上的实际问题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762120"/>
            <a:ext cx="8534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彩云"/>
                <a:ea typeface="华文彩云"/>
              </a:rPr>
              <a:t>希望在今后的人生道路上，把握住学习生活中的主旋律，走好每一步，一步一步坚持不懈地走下去。希望“山的那边”永远召唤着你，“走一步，再走一步”，伴你到达理想的彼岸。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54936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80808"/>
                </a:solidFill>
                <a:uFillTx/>
                <a:latin typeface="Arial"/>
                <a:ea typeface="华文彩云"/>
              </a:rPr>
              <a:t>研究</a:t>
            </a:r>
            <a:r>
              <a:rPr b="1" lang="zh-CN" sz="6000" spc="-1" strike="noStrike" u="sng">
                <a:solidFill>
                  <a:srgbClr val="ff0066"/>
                </a:solidFill>
                <a:uFillTx/>
                <a:latin typeface="Arial"/>
                <a:ea typeface="华文彩云"/>
              </a:rPr>
              <a:t>和</a:t>
            </a:r>
            <a:r>
              <a:rPr b="1" lang="zh-CN" sz="6000" spc="-1" strike="noStrike" u="sng">
                <a:solidFill>
                  <a:srgbClr val="080808"/>
                </a:solidFill>
                <a:uFillTx/>
                <a:latin typeface="Arial"/>
                <a:ea typeface="华文彩云"/>
              </a:rPr>
              <a:t>创造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1981080"/>
            <a:ext cx="82296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路在自己的脚下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读《走 一 步，再走 一 步》有感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小见大，以事寓理”之我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12000" y="4292640"/>
            <a:ext cx="23619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8288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0574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1773360"/>
            <a:ext cx="434340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0033"/>
                </a:solidFill>
                <a:latin typeface="华文彩云"/>
                <a:ea typeface="华文彩云"/>
              </a:rPr>
              <a:t> </a:t>
            </a:r>
            <a:r>
              <a:rPr b="1" lang="zh-CN" sz="9600" spc="-1" strike="noStrike">
                <a:solidFill>
                  <a:srgbClr val="660033"/>
                </a:solidFill>
                <a:latin typeface="华文彩云"/>
                <a:ea typeface="华文彩云"/>
              </a:rPr>
              <a:t>再　见</a:t>
            </a:r>
            <a:r>
              <a:rPr b="1" lang="zh-CN" sz="8800" spc="-1" strike="noStrike">
                <a:solidFill>
                  <a:srgbClr val="660033"/>
                </a:solidFill>
                <a:latin typeface="华文隶书"/>
                <a:ea typeface="华文隶书"/>
              </a:rPr>
              <a:t>!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读一读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,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想一想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,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说一说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,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写一写</a:t>
            </a:r>
            <a:r>
              <a:rPr b="1" lang="zh-CN" sz="4400" spc="-1" strike="noStrike">
                <a:solidFill>
                  <a:srgbClr val="0039ac"/>
                </a:solidFill>
                <a:latin typeface="GungsuhChe"/>
                <a:ea typeface="GungsuhChe"/>
              </a:rPr>
              <a:t>: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6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训诫         耸立         峭壁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嶙峋         啜泣         纳罕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迂回          凝视             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头晕目眩        心惊肉跳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08720" y="3789360"/>
            <a:ext cx="15987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441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读一读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想一想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课文主要记叙了什么事情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(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可以概括回答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这件事情发生在什么时候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什么地方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发生的原因是什么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爬悬崖的有几个孩子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悬崖有多高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岩石架有多高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“我”为什么“一时拿不定主意”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后来又为什么跟着伙伴们去爬山了呢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“我”在爬山途中都遇到了哪些困难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当时“我”是怎么想的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．后来“我”又是怎样脱险的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脱险以后“我”有什么感觉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主要内容：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文章记叙了“我”童年时和小伙伴攀登悬崖时在半途中陷入困境，最后在父亲的指点下爬下悬崖、化险为夷的经过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398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复述要求：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①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跳读课文，抓住以上讨论要点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②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重点细节，尤其是脱险部分，尽量用课文原句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③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口齿清楚，能正确表达感情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614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9ac"/>
                </a:solidFill>
                <a:latin typeface="Arial"/>
              </a:rPr>
              <a:t>说一说</a:t>
            </a:r>
            <a:r>
              <a:rPr b="1" lang="zh-CN" sz="8000" spc="-1" strike="noStrike">
                <a:solidFill>
                  <a:srgbClr val="0039ac"/>
                </a:solidFill>
                <a:latin typeface="Arial"/>
              </a:rPr>
              <a:t>:</a:t>
            </a:r>
            <a:endParaRPr b="0" lang="en-US" sz="8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2358720"/>
            <a:ext cx="794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</a:rPr>
              <a:t>读了这个故事，你有什么感想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35640" y="3716280"/>
            <a:ext cx="223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7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人生哲理</a:t>
            </a:r>
            <a:r>
              <a:rPr b="1" lang="zh-CN" sz="5400" spc="-1" strike="noStrike">
                <a:solidFill>
                  <a:srgbClr val="0039ac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336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在人生的路上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不管面对怎样的艰难险阻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只要把大困难分解成小困难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一个一个地认真地解决小困难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终将战胜巨大的困难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赢得最后的胜利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9ac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  <a:ea typeface="华文彩云"/>
              </a:rPr>
              <a:t>    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华文彩云"/>
              </a:rPr>
              <a:t>合作   探究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12536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找出这部分开头的自然环境描写，想想有什么作用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父亲为什么指挥“我”先迈出左脚的一小步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这对你有什么启示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“你能办得到的。”“这似乎能办得到。”“我能办得到的。”朗读这三句话时应把重音放在哪个字上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三句话的语气有什么不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后两句写出了我的什么变化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我在父亲的指导下仅仅是爬下了几米高的石架，为什么还说“我产生了巨大的成就感”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．结合文章最后一段，说说你对题目“走一步，再走一步”的理解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6858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Arial"/>
                <a:ea typeface="华文彩云"/>
              </a:rPr>
              <a:t>  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  <a:ea typeface="华文彩云"/>
              </a:rPr>
              <a:t>思考并回答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844640"/>
            <a:ext cx="914400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、请找出反映“我”心理变化的句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子，并说说作者这样写真实可信吗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、课文是如何来写“走一步”的，又是如何来写“再走一步”的？你认为这样安排详略有何好处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1:30:31Z</dcterms:created>
  <dc:creator>wutao</dc:creator>
  <dc:description/>
  <dc:language>en-US</dc:language>
  <cp:lastModifiedBy>a</cp:lastModifiedBy>
  <dcterms:modified xsi:type="dcterms:W3CDTF">2004-12-16T00:55:51Z</dcterms:modified>
  <cp:revision>100</cp:revision>
  <dc:subject/>
  <dc:title>幻灯片 1</dc:title>
</cp:coreProperties>
</file>