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wmf" ContentType="image/x-wmf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030-AC04-4193-9679-001CA97D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783-7B25-4672-9403-0E2CE94A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ACB-ACE1-4538-AB45-0A72BDA2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086-D340-4C72-AD24-9D2AC9C5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6491-0937-44CD-930C-2BFA3C0E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6D7D-C4EB-4CC1-8415-7017FE06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F319-E5C5-4CDD-AE57-D1821F98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8D09-4EF4-4112-9D1C-7B02BED9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A588-03D7-4D0E-9F5B-C894DC95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5224-476F-471F-8B7B-253BC828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0B53-5919-4F19-A08A-550B1BB6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3E1-9A04-4335-8CD3-262B49CF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0780-E201-483A-99FB-9C777F4D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FDDD-BA8B-425C-A8F4-50F1822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4826-5AC6-4AF6-9943-C3A6FA19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DB8B-0A07-4EF1-89FA-2728479A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4AB4-C11C-4E39-859F-D96EFB9F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7D3-DEB2-426C-BB21-330BF224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7CB-721C-47E8-ADF4-D9C98F8A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FED-0666-4E6A-B491-A591CA2F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528-F922-4BBF-BDCC-940CED48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35E-4919-441E-9C86-972F3CA7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729-E5E1-43E4-8D27-074DA3A4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502-81AB-4DFA-9742-C050DF6C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6746-7CB3-45B5-A402-98CE373883D2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45E6-F375-4A09-95F4-7D6BF35A8F42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35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6880" y="53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80808"/>
                </a:solidFill>
                <a:uFillTx/>
                <a:latin typeface="Arial"/>
              </a:rPr>
              <a:t>初中语文第一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2565360"/>
            <a:ext cx="705636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走一步，再走一步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38680" y="44956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莫顿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·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亨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5280" y="1484280"/>
            <a:ext cx="8424720" cy="4540680"/>
          </a:xfrm>
          <a:prstGeom prst="rect">
            <a:avLst/>
          </a:prstGeom>
          <a:solidFill>
            <a:srgbClr val="ffff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79880" y="549360"/>
            <a:ext cx="2779200" cy="703440"/>
          </a:xfrm>
          <a:prstGeom prst="rect">
            <a:avLst/>
          </a:prstGeom>
          <a:solidFill>
            <a:srgbClr val="ffcc66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隶书"/>
              </a:rPr>
              <a:t>讨               论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22400" y="1479600"/>
            <a:ext cx="420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找出课文中描写“我”爬下悬崖时的语句和“我”走第一步时的动词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这几个动词突出了“我”的什么心理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55240" y="2827440"/>
            <a:ext cx="372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课文什么地方写“我”再走一步？“走一步”和“再走一步”在写法上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有什么不同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5800" y="2251080"/>
            <a:ext cx="41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父亲指点“我”爬下悬崖时，“我”的心理有什么变化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01920" y="3711600"/>
            <a:ext cx="479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父亲是怎么知道“我”陷入困境的？课文中几次写到杰利？是详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还是略写？能否略去不写杰利？为什么？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76000" y="4556160"/>
            <a:ext cx="488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5.“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啜泣”是什么意思？课文中几次写到“啜泣”？含义有什么不同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32080" y="5132520"/>
            <a:ext cx="471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6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爬悬崖这件事给了“我”什么启示？（“我”永远忘不了的经验指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的是什么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?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5950080"/>
            <a:ext cx="842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72240" y="2898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爬悬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1197000"/>
            <a:ext cx="503280" cy="3960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3536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毫无信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35360" y="2997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萌发信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35360" y="491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信心大增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341360"/>
            <a:ext cx="86508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50920" y="2421000"/>
            <a:ext cx="86364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7280" y="210816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走 一 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3357720"/>
            <a:ext cx="865080" cy="863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780000" y="4292640"/>
            <a:ext cx="863280" cy="865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03920" y="39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再走一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36600" y="21081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详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07880" y="3979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略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79720" y="3332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（记事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1720" y="5641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启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08080" y="621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（说理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02080" y="614520"/>
            <a:ext cx="729360" cy="459720"/>
          </a:xfrm>
          <a:prstGeom prst="rect">
            <a:avLst/>
          </a:prstGeom>
          <a:solidFill>
            <a:srgbClr val="ffcc66"/>
          </a:solidFill>
          <a:ln w="324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启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95480" y="134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72600" y="1484280"/>
            <a:ext cx="576720" cy="398880"/>
          </a:xfrm>
          <a:prstGeom prst="rect">
            <a:avLst/>
          </a:prstGeom>
          <a:solidFill>
            <a:srgbClr val="cc3300"/>
          </a:solidFill>
          <a:ln w="324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面对困难，不畏惧害怕，要冷静分析，循序渐进，克服困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72600" y="2276640"/>
            <a:ext cx="576720" cy="703800"/>
          </a:xfrm>
          <a:prstGeom prst="rect">
            <a:avLst/>
          </a:prstGeom>
          <a:solidFill>
            <a:srgbClr val="cc3300"/>
          </a:solidFill>
          <a:ln w="324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千里之行，始于足下。实现远大理想，要从小事做起，小进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会积累成大成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28480" y="4581360"/>
            <a:ext cx="649800" cy="398880"/>
          </a:xfrm>
          <a:prstGeom prst="rect">
            <a:avLst/>
          </a:prstGeom>
          <a:solidFill>
            <a:srgbClr val="cc3300"/>
          </a:solidFill>
          <a:ln w="324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详略得当、以事寓理、以小见大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27360" y="3500280"/>
            <a:ext cx="1095120" cy="459720"/>
          </a:xfrm>
          <a:prstGeom prst="rect">
            <a:avLst/>
          </a:prstGeom>
          <a:solidFill>
            <a:srgbClr val="ffcc66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写作特点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549360"/>
            <a:ext cx="187308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反馈练习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15920" y="1622520"/>
            <a:ext cx="589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课文主要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[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写“我”（                              ）的过程，写我爬下悬崖走第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一步时的动词是（                  ），这几个动词突出了我的（             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的心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18000" y="1628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跟小伙伴们爬悬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41240" y="1916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伸、探、踩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59720" y="1916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小心翼翼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30360" y="3116160"/>
            <a:ext cx="488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文中两次写到“啜泣”，含义不同。第一次是（                        ），第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二次是（                                                              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54840" y="31417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恐惧、伤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37880" y="342900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惊喜、委屈、感动、余悸、成就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82440" y="4437000"/>
            <a:ext cx="591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在征服悬崖的过程中作者详细地写出了“我”的心理变化：最初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             ）、继而是（                 ），随后是（                  ）最后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觉得自己有一种巨大的（           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24080" y="4797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亳无信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1644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萌发信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044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信心大增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4960" y="5013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成就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1880" y="5851440"/>
            <a:ext cx="24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我永远忘不了的经验指的是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4440" y="5851440"/>
            <a:ext cx="200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要着眼于最初的小小一步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走了这一步后再走下一步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直到抵达我要到的地方为止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411280" y="620640"/>
            <a:ext cx="4191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教 学 目 标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844640"/>
            <a:ext cx="5977080" cy="720720"/>
          </a:xfrm>
          <a:prstGeom prst="rect">
            <a:avLst/>
          </a:prstGeom>
          <a:solidFill>
            <a:srgbClr val="ffff99"/>
          </a:solidFill>
          <a:ln w="3240">
            <a:solidFill>
              <a:srgbClr val="080808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2924280"/>
            <a:ext cx="59770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4076640"/>
            <a:ext cx="59770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5229360"/>
            <a:ext cx="59770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04800" y="2060640"/>
            <a:ext cx="43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掌 握 重 点 词 语 “ 啜 泣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小 心 翼 翼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伸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探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踩”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50400" y="314172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精读课文第三部分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把握“我”爬悬崖时的心理变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292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了解学习详略得当、以小见大、以事寓理的写作方法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44560" y="551664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培养学生树立自信、克服困难、取得成功的心理素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7956720" y="6381720"/>
            <a:ext cx="718920" cy="366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14480" cy="108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03280" y="1989000"/>
            <a:ext cx="216000" cy="936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1700280"/>
            <a:ext cx="576000" cy="3960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3573360"/>
            <a:ext cx="2303280" cy="216000"/>
          </a:xfrm>
          <a:prstGeom prst="rightArrow">
            <a:avLst>
              <a:gd name="adj1" fmla="val 50000"/>
              <a:gd name="adj2" fmla="val 266583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23600" y="1379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重点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23600" y="5340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难点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71640" y="2852640"/>
            <a:ext cx="1403280" cy="2303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80000" y="1989000"/>
            <a:ext cx="35640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理解“我”爬悬崖时的心理变化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5877000"/>
            <a:ext cx="35640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学习写作方法，培养心理  素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6121440" cy="4567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903080" y="1268280"/>
            <a:ext cx="485280" cy="1708200"/>
          </a:xfrm>
          <a:prstGeom prst="rect">
            <a:avLst/>
          </a:prstGeom>
          <a:solidFill>
            <a:srgbClr val="ffff99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青            松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74840" y="879840"/>
            <a:ext cx="454680" cy="2599920"/>
          </a:xfrm>
          <a:prstGeom prst="rect">
            <a:avLst/>
          </a:prstGeom>
          <a:solidFill>
            <a:srgbClr val="c0c0c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大    雪    压    青    松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6320" y="879840"/>
            <a:ext cx="454680" cy="2599920"/>
          </a:xfrm>
          <a:prstGeom prst="rect">
            <a:avLst/>
          </a:prstGeom>
          <a:solidFill>
            <a:srgbClr val="c0c0c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青    松    挺    且    直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8320" y="881280"/>
            <a:ext cx="454680" cy="2599920"/>
          </a:xfrm>
          <a:prstGeom prst="rect">
            <a:avLst/>
          </a:prstGeom>
          <a:solidFill>
            <a:srgbClr val="c0c0c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要    知    松    高    洁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91960" y="883800"/>
            <a:ext cx="454680" cy="2599920"/>
          </a:xfrm>
          <a:prstGeom prst="rect">
            <a:avLst/>
          </a:prstGeom>
          <a:solidFill>
            <a:srgbClr val="c0c0c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待    到    雪    化    时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64360" y="3068640"/>
            <a:ext cx="360360" cy="865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80808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陈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毅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46800" y="1052640"/>
            <a:ext cx="7285680" cy="5031720"/>
          </a:xfrm>
          <a:prstGeom prst="rect">
            <a:avLst/>
          </a:prstGeom>
          <a:solidFill>
            <a:srgbClr val="99cc0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612720" y="907920"/>
            <a:ext cx="10009080" cy="181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066680" y="19051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雪纷飞，冰天雪地，青松不畏严寒，生机勃勃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傲然挺立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青少年要学习青松坚强不屈的精神，遇到困难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要树立信心，去克服困难取得成功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35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2565360"/>
            <a:ext cx="705636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走一步，再走一步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32240" y="419040"/>
            <a:ext cx="3167640" cy="947160"/>
          </a:xfrm>
          <a:prstGeom prst="rect">
            <a:avLst/>
          </a:prstGeom>
          <a:solidFill>
            <a:srgbClr val="c0c0c0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听课文录音思考完成下列问题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4920" y="2060640"/>
            <a:ext cx="2939040" cy="2837160"/>
          </a:xfrm>
          <a:prstGeom prst="rect">
            <a:avLst/>
          </a:prstGeom>
          <a:solidFill>
            <a:srgbClr val="ffcc66"/>
          </a:solidFill>
          <a:ln w="3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课文写了一件什么事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标明每个自然段的序号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用波浪线划出课文中写“我”的心理活动的语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4.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课文哪一段写悬崖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1:30:31Z</dcterms:created>
  <dc:creator>wutao</dc:creator>
  <dc:description/>
  <dc:language>en-US</dc:language>
  <cp:lastModifiedBy>a</cp:lastModifiedBy>
  <dcterms:modified xsi:type="dcterms:W3CDTF">2004-12-16T00:59:35Z</dcterms:modified>
  <cp:revision>100</cp:revision>
  <dc:subject/>
  <dc:title>幻灯片 1</dc:title>
</cp:coreProperties>
</file>