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55E-B84B-44D2-852B-7C2EC541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CD2-608B-4A20-B2EB-8B240CD7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C22-CDAA-4310-9445-F02AF2CA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B48-36D3-43CF-A28F-043FE463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32F-8892-459F-8CD7-94D2CAA5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C8E-1E8A-4F78-A86C-1D31484F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378-F22B-4B20-AAB5-A6515E09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89F-2652-467C-AA80-DDE58D4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962-AD7C-4529-B222-34471EF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02F-5916-4B23-AFC4-E87ABB6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B09-E4BD-40A8-AEF0-E3D672F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B7C-805B-45E2-9F38-B1092D2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F371-DC8A-44BF-9B8F-164951674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1371600" y="1828800"/>
            <a:ext cx="9144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走一步，</a:t>
            </a:r>
            <a:endParaRPr b="1" lang="en-US" sz="9600" spc="1" strike="noStrike">
              <a:ln w="349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     </a:t>
            </a:r>
            <a:r>
              <a:rPr b="1" lang="zh-CN" sz="96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再走一步</a:t>
            </a:r>
            <a:endParaRPr b="1" lang="en-US" sz="9600" spc="1" strike="noStrike">
              <a:ln w="349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       chuò         n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       chuò         nà            h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抽噎，抽抽搭搭地哭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抽噎，抽抽搭搭地哭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惊奇，诧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训诫：告诫，教导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嶙峋：形容人瘦削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啜泣：抽噎，抽抽搭搭地哭。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纳罕：惊奇，诧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宋体,Verdana, Arial"/>
              </a:rPr>
              <a:t>小心翼翼：谨慎小心，丝毫不敢疏忽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 朗读课文，复述故事情节，说说你从中悟出了什么生活哲理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 在下边两种情况下，你将分别说些什么，做些什么？说出来与同学交流一下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如“我”的父亲没有来，你作为“我”的同学，将怎么办？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如你是“我”，孤身一人在悬崖上，将怎么办？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△生活中难免遇到困难。你遇到过什么困难？是怎样处理的？  有什么经验教训？写出来，班里出一期专栏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28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研讨与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训诫  耸立  迂回  凝视  啜泣   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罕  瘦骨嶙峋  心惊肉跳</a:t>
            </a:r>
            <a:r>
              <a:rPr b="0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187640"/>
            <a:ext cx="3200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1428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走一步，再走一步》是美国作家莫顿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亨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那年写的回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一次爬悬崖的经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把这一经验推而广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人生的宝贵财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战胜一切艰难的法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上很有咀嚼的余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别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眼于那最初的一小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喻意值得咀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的是困难再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是可以分解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大困难分解成一个个小困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不难克服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以启发我们在生活中要善于感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事要想一想其中包含一个什么道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悟到哲理就有普遍的指导意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成为一笔精神财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于感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东西可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不起眼的题材上也能写出好文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5960" y="10008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前       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752480"/>
            <a:ext cx="46483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志倒下的时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也就不再屹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斜斜的身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怎耐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叶萧瑟  晚来风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4800" y="1828800"/>
            <a:ext cx="2619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下头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是为了让思想扬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若有一个不屈的灵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脚下，就会有一片坚实的土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63868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一读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52560" y="1828800"/>
            <a:ext cx="32896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论走向何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会有无数双眼睛跟随着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别人那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认识了自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38680" y="228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再　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_1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024360" cy="2460600"/>
          </a:xfrm>
          <a:prstGeom prst="rect">
            <a:avLst/>
          </a:prstGeom>
          <a:ln w="0">
            <a:noFill/>
          </a:ln>
        </p:spPr>
      </p:pic>
      <p:pic>
        <p:nvPicPr>
          <p:cNvPr id="87" name="054" descr=""/>
          <p:cNvPicPr/>
          <p:nvPr/>
        </p:nvPicPr>
        <p:blipFill>
          <a:blip r:embed="rId3"/>
          <a:stretch/>
        </p:blipFill>
        <p:spPr>
          <a:xfrm>
            <a:off x="60948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88" name="054" descr=""/>
          <p:cNvPicPr/>
          <p:nvPr/>
        </p:nvPicPr>
        <p:blipFill>
          <a:blip r:embed="rId4"/>
          <a:stretch/>
        </p:blipFill>
        <p:spPr>
          <a:xfrm>
            <a:off x="34290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89" name="054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90" name="054" descr=""/>
          <p:cNvPicPr/>
          <p:nvPr/>
        </p:nvPicPr>
        <p:blipFill>
          <a:blip r:embed="rId6"/>
          <a:stretch/>
        </p:blipFill>
        <p:spPr>
          <a:xfrm>
            <a:off x="61722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054" descr=""/>
          <p:cNvPicPr/>
          <p:nvPr/>
        </p:nvPicPr>
        <p:blipFill>
          <a:blip r:embed="rId7"/>
          <a:stretch/>
        </p:blipFill>
        <p:spPr>
          <a:xfrm>
            <a:off x="4800600" y="5715000"/>
            <a:ext cx="138276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054" descr=""/>
          <p:cNvPicPr/>
          <p:nvPr/>
        </p:nvPicPr>
        <p:blipFill>
          <a:blip r:embed="rId8"/>
          <a:stretch/>
        </p:blipFill>
        <p:spPr>
          <a:xfrm>
            <a:off x="7543800" y="5715000"/>
            <a:ext cx="138276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676520"/>
            <a:ext cx="73915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04880" y="17784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     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676520"/>
            <a:ext cx="73915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ùn           jiè             lín            xú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训      诫      嶙      峋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,Verdana, Arial"/>
              </a:rPr>
              <a:t>          c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眩      啜     纳     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04:19:47Z</dcterms:created>
  <dc:creator>wutao</dc:creator>
  <dc:description/>
  <dc:language>en-US</dc:language>
  <cp:lastModifiedBy>a</cp:lastModifiedBy>
  <dcterms:modified xsi:type="dcterms:W3CDTF">2004-12-16T01:02:00Z</dcterms:modified>
  <cp:revision>100</cp:revision>
  <dc:subject/>
  <dc:title>PowerPoint 演示文稿</dc:title>
</cp:coreProperties>
</file>