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43FD-1E76-43C9-B54D-BD7807C2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BC8-CA04-4A3B-9CD0-CBDFE127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1B4-CAFF-4C32-A635-721A710E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F95-CB65-4231-9F01-B17C33D7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3C8-7216-4846-B569-E88BBF88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ECF-0A3F-49C6-8629-7A6C8F0A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A8F-9892-47A8-A678-1B0FF7BC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380-4304-4804-9927-5338D402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08F-DE9F-44CF-9EF2-39E124DE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FB9D-52E2-4B5E-892B-E4A6B9B6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DB5-9A8E-4612-9941-59FE7F65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992-3BE6-4226-90A7-095F6DAA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D7B4-DEB5-4A81-93A3-E2250680E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瀑" descr="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38080" y="838080"/>
            <a:ext cx="723924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走一步，再走一步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7924680" y="19810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6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6" y="20200"/>
                </a:lnTo>
                <a:lnTo>
                  <a:pt x="47946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6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46" h="21600">
                <a:moveTo>
                  <a:pt x="17667" y="3794"/>
                </a:moveTo>
                <a:lnTo>
                  <a:pt x="31680" y="10800"/>
                </a:lnTo>
                <a:lnTo>
                  <a:pt x="17667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5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75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533520" y="2286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049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主旨探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828800"/>
            <a:ext cx="59436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、从课文内容看，标题“走一步，再                                                          　　走一步”是什么意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、在人生道路上，面对困难，“走一步，再走一步”是什么意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、把一个巨大的困难分成“一步一步”　　是什么意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、为什么不要想着距离有多远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7467480" y="6095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3794"/>
                </a:moveTo>
                <a:lnTo>
                  <a:pt x="30758" y="10800"/>
                </a:lnTo>
                <a:lnTo>
                  <a:pt x="16745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5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75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0" y="4572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多角度阅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676520"/>
            <a:ext cx="86104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、你最喜欢文中的哪个人物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?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为什么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?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你最不喜欢文　中的哪个人物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?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为什么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、父亲还可以怎样救“我”从悬崖上下来？这些做法　和文中父亲的做法相比，你更喜欢哪一种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、假如“我”的父亲没有来，你作为“我”的同学，将　怎么办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4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、假如你是“我”，孤身一人在悬崖上，将怎么办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7238880" y="6095880"/>
            <a:ext cx="1905120" cy="762120"/>
          </a:xfrm>
          <a:custGeom>
            <a:avLst/>
            <a:gdLst>
              <a:gd name="textAreaLeft" fmla="*/ 49320 w 1905120"/>
              <a:gd name="textAreaRight" fmla="*/ 1855800 w 1905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3980" h="21600">
                <a:moveTo>
                  <a:pt x="0" y="0"/>
                </a:moveTo>
                <a:lnTo>
                  <a:pt x="53980" y="0"/>
                </a:lnTo>
                <a:lnTo>
                  <a:pt x="53980" y="21600"/>
                </a:lnTo>
                <a:lnTo>
                  <a:pt x="0" y="21600"/>
                </a:lnTo>
                <a:close/>
              </a:path>
              <a:path fill="lightenLess" w="53980" h="21600">
                <a:moveTo>
                  <a:pt x="0" y="0"/>
                </a:moveTo>
                <a:lnTo>
                  <a:pt x="53980" y="0"/>
                </a:lnTo>
                <a:lnTo>
                  <a:pt x="52580" y="1400"/>
                </a:lnTo>
                <a:lnTo>
                  <a:pt x="1400" y="1400"/>
                </a:lnTo>
                <a:close/>
              </a:path>
              <a:path fill="darken" w="53980" h="21600">
                <a:moveTo>
                  <a:pt x="53980" y="0"/>
                </a:moveTo>
                <a:lnTo>
                  <a:pt x="53980" y="21600"/>
                </a:lnTo>
                <a:lnTo>
                  <a:pt x="52580" y="20200"/>
                </a:lnTo>
                <a:lnTo>
                  <a:pt x="52580" y="1400"/>
                </a:lnTo>
                <a:close/>
              </a:path>
              <a:path fill="darkenLess" w="53980" h="21600">
                <a:moveTo>
                  <a:pt x="53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0" y="20200"/>
                </a:lnTo>
                <a:close/>
              </a:path>
              <a:path fill="lighten" w="53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80" h="21600">
                <a:moveTo>
                  <a:pt x="19983" y="3794"/>
                </a:moveTo>
                <a:lnTo>
                  <a:pt x="33996" y="10800"/>
                </a:lnTo>
                <a:lnTo>
                  <a:pt x="19983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38088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宋体"/>
                <a:ea typeface="楷体_GB2312"/>
              </a:rPr>
              <a:t>人在旅途，不可能坦坦荡荡，一帆风顺；遇到困难，感受挫折，是很正常的。只要不失自信，永远记住：不要想着距离有多远，只要想着我是在走一小步，走一步，再走一步。我能办得到。那么什么样的</a:t>
            </a:r>
            <a:r>
              <a:rPr b="1" lang="en-US" sz="2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艰难险阻</a:t>
            </a:r>
            <a:r>
              <a:rPr b="1" lang="en-US" sz="2400" spc="-1" strike="noStrike">
                <a:solidFill>
                  <a:srgbClr val="ffff99"/>
                </a:solidFill>
                <a:latin typeface="宋体"/>
                <a:ea typeface="楷体_GB2312"/>
              </a:rPr>
              <a:t>都将被踩在脚下。别忘了，还要把这些感受传给那些正在遭遇困难的人们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绿色" descr=""/>
          <p:cNvPicPr/>
          <p:nvPr/>
        </p:nvPicPr>
        <p:blipFill>
          <a:blip r:embed="rId1"/>
          <a:stretch/>
        </p:blipFill>
        <p:spPr>
          <a:xfrm>
            <a:off x="0" y="3162240"/>
            <a:ext cx="9144000" cy="369576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153280" y="2590920"/>
            <a:ext cx="990720" cy="53316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25" h="21600">
                <a:moveTo>
                  <a:pt x="0" y="0"/>
                </a:moveTo>
                <a:lnTo>
                  <a:pt x="40125" y="0"/>
                </a:lnTo>
                <a:lnTo>
                  <a:pt x="40125" y="21600"/>
                </a:lnTo>
                <a:lnTo>
                  <a:pt x="0" y="21600"/>
                </a:lnTo>
                <a:close/>
              </a:path>
              <a:path fill="lightenLess" w="40125" h="21600">
                <a:moveTo>
                  <a:pt x="0" y="0"/>
                </a:moveTo>
                <a:lnTo>
                  <a:pt x="40125" y="0"/>
                </a:lnTo>
                <a:lnTo>
                  <a:pt x="38725" y="1400"/>
                </a:lnTo>
                <a:lnTo>
                  <a:pt x="1400" y="1400"/>
                </a:lnTo>
                <a:close/>
              </a:path>
              <a:path fill="darken" w="40125" h="21600">
                <a:moveTo>
                  <a:pt x="40125" y="0"/>
                </a:moveTo>
                <a:lnTo>
                  <a:pt x="40125" y="21600"/>
                </a:lnTo>
                <a:lnTo>
                  <a:pt x="38725" y="20200"/>
                </a:lnTo>
                <a:lnTo>
                  <a:pt x="38725" y="1400"/>
                </a:lnTo>
                <a:close/>
              </a:path>
              <a:path fill="darkenLess" w="40125" h="21600">
                <a:moveTo>
                  <a:pt x="40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5" y="20200"/>
                </a:lnTo>
                <a:close/>
              </a:path>
              <a:path fill="lighten" w="40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25" h="21600">
                <a:moveTo>
                  <a:pt x="13056" y="3794"/>
                </a:moveTo>
                <a:lnTo>
                  <a:pt x="27069" y="10800"/>
                </a:lnTo>
                <a:lnTo>
                  <a:pt x="13056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838080"/>
            <a:ext cx="838188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e0047"/>
                </a:solidFill>
                <a:latin typeface="Times New Roman"/>
                <a:ea typeface="黑体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　你在生活中曾经遇到过什么困难</a:t>
            </a: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?</a:t>
            </a: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当时你是怎么对待的</a:t>
            </a: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?</a:t>
            </a: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结果如何</a:t>
            </a: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?</a:t>
            </a: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如果现在碰到这种情况，你会怎么办</a:t>
            </a: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?</a:t>
            </a: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就此写一篇</a:t>
            </a: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300</a:t>
            </a: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字左右的短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e0047"/>
                </a:solidFill>
                <a:latin typeface="Times New Roman"/>
              </a:rPr>
              <a:t>提示：</a:t>
            </a:r>
            <a:r>
              <a:rPr b="1" lang="en-US" sz="2400" spc="-1" strike="noStrike">
                <a:solidFill>
                  <a:srgbClr val="8e0047"/>
                </a:solidFill>
                <a:latin typeface="宋体"/>
              </a:rPr>
              <a:t>对“困难”的理解全面一点：既可以是努力一下就能解决的小困难，如一道难题做不出来，参加社会实践活动卖报纸时不好意思张嘴等；更应该是比较大的，短时间内难以解决的困难，如自己学习成绩落后；父母下岗，家庭经济拮据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loweraj1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265560"/>
            <a:ext cx="4648320" cy="3592440"/>
          </a:xfrm>
          <a:prstGeom prst="rect">
            <a:avLst/>
          </a:prstGeom>
          <a:ln w="0">
            <a:noFill/>
          </a:ln>
        </p:spPr>
      </p:pic>
      <p:pic>
        <p:nvPicPr>
          <p:cNvPr id="45" name="floweraj14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0" y="304920"/>
            <a:ext cx="434340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把你的困难告诉我……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724280" y="5334120"/>
            <a:ext cx="4038840" cy="1139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让我轻轻的告诉你……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0"/>
            <a:ext cx="81532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黑体"/>
              </a:rPr>
              <a:t>读准字音，并写准字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闷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热　　训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诫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　　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颤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抖　　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落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在最后　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尽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量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瘦骨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嶙峋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　　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几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乎　　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迂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回　　　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啜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泣 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头晕目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眩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　　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纳罕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　　小心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翼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翼　　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耸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6934320" y="5943600"/>
            <a:ext cx="2209680" cy="914400"/>
          </a:xfrm>
          <a:custGeom>
            <a:avLst/>
            <a:gdLst>
              <a:gd name="textAreaLeft" fmla="*/ 59040 w 2209680"/>
              <a:gd name="textAreaRight" fmla="*/ 2150640 w 2209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2185" h="21600">
                <a:moveTo>
                  <a:pt x="0" y="0"/>
                </a:moveTo>
                <a:lnTo>
                  <a:pt x="52185" y="0"/>
                </a:lnTo>
                <a:lnTo>
                  <a:pt x="52185" y="21600"/>
                </a:lnTo>
                <a:lnTo>
                  <a:pt x="0" y="21600"/>
                </a:lnTo>
                <a:close/>
              </a:path>
              <a:path fill="lightenLess" w="52185" h="21600">
                <a:moveTo>
                  <a:pt x="0" y="0"/>
                </a:moveTo>
                <a:lnTo>
                  <a:pt x="52185" y="0"/>
                </a:lnTo>
                <a:lnTo>
                  <a:pt x="50785" y="1400"/>
                </a:lnTo>
                <a:lnTo>
                  <a:pt x="1400" y="1400"/>
                </a:lnTo>
                <a:close/>
              </a:path>
              <a:path fill="darken" w="52185" h="21600">
                <a:moveTo>
                  <a:pt x="52185" y="0"/>
                </a:moveTo>
                <a:lnTo>
                  <a:pt x="52185" y="21600"/>
                </a:lnTo>
                <a:lnTo>
                  <a:pt x="50785" y="20200"/>
                </a:lnTo>
                <a:lnTo>
                  <a:pt x="50785" y="1400"/>
                </a:lnTo>
                <a:close/>
              </a:path>
              <a:path fill="darkenLess" w="52185" h="21600">
                <a:moveTo>
                  <a:pt x="52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5" y="20200"/>
                </a:lnTo>
                <a:close/>
              </a:path>
              <a:path fill="lighten" w="52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185" h="21600">
                <a:moveTo>
                  <a:pt x="19086" y="3794"/>
                </a:moveTo>
                <a:lnTo>
                  <a:pt x="33099" y="10800"/>
                </a:lnTo>
                <a:lnTo>
                  <a:pt x="19086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解释下列词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训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瘦骨嶙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啜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纳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小心翼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头晕目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7238880" y="6172200"/>
            <a:ext cx="1905120" cy="685800"/>
          </a:xfrm>
          <a:custGeom>
            <a:avLst/>
            <a:gdLst>
              <a:gd name="textAreaLeft" fmla="*/ 44280 w 1905120"/>
              <a:gd name="textAreaRight" fmla="*/ 1860840 w 1905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9984" h="21600">
                <a:moveTo>
                  <a:pt x="0" y="0"/>
                </a:moveTo>
                <a:lnTo>
                  <a:pt x="59984" y="0"/>
                </a:lnTo>
                <a:lnTo>
                  <a:pt x="59984" y="21600"/>
                </a:lnTo>
                <a:lnTo>
                  <a:pt x="0" y="21600"/>
                </a:lnTo>
                <a:close/>
              </a:path>
              <a:path fill="lightenLess" w="59984" h="21600">
                <a:moveTo>
                  <a:pt x="0" y="0"/>
                </a:moveTo>
                <a:lnTo>
                  <a:pt x="59984" y="0"/>
                </a:lnTo>
                <a:lnTo>
                  <a:pt x="58584" y="1400"/>
                </a:lnTo>
                <a:lnTo>
                  <a:pt x="1400" y="1400"/>
                </a:lnTo>
                <a:close/>
              </a:path>
              <a:path fill="darken" w="59984" h="21600">
                <a:moveTo>
                  <a:pt x="59984" y="0"/>
                </a:moveTo>
                <a:lnTo>
                  <a:pt x="59984" y="21600"/>
                </a:lnTo>
                <a:lnTo>
                  <a:pt x="58584" y="20200"/>
                </a:lnTo>
                <a:lnTo>
                  <a:pt x="58584" y="1400"/>
                </a:lnTo>
                <a:close/>
              </a:path>
              <a:path fill="darkenLess" w="59984" h="21600">
                <a:moveTo>
                  <a:pt x="59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84" y="20200"/>
                </a:lnTo>
                <a:close/>
              </a:path>
              <a:path fill="lighten" w="59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984" h="21600">
                <a:moveTo>
                  <a:pt x="22985" y="3794"/>
                </a:moveTo>
                <a:lnTo>
                  <a:pt x="36998" y="10800"/>
                </a:lnTo>
                <a:lnTo>
                  <a:pt x="22985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尽”有两个读音（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jĭn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jìn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。请根据语言环境选择准确读音</a:t>
            </a: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209680"/>
            <a:ext cx="7010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、我住在尽里头那个房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、尽管下着雪，赶庙会的人依旧是熙熙攘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、尽心尽力为群众排忧解难是我的职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、那张照片上尽是抗日战争时期的英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、乘车时，应先尽着老人坐座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、为防止流感的传播，应尽量少去人员密集的　　公共场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7696080" y="60958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3794"/>
                </a:moveTo>
                <a:lnTo>
                  <a:pt x="27520" y="10800"/>
                </a:lnTo>
                <a:lnTo>
                  <a:pt x="13507" y="17806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0958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10800"/>
                </a:moveTo>
                <a:lnTo>
                  <a:pt x="27520" y="3794"/>
                </a:lnTo>
                <a:lnTo>
                  <a:pt x="27520" y="17806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3880" y="1295280"/>
            <a:ext cx="6172200" cy="764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  <a:ea typeface="黑体"/>
              </a:rPr>
              <a:t>记叙的六要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3048120"/>
            <a:ext cx="5029200" cy="703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时间、地点、人物、起因、经过、结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924680" y="617220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95" h="21600">
                <a:moveTo>
                  <a:pt x="12191" y="3794"/>
                </a:moveTo>
                <a:lnTo>
                  <a:pt x="26204" y="10800"/>
                </a:lnTo>
                <a:lnTo>
                  <a:pt x="1219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92240"/>
            <a:ext cx="7848360" cy="62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347c"/>
                </a:solidFill>
                <a:latin typeface="Times New Roman"/>
                <a:ea typeface="黑体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347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5b347c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课文主要记叙了什么事情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?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（用最简洁的语言概括）这　一事件可分为哪两部分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、这件事情发生在什么时候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?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什么地方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?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人物有哪些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、事情发生的原因是什么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? “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我”为什么“一时拿不定主　　 意”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?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后来又为什么跟着伙伴们去爬山了呢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、“我”在爬山途中都遇到了哪些困难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?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当时“我”是怎么　　想的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、后来“我”又是怎样脱险的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?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脱险以后“我”有什么感觉</a:t>
            </a:r>
            <a:r>
              <a:rPr b="1" lang="en-US" sz="2400" spc="-1" strike="noStrike">
                <a:solidFill>
                  <a:srgbClr val="5b347c"/>
                </a:solidFill>
                <a:latin typeface="宋体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66" h="21600">
                <a:moveTo>
                  <a:pt x="12426" y="3794"/>
                </a:moveTo>
                <a:lnTo>
                  <a:pt x="26439" y="10800"/>
                </a:lnTo>
                <a:lnTo>
                  <a:pt x="12426" y="17806"/>
                </a:lnTo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95280" y="38088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c1d8b"/>
                </a:solidFill>
                <a:latin typeface="Times New Roman"/>
                <a:ea typeface="黑体"/>
              </a:rPr>
              <a:t>复述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1828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c1d8b"/>
                </a:solidFill>
                <a:latin typeface="Times New Roman"/>
                <a:ea typeface="黑体"/>
              </a:rPr>
              <a:t>用第一人称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29718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c1d8b"/>
                </a:solidFill>
                <a:latin typeface="Times New Roman"/>
                <a:ea typeface="黑体"/>
              </a:rPr>
              <a:t>用第三人称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4114800"/>
            <a:ext cx="6781680" cy="1818000"/>
          </a:xfrm>
          <a:prstGeom prst="rect">
            <a:avLst/>
          </a:prstGeom>
          <a:solidFill>
            <a:srgbClr val="ffdddd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862"/>
                </a:solidFill>
                <a:latin typeface="Times New Roman"/>
              </a:rPr>
              <a:t>要求：</a:t>
            </a:r>
            <a:r>
              <a:rPr b="1" lang="en-US" sz="2800" spc="-1" strike="noStrike">
                <a:solidFill>
                  <a:srgbClr val="a00862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a00862"/>
                </a:solidFill>
                <a:latin typeface="Times New Roman"/>
              </a:rPr>
              <a:t>、要素完整，详略得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862"/>
                </a:solidFill>
                <a:latin typeface="Times New Roman"/>
              </a:rPr>
              <a:t>　　　</a:t>
            </a:r>
            <a:r>
              <a:rPr b="1" lang="en-US" sz="2800" spc="-1" strike="noStrike">
                <a:solidFill>
                  <a:srgbClr val="a00862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a00862"/>
                </a:solidFill>
                <a:latin typeface="Times New Roman"/>
              </a:rPr>
              <a:t>、口齿清晰，声音洪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862"/>
                </a:solidFill>
                <a:latin typeface="Times New Roman"/>
              </a:rPr>
              <a:t>　　　</a:t>
            </a:r>
            <a:r>
              <a:rPr b="1" lang="en-US" sz="2800" spc="-1" strike="noStrike">
                <a:solidFill>
                  <a:srgbClr val="a00862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a00862"/>
                </a:solidFill>
                <a:latin typeface="Times New Roman"/>
              </a:rPr>
              <a:t>、感情适度，仪态大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2057400"/>
            <a:ext cx="228600" cy="228600"/>
          </a:xfrm>
          <a:prstGeom prst="ellipse">
            <a:avLst/>
          </a:prstGeom>
          <a:solidFill>
            <a:srgbClr val="bd3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3276720"/>
            <a:ext cx="228600" cy="228600"/>
          </a:xfrm>
          <a:prstGeom prst="ellipse">
            <a:avLst/>
          </a:prstGeom>
          <a:solidFill>
            <a:srgbClr val="bd3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7467480" y="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787" h="21600">
                <a:moveTo>
                  <a:pt x="19387" y="3794"/>
                </a:moveTo>
                <a:lnTo>
                  <a:pt x="33400" y="10800"/>
                </a:lnTo>
                <a:lnTo>
                  <a:pt x="19387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3520" y="304920"/>
            <a:ext cx="281916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脱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1371600"/>
            <a:ext cx="6934320" cy="47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、找出这部分开头的自然环境描写，想想　有什么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、找出父亲指挥“我”脱险的语句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、“你能办得到的。”“这似乎能办得到。” 　 “我能办得到的。” 三句话的语气有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么不同</a:t>
            </a: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?</a:t>
            </a: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后两句写出了我的什么变化</a:t>
            </a: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4</a:t>
            </a: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、我在父亲的指导下仅仅是爬下了几米高　的石架，为什么还说“我产生了巨大的成　就感”</a:t>
            </a:r>
            <a:r>
              <a:rPr b="1" lang="en-US" sz="2800" spc="-1" strike="noStrike">
                <a:solidFill>
                  <a:srgbClr val="630d85"/>
                </a:solidFill>
                <a:latin typeface="宋体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0d85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7086600" y="6095880"/>
            <a:ext cx="2057400" cy="762120"/>
          </a:xfrm>
          <a:custGeom>
            <a:avLst/>
            <a:gdLst>
              <a:gd name="textAreaLeft" fmla="*/ 49320 w 2057400"/>
              <a:gd name="textAreaRight" fmla="*/ 2008080 w 2057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8293" h="21600">
                <a:moveTo>
                  <a:pt x="0" y="0"/>
                </a:moveTo>
                <a:lnTo>
                  <a:pt x="58293" y="0"/>
                </a:lnTo>
                <a:lnTo>
                  <a:pt x="58293" y="21600"/>
                </a:lnTo>
                <a:lnTo>
                  <a:pt x="0" y="21600"/>
                </a:lnTo>
                <a:close/>
              </a:path>
              <a:path fill="lightenLess" w="58293" h="21600">
                <a:moveTo>
                  <a:pt x="0" y="0"/>
                </a:moveTo>
                <a:lnTo>
                  <a:pt x="58293" y="0"/>
                </a:lnTo>
                <a:lnTo>
                  <a:pt x="56893" y="1400"/>
                </a:lnTo>
                <a:lnTo>
                  <a:pt x="1400" y="1400"/>
                </a:lnTo>
                <a:close/>
              </a:path>
              <a:path fill="darken" w="58293" h="21600">
                <a:moveTo>
                  <a:pt x="58293" y="0"/>
                </a:moveTo>
                <a:lnTo>
                  <a:pt x="58293" y="21600"/>
                </a:lnTo>
                <a:lnTo>
                  <a:pt x="56893" y="20200"/>
                </a:lnTo>
                <a:lnTo>
                  <a:pt x="56893" y="1400"/>
                </a:lnTo>
                <a:close/>
              </a:path>
              <a:path fill="darkenLess" w="58293" h="21600">
                <a:moveTo>
                  <a:pt x="58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93" y="20200"/>
                </a:lnTo>
                <a:close/>
              </a:path>
              <a:path fill="lighten" w="58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293" h="21600">
                <a:moveTo>
                  <a:pt x="22140" y="3794"/>
                </a:moveTo>
                <a:lnTo>
                  <a:pt x="36153" y="10800"/>
                </a:lnTo>
                <a:lnTo>
                  <a:pt x="22140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13:50:27Z</dcterms:created>
  <dc:creator>wutao</dc:creator>
  <dc:description/>
  <dc:language>en-US</dc:language>
  <cp:lastModifiedBy>zj</cp:lastModifiedBy>
  <dcterms:modified xsi:type="dcterms:W3CDTF">2004-07-14T06:59:51Z</dcterms:modified>
  <cp:revision>100</cp:revision>
  <dc:subject/>
  <dc:title>PowerPoint 演示文稿</dc:title>
</cp:coreProperties>
</file>