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14A-9FAB-44EA-8E72-72E90E4715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上节课布置同学们回去考虑，准备了自己的冒险经历，请大家根据提纲畅所欲言。总结所得。导入课文和莫顿一起去体验他的冒险，看看我们又能得到什么启示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体味心情时，找同学范读，其他同学点评，看是否符合当时那种害怕的心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找出描写莫顿害怕紧张的句子与词语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复述故事时引导学生体味人生，学会克服人生路上的艰险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联系课文的场景，设计脱险方案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DC1-1952-4F5C-8AB4-7B92C795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C33-B598-453D-9C9C-9BE4EDBA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533-673D-4183-97DE-A5E93A62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EE8-534C-4B31-9141-D4A88A86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534B-DF34-4DA1-875C-C96769EF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0001-330D-4038-AC18-65C09E1A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8CB9-D5DB-479B-8184-BC7DD4EB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4BD7-0515-4711-A761-006A9AC5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F680-043E-463B-9853-F60F5754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EA22-DBCC-4247-A11F-63DEFAF7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0F75-D42F-48C5-9B4F-4449B3B7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FEB-3A6D-4361-A1FA-3A3B853F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118D-67FD-44D1-A1BC-1D288887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F55E-188E-46B2-811C-B786DB65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C9F8-BA7A-4EC3-8116-7C0200A3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9F9C-E211-42A2-A3B8-3680DEA5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E84C-F655-44B6-A3EC-F3329B74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675-CFB5-4E20-AEE4-63190412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45E-45F2-443D-A2CB-AF18F8EC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437-7DE4-4B37-8EEB-77B1187C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619-C3F3-423A-B901-EC77C1AC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B39-25DC-41AA-BC55-BE55D6BB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FA9-A483-4BC3-92A1-4448139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6BE-168D-44AC-B8D1-E4692BF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D447-07CF-439C-B89F-251282D79426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A9A-BE05-4273-BCD3-EAC70EFC740A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走一步，再走一步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莫顿</a:t>
            </a:r>
            <a:r>
              <a:rPr b="0" lang="zh-CN" sz="60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·</a:t>
            </a:r>
            <a:r>
              <a:rPr b="0" lang="zh-CN" sz="60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亨特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导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谈一下自己曾经有过的冒险经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在这次冒险中你害怕了吗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你最终是如何脱险的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在这次经历中你得到了什么？学会了什么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朗读课文，体味心情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大声朗读课文，体会一下“我”在文中流动的是怎样的情绪？并找出自己不明白的字与词，把它们归纳出来 ，我们集体解决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莫顿的冒险历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莫顿是如何涉险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莫顿如何脱险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莫顿从这次冒险中得到了什么？（用文中的话回答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犹豫不定（原因</a:t>
            </a:r>
            <a:br>
              <a:rPr sz="2800"/>
            </a:b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）→杰利鼓励→跟随攀爬→被困石架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父友赶到→父亲鼓励（语言）→走一步（具体）→再走一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不要想着远在下面的……我所要到的地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开动脑筋，亲身体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如果你现在是莫顿的同学，而他的父亲又没来，你会怎么做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假如你是莫顿，你现在是孤身一人在悬崖上，你又会怎样呢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练口才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如果你要把这个故事讲给你的父母或者是爷爷奶奶，你会怎么讲？结论你会怎么下？这个结论也就是你从这篇文章中所领悟到的东西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感悟全篇，交流所得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　　人生如同攀登，会遇到各种不同的意想不到的艰难险阻，我们能不能把大山踩在脚下，能不能战胜他，关键看我们的毅力和方法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　　我们要坚信只要我们有勇气，有聪明的方法，我们就一定会成功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　　我祝愿大家都可以攀上我们梦想中的顶峰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5000" y="2116080"/>
            <a:ext cx="4371840" cy="19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谢谢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E02043_" descr=""/>
          <p:cNvPicPr/>
          <p:nvPr/>
        </p:nvPicPr>
        <p:blipFill>
          <a:blip r:embed="rId1"/>
          <a:stretch/>
        </p:blipFill>
        <p:spPr>
          <a:xfrm>
            <a:off x="3384720" y="1693800"/>
            <a:ext cx="2374560" cy="3468600"/>
          </a:xfrm>
          <a:prstGeom prst="rect">
            <a:avLst/>
          </a:prstGeom>
          <a:ln w="0">
            <a:noFill/>
          </a:ln>
        </p:spPr>
      </p:pic>
      <p:pic>
        <p:nvPicPr>
          <p:cNvPr id="146" name="SO01871_" descr=""/>
          <p:cNvPicPr/>
          <p:nvPr/>
        </p:nvPicPr>
        <p:blipFill>
          <a:blip r:embed="rId2"/>
          <a:stretch/>
        </p:blipFill>
        <p:spPr>
          <a:xfrm>
            <a:off x="4659480" y="2529000"/>
            <a:ext cx="43718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08:21:31Z</dcterms:created>
  <dc:creator>wutao</dc:creator>
  <dc:description/>
  <dc:language>en-US</dc:language>
  <cp:lastModifiedBy>zj</cp:lastModifiedBy>
  <dcterms:modified xsi:type="dcterms:W3CDTF">2004-07-14T07:17:10Z</dcterms:modified>
  <cp:revision>100</cp:revision>
  <dc:subject/>
  <dc:title>走一步，再走一步</dc:title>
</cp:coreProperties>
</file>