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D220-16E7-4D61-8B79-701FBE48FB0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无论怎样的危险和困难，只要把它分解开来，分解为一小步一小步，困难就不大了。“你只要想着你是在走一小步”，“走了这一步再走下一步”，一步一步走下去，有天大的困难也可以闯过来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 关键是化整为零。大困难是由小困难组成的，小困难是不难战胜的，一步一步战胜了小困难，最后就战胜了巨大的困难。当然，重要的还在于走好每一步，一步一步坚持不懈的走下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这种人生经验，给人以战胜一切艰难险阻的信心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8EE4-2FB2-426D-AE12-A14422CF3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992B-1757-4EB6-87CC-0A9DC5C2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751F-FABF-47C7-8DEE-BCC6C992F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85EC-83B7-4A6A-BC93-3665D53E4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0D52-C4D3-4A3A-B85B-A5C3819C2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26EB-9E76-417D-8AE6-BD8BF9E7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1C69-0A7F-4966-8C78-F608E44C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46852-6AA1-462E-B6F0-C477DA7E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E95E-7626-44A9-A197-C5CD9972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3CB2-324B-4409-8581-55955FCB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29B5-75EE-4D0D-9C78-1EC55021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BB3D-1362-4229-9731-FF8B273FA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D325-494E-47F7-B76C-6F9D6FDB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7D93-A7FC-4513-98E3-953E7FA6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7CFC-BCF7-4E90-9B37-E6AA227D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B031B-1AEF-4121-A1D9-000450430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4B7E-7E51-425D-80ED-49024E151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3581-4968-4F75-89A6-6E84EDFD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E05F-7FA9-4485-AA86-2DD14C3F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AA31-172A-43A5-9706-FFC976D8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B157-093E-40C2-AD21-DE2FAC50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A929-3EEF-42D8-91D6-643A179C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179A-3849-4558-9CB9-59A639DC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29D2-8FC3-4F20-9DBA-A9E3A29E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7FA0-6B1F-4052-BE22-9E33FBE41F81}" type="slidenum">
              <a:rPr b="0" lang="zh-CN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E5A6-2A27-4789-84E1-147546DFEDE9}" type="slidenum">
              <a:rPr b="0" lang="zh-CN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sc03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85800" y="990720"/>
            <a:ext cx="7391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华文新魏"/>
              </a:rPr>
              <a:t>走一步，再走一步</a:t>
            </a:r>
            <a:endParaRPr b="0" lang="en-US" sz="6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57400" y="4800600"/>
            <a:ext cx="54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ec85e"/>
                </a:solidFill>
                <a:latin typeface="华文行楷"/>
                <a:ea typeface="华文行楷"/>
              </a:rPr>
              <a:t>莫顿</a:t>
            </a:r>
            <a:r>
              <a:rPr b="0" lang="zh-CN" sz="4000" spc="-1" strike="noStrike">
                <a:solidFill>
                  <a:srgbClr val="eec85e"/>
                </a:solidFill>
                <a:latin typeface="华文行楷"/>
                <a:ea typeface="华文行楷"/>
              </a:rPr>
              <a:t>·  </a:t>
            </a:r>
            <a:r>
              <a:rPr b="0" lang="zh-CN" sz="4000" spc="-1" strike="noStrike">
                <a:solidFill>
                  <a:srgbClr val="eec85e"/>
                </a:solidFill>
                <a:latin typeface="华文行楷"/>
                <a:ea typeface="华文行楷"/>
              </a:rPr>
              <a:t>亨特  </a:t>
            </a:r>
            <a:r>
              <a:rPr b="0" lang="zh-CN" sz="4000" spc="-1" strike="noStrike">
                <a:solidFill>
                  <a:srgbClr val="eec85e"/>
                </a:solidFill>
                <a:latin typeface="华文行楷"/>
                <a:ea typeface="华文行楷"/>
              </a:rPr>
              <a:t>(</a:t>
            </a:r>
            <a:r>
              <a:rPr b="0" lang="zh-CN" sz="4000" spc="-1" strike="noStrike">
                <a:solidFill>
                  <a:srgbClr val="eec85e"/>
                </a:solidFill>
                <a:latin typeface="华文行楷"/>
                <a:ea typeface="华文行楷"/>
              </a:rPr>
              <a:t>美国</a:t>
            </a:r>
            <a:r>
              <a:rPr b="0" lang="zh-CN" sz="4000" spc="-1" strike="noStrike">
                <a:solidFill>
                  <a:srgbClr val="eec85e"/>
                </a:solidFill>
                <a:latin typeface="华文行楷"/>
                <a:ea typeface="华文行楷"/>
              </a:rPr>
              <a:t>)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332000" y="981000"/>
            <a:ext cx="69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Arial"/>
              </a:rPr>
              <a:t>⑵ </a:t>
            </a:r>
            <a:r>
              <a:rPr b="1" lang="zh-CN" sz="4800" spc="-1" strike="noStrike">
                <a:solidFill>
                  <a:srgbClr val="eaeaea"/>
                </a:solidFill>
                <a:latin typeface="Arial"/>
              </a:rPr>
              <a:t>确立角度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58920" y="2349360"/>
            <a:ext cx="734544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eaeaea"/>
                </a:solidFill>
                <a:latin typeface="Arial"/>
              </a:rPr>
              <a:t>父亲的做法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eaeaea"/>
                </a:solidFill>
                <a:latin typeface="Arial"/>
              </a:rPr>
              <a:t>杰利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eaeaea"/>
                </a:solidFill>
                <a:latin typeface="Arial"/>
              </a:rPr>
              <a:t>四个孩子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71640" y="90792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⑶ 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探究问题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71640" y="1700280"/>
            <a:ext cx="7345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★ 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石架大约 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7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米高，扛梯子把孩子抱下来要保险得多，也简单得多，父亲为什么不这样做？他的做法有什么普遍意义？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971640" y="1916280"/>
            <a:ext cx="69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★ 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评论四个孩子。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71640" y="2852640"/>
            <a:ext cx="734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★ 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假如“我”的父亲没有来，你作为“我”的同学，将怎么办？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71640" y="5084640"/>
            <a:ext cx="763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★ 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假如你是“我”，孤身一人在悬崖上，将怎么办？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71640" y="404640"/>
            <a:ext cx="727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★ 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哪些地方写了杰利，请一一加以评论。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11280" y="62064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、 语言运用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155736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请利用下列格式，在横线上补出词语，表达自己想说的一个意思。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1280" y="328464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宋体"/>
              </a:rPr>
              <a:t>⑴</a:t>
            </a: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时隔</a:t>
            </a:r>
            <a:r>
              <a:rPr b="1" lang="zh-CN" sz="4000" spc="-1" strike="noStrike" u="sng">
                <a:solidFill>
                  <a:srgbClr val="eaeaea"/>
                </a:solidFill>
                <a:uFillTx/>
                <a:latin typeface="Arial"/>
              </a:rPr>
              <a:t>     </a:t>
            </a: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年，</a:t>
            </a:r>
            <a:r>
              <a:rPr b="1" lang="zh-CN" sz="4000" spc="-1" strike="noStrike" u="sng">
                <a:solidFill>
                  <a:srgbClr val="eaeaea"/>
                </a:solidFill>
                <a:uFillTx/>
                <a:latin typeface="Arial"/>
              </a:rPr>
              <a:t>                             </a:t>
            </a: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4365720"/>
            <a:ext cx="79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宋体"/>
              </a:rPr>
              <a:t>⑵</a:t>
            </a: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我一直牢记着</a:t>
            </a:r>
            <a:r>
              <a:rPr b="1" lang="zh-CN" sz="4000" spc="-1" strike="noStrike" u="sng">
                <a:solidFill>
                  <a:srgbClr val="eaeaea"/>
                </a:solidFill>
                <a:uFillTx/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叫我不        要</a:t>
            </a:r>
            <a:r>
              <a:rPr b="1" lang="zh-CN" sz="4000" spc="-1" strike="noStrike" u="sng">
                <a:solidFill>
                  <a:srgbClr val="eaeaea"/>
                </a:solidFill>
                <a:uFillTx/>
                <a:latin typeface="Arial"/>
              </a:rPr>
              <a:t>                                    </a:t>
            </a: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的训诫。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4360" y="40464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宋体"/>
              </a:rPr>
              <a:t>⑶</a:t>
            </a:r>
            <a:r>
              <a:rPr b="1" lang="zh-CN" sz="4400" spc="-1" strike="noStrike" u="sng">
                <a:solidFill>
                  <a:srgbClr val="eaeaea"/>
                </a:solidFill>
                <a:uFillTx/>
                <a:latin typeface="Arial"/>
              </a:rPr>
              <a:t>                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向</a:t>
            </a:r>
            <a:r>
              <a:rPr b="1" lang="zh-CN" sz="4400" spc="-1" strike="noStrike" u="sng">
                <a:solidFill>
                  <a:srgbClr val="eaeaea"/>
                </a:solidFill>
                <a:uFillTx/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攀爬。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4360" y="1556280"/>
            <a:ext cx="83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宋体"/>
              </a:rPr>
              <a:t>⑷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zh-CN" sz="4400" spc="-1" strike="noStrike" u="sng">
                <a:solidFill>
                  <a:srgbClr val="eaeaea"/>
                </a:solidFill>
                <a:uFillTx/>
                <a:latin typeface="Arial"/>
              </a:rPr>
              <a:t>                            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有人啜泣。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4360" y="2565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宋体"/>
              </a:rPr>
              <a:t>⑸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zh-CN" sz="4400" spc="-1" strike="noStrike" u="sng">
                <a:solidFill>
                  <a:srgbClr val="eaeaea"/>
                </a:solidFill>
                <a:uFillTx/>
                <a:latin typeface="Arial"/>
              </a:rPr>
              <a:t>                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正纳罕</a:t>
            </a:r>
            <a:r>
              <a:rPr b="1" lang="zh-CN" sz="4400" spc="-1" strike="noStrike" u="sng">
                <a:solidFill>
                  <a:srgbClr val="eaeaea"/>
                </a:solidFill>
                <a:uFillTx/>
                <a:latin typeface="Arial"/>
              </a:rPr>
              <a:t>                  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" y="3789360"/>
            <a:ext cx="84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宋体"/>
              </a:rPr>
              <a:t>⑹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暮色开始四合，</a:t>
            </a:r>
            <a:r>
              <a:rPr b="0" lang="zh-CN" sz="4400" spc="-1" strike="noStrike">
                <a:solidFill>
                  <a:srgbClr val="eaeaea"/>
                </a:solidFill>
                <a:latin typeface="Arial"/>
              </a:rPr>
              <a:t>__________</a:t>
            </a:r>
            <a:r>
              <a:rPr b="0" lang="zh-CN" sz="4400" spc="-1" strike="noStrike">
                <a:solidFill>
                  <a:srgbClr val="eaeaea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4360" y="501336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宋体"/>
              </a:rPr>
              <a:t>⑺</a:t>
            </a:r>
            <a:r>
              <a:rPr b="1" lang="zh-CN" sz="4400" spc="-1" strike="noStrike" u="sng">
                <a:solidFill>
                  <a:srgbClr val="eaeaea"/>
                </a:solidFill>
                <a:uFillTx/>
                <a:latin typeface="Arial"/>
              </a:rPr>
              <a:t>                       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全身麻木，不能动弹。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11280" y="570240"/>
            <a:ext cx="777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⑼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带着</a:t>
            </a:r>
            <a:r>
              <a:rPr b="1" lang="zh-CN" sz="4400" spc="-1" strike="noStrike" u="sng">
                <a:solidFill>
                  <a:srgbClr val="eaeaea"/>
                </a:solidFill>
                <a:uFillTx/>
                <a:latin typeface="Arial"/>
              </a:rPr>
              <a:t>                           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的口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气说</a:t>
            </a:r>
            <a:r>
              <a:rPr b="1" lang="zh-CN" sz="4400" spc="-1" strike="noStrike" u="sng">
                <a:solidFill>
                  <a:srgbClr val="eaeaea"/>
                </a:solidFill>
                <a:uFillTx/>
                <a:latin typeface="Arial"/>
              </a:rPr>
              <a:t>                     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1280" y="2205000"/>
            <a:ext cx="87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⑽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我小心翼翼地</a:t>
            </a:r>
            <a:r>
              <a:rPr b="1" lang="zh-CN" sz="4400" spc="-1" strike="noStrike" u="sng">
                <a:solidFill>
                  <a:srgbClr val="eaeaea"/>
                </a:solidFill>
                <a:uFillTx/>
                <a:latin typeface="Arial"/>
              </a:rPr>
              <a:t>                        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3357720"/>
            <a:ext cx="82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⑾</a:t>
            </a:r>
            <a:r>
              <a:rPr b="1" lang="zh-CN" sz="4400" spc="-1" strike="noStrike" u="sng">
                <a:solidFill>
                  <a:srgbClr val="eaeaea"/>
                </a:solidFill>
                <a:uFillTx/>
                <a:latin typeface="Arial"/>
              </a:rPr>
              <a:t>                   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我的信心大增。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1280" y="4365720"/>
            <a:ext cx="73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aeaea"/>
                </a:solidFill>
                <a:latin typeface="Arial"/>
              </a:rPr>
              <a:t>⑿</a:t>
            </a:r>
            <a:r>
              <a:rPr b="1" lang="zh-CN" sz="4400" spc="-1" strike="noStrike" u="sng">
                <a:solidFill>
                  <a:srgbClr val="eaeaea"/>
                </a:solidFill>
                <a:uFillTx/>
                <a:latin typeface="Arial"/>
              </a:rPr>
              <a:t>                                     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产生了一种巨大的成就感。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26920" y="907920"/>
            <a:ext cx="749016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eaeaea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练笔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生活中难免遇到困难。你遇到过什么困难？是如何克服的？有什么经验教训？写一个片段或一篇短文。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请同学们布置专栏。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sc028" descr=""/>
          <p:cNvPicPr/>
          <p:nvPr/>
        </p:nvPicPr>
        <p:blipFill>
          <a:blip r:embed="rId1"/>
          <a:stretch/>
        </p:blipFill>
        <p:spPr>
          <a:xfrm>
            <a:off x="0" y="-123840"/>
            <a:ext cx="9144000" cy="71056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916360" y="2565360"/>
            <a:ext cx="511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eaeaea"/>
                </a:solidFill>
                <a:latin typeface="Arial"/>
                <a:ea typeface="华文新魏"/>
              </a:rPr>
              <a:t>第一课时</a:t>
            </a:r>
            <a:endParaRPr b="0" lang="en-US" sz="6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826920" y="40464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一、  复述训练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00000" y="1125360"/>
            <a:ext cx="7559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、 默读课文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默读是复述的基础。默读要注意</a:t>
            </a:r>
            <a:r>
              <a:rPr b="1" lang="zh-CN" sz="4000" spc="-1" strike="noStrike" u="sng">
                <a:solidFill>
                  <a:srgbClr val="eaeaea"/>
                </a:solidFill>
                <a:uFillTx/>
                <a:latin typeface="Arial"/>
              </a:rPr>
              <a:t>速度，从每分钟</a:t>
            </a:r>
            <a:r>
              <a:rPr b="1" lang="zh-CN" sz="4000" spc="-1" strike="noStrike" u="sng">
                <a:solidFill>
                  <a:srgbClr val="eaeaea"/>
                </a:solidFill>
                <a:uFillTx/>
                <a:latin typeface="Arial"/>
              </a:rPr>
              <a:t>300</a:t>
            </a:r>
            <a:r>
              <a:rPr b="1" lang="zh-CN" sz="4000" spc="-1" strike="noStrike" u="sng">
                <a:solidFill>
                  <a:srgbClr val="eaeaea"/>
                </a:solidFill>
                <a:uFillTx/>
                <a:latin typeface="Arial"/>
              </a:rPr>
              <a:t>字提高到</a:t>
            </a:r>
            <a:r>
              <a:rPr b="1" lang="zh-CN" sz="4000" spc="-1" strike="noStrike" u="sng">
                <a:solidFill>
                  <a:srgbClr val="eaeaea"/>
                </a:solidFill>
                <a:uFillTx/>
                <a:latin typeface="Arial"/>
              </a:rPr>
              <a:t>500</a:t>
            </a:r>
            <a:r>
              <a:rPr b="1" lang="zh-CN" sz="4000" spc="-1" strike="noStrike" u="sng">
                <a:solidFill>
                  <a:srgbClr val="eaeaea"/>
                </a:solidFill>
                <a:uFillTx/>
                <a:latin typeface="Arial"/>
              </a:rPr>
              <a:t>字</a:t>
            </a: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，本文大约</a:t>
            </a: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1500</a:t>
            </a: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字，要求</a:t>
            </a: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分半钟看完。默读后要复述故事情节，</a:t>
            </a:r>
            <a:r>
              <a:rPr b="1" lang="zh-CN" sz="4000" spc="-1" strike="noStrike" u="sng">
                <a:solidFill>
                  <a:srgbClr val="eaeaea"/>
                </a:solidFill>
                <a:uFillTx/>
                <a:latin typeface="Arial"/>
              </a:rPr>
              <a:t>复述的难点是时间、地点、人物、数字</a:t>
            </a: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，默读时要注意看清楚。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71640" y="76500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、抢答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1413000"/>
            <a:ext cx="719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★</a:t>
            </a:r>
            <a:r>
              <a:rPr b="1" lang="zh-CN" sz="4000" spc="-1" strike="noStrike">
                <a:solidFill>
                  <a:srgbClr val="eaeaea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故事发生在美国的哪个城市？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33400" y="2565360"/>
            <a:ext cx="74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Verdana"/>
              </a:rPr>
              <a:t>★</a:t>
            </a:r>
            <a:r>
              <a:rPr b="1" lang="zh-CN" sz="4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故事发生在什么时间？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6920" y="3429000"/>
            <a:ext cx="785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Verdana"/>
              </a:rPr>
              <a:t>★</a:t>
            </a:r>
            <a:r>
              <a:rPr b="1" lang="zh-CN" sz="4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爬悬崖的一共几个孩子？有名字的有哪两个？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19000" y="4869000"/>
            <a:ext cx="832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Arial"/>
              </a:rPr>
              <a:t>★</a:t>
            </a: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那座悬崖有多高？岩石架有多高？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71640" y="1125360"/>
            <a:ext cx="7561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、 复述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要用普通话正确、流利、有感情的复述课文的故事情节，特别注意交代清楚时间、地点、人物和数字。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26920" y="1052640"/>
            <a:ext cx="73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二、课文主旨研讨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1280" y="2345040"/>
            <a:ext cx="806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课文写的是“我”童年时一次“脱险”的经历，其中蕴含着怎样的生活哲理？ 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sc04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700360" y="2565360"/>
            <a:ext cx="4751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eaeaea"/>
                </a:solidFill>
                <a:latin typeface="Arial"/>
                <a:ea typeface="华文新魏"/>
              </a:rPr>
              <a:t>第二课时</a:t>
            </a:r>
            <a:endParaRPr b="0" lang="en-US" sz="6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00000" y="1341360"/>
            <a:ext cx="7201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、朗读训练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要求：用普通话正确、流利、有感情的朗读，注意发音、停顿、重音、语调、速度。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26920" y="26028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、多角度阅读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5640" y="1125360"/>
            <a:ext cx="7777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⑴ </a:t>
            </a: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学法指导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多角度阅读，首先要确立角度，关键也在于确立角度。怎样确立角度？可以着眼于一个人物，也可以着眼于某一情节，提出问题，思考问题。例如：评论杰利什么地方做得对，什么地方做得不好，就是一个角度。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7T05:03:56Z</dcterms:created>
  <dc:creator>wutao</dc:creator>
  <dc:description/>
  <dc:language>en-US</dc:language>
  <cp:lastModifiedBy>zj</cp:lastModifiedBy>
  <dcterms:modified xsi:type="dcterms:W3CDTF">2004-07-14T07:03:37Z</dcterms:modified>
  <cp:revision>100</cp:revision>
  <dc:subject/>
  <dc:title>幻灯片 1</dc:title>
</cp:coreProperties>
</file>