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713-E464-47BB-95B5-D725444F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BAA-220B-4EF7-8FA4-CC341F2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04D-0728-41EC-AB94-9EC8F80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714-B8B7-4205-A666-9122FA5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7DCD-FBAA-4DD0-B6E3-153AA967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5DF-BA8F-4911-81E0-1E5D412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AE9-A767-4322-A407-445170B1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F41-0696-459C-BC57-0B082DD5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2EEF-5657-4492-BBA5-4769551A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FD3-465D-4934-9C06-AE445D4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292A-AD5C-4F60-A432-B951785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809-37F7-4713-B9E8-40B1B34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BE7-3D2E-4C28-9BB7-BBAB988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B2D2-B7C7-4CF9-8A25-DA46A0E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3AA-7151-4423-AC67-F964292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B98B-F24E-40AE-9E10-48AC4371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A48-94FD-4D93-980E-30322410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693-0B43-4F3F-B2B2-5C4044B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B2A-5422-4622-BABE-18E03B90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CB6-36F9-48AD-BBFF-53E885A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F0D-8794-48AD-B25A-57D61E80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377-71CD-43BD-8E1D-4A08600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151-2714-4776-A4C3-B074044B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F63-9C8F-4BEB-802C-893D0A0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132-35BC-4D18-B015-61D31E9E3488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7BA-E633-4E28-BB6E-5E0EBB2909CC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6880" y="53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初中语文第一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6680" y="2286000"/>
            <a:ext cx="70326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486400" y="34290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莫顿．亨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8380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54100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89548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下悬崖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1197000"/>
            <a:ext cx="503280" cy="396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0960" y="8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毫无信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00960" y="2787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00960" y="470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219320"/>
            <a:ext cx="8654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2209680"/>
            <a:ext cx="8636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5320" y="190512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走 一 步（详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276720"/>
            <a:ext cx="86508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71640" y="4267080"/>
            <a:ext cx="863640" cy="86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0600" y="3809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再走一步（略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课文选材详略安排对照表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828800"/>
          <a:ext cx="8001000" cy="4398840"/>
        </p:xfrm>
        <a:graphic>
          <a:graphicData uri="http://schemas.openxmlformats.org/drawingml/2006/table">
            <a:tbl>
              <a:tblPr/>
              <a:tblGrid>
                <a:gridCol w="1739880"/>
                <a:gridCol w="1384200"/>
                <a:gridCol w="1219320"/>
                <a:gridCol w="1143000"/>
                <a:gridCol w="1219320"/>
                <a:gridCol w="129528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我的动作和心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其它孩子的动作和心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杰利回家喊父亲的情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回家后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父母的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责骂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写悬崖的陡峭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详略安排情况</a:t>
                      </a:r>
                      <a:endParaRPr b="0" lang="en-US" sz="3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为什么要这样安排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>
                      <a:noFill/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43828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380988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不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748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不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1055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这是由中心所决定的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7116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稍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533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华文彩云"/>
              </a:rPr>
              <a:t>思考、讨论、回答：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24280" y="5791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524720" y="5029200"/>
            <a:ext cx="131436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205000"/>
            <a:ext cx="66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最喜欢文中的哪个人物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最不喜欢文中的哪个人物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假如“我”的父亲急忙赶到悬崖下面，一面安慰“我”，一面急忙爬上石架，把“我”扶下来，这种做法和文中父亲的做法你更喜欢哪一种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在生活中曾经遇到过什么困难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当时你是怎么对待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结果如何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如果现在碰到这种情况，你会怎么办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1447920"/>
            <a:ext cx="662940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写作特色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合理选材，详略分明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以小见大，以事寓理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7080" y="54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53080" y="4653000"/>
            <a:ext cx="16542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62320" y="1219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以小见大，以事寓理”式的结尾示例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信赖，往往能创造美好的境界。（冯骥才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最平常的才是最重要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只要冷静沉着地对待每一件事，任何困难都会迎刃而解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54864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29400" y="4957920"/>
            <a:ext cx="165420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335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华文彩云"/>
              </a:rPr>
              <a:t>居里夫人说过，“生活对于任何人都非易事”。进入初中，这是人生路上的一个新的起点。要在新的起点上，追求美好的理想，就要面对无数困难。怎样面对无数困难，将是我们初中学习生活中，也是人生道路上的实际问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762120"/>
            <a:ext cx="8534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彩云"/>
                <a:ea typeface="华文彩云"/>
              </a:rPr>
              <a:t>希望在今后的人生道路上，把握住学习生活中的主旋律，走好每一步，一步一步坚持不懈地走下去。希望“山的那边”永远召唤着你，“走一步，再走一步”，伴你到达理想的彼岸。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54936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80808"/>
                </a:solidFill>
                <a:uFillTx/>
                <a:latin typeface="Arial"/>
                <a:ea typeface="华文彩云"/>
              </a:rPr>
              <a:t>研究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Arial"/>
                <a:ea typeface="华文彩云"/>
              </a:rPr>
              <a:t>和</a:t>
            </a:r>
            <a:r>
              <a:rPr b="1" lang="zh-CN" sz="6000" spc="-1" strike="noStrike" u="sng">
                <a:solidFill>
                  <a:srgbClr val="080808"/>
                </a:solidFill>
                <a:uFillTx/>
                <a:latin typeface="Arial"/>
                <a:ea typeface="华文彩云"/>
              </a:rPr>
              <a:t>创造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981080"/>
            <a:ext cx="82296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在自己的脚下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读《走 一 步，再走 一 步》有感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小见大，以事寓理”之我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23619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8288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0574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1773360"/>
            <a:ext cx="434340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33"/>
                </a:solidFill>
                <a:latin typeface="华文彩云"/>
                <a:ea typeface="华文彩云"/>
              </a:rPr>
              <a:t> </a:t>
            </a:r>
            <a:r>
              <a:rPr b="1" lang="zh-CN" sz="9600" spc="-1" strike="noStrike">
                <a:solidFill>
                  <a:srgbClr val="660033"/>
                </a:solidFill>
                <a:latin typeface="华文彩云"/>
                <a:ea typeface="华文彩云"/>
              </a:rPr>
              <a:t>再　见</a:t>
            </a:r>
            <a:r>
              <a:rPr b="1" lang="zh-CN" sz="8800" spc="-1" strike="noStrike">
                <a:solidFill>
                  <a:srgbClr val="660033"/>
                </a:solidFill>
                <a:latin typeface="华文隶书"/>
                <a:ea typeface="华文隶书"/>
              </a:rPr>
              <a:t>!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读一读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想一想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说一说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写一写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: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6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训诫         耸立         峭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嶙峋         啜泣         纳罕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迂回          凝视             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头晕目眩        心惊肉跳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08720" y="3789360"/>
            <a:ext cx="15987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读一读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想一想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课文主要记叙了什么事情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(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可以概括回答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这件事情发生在什么时候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什么地方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发生的原因是什么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爬悬崖的有几个孩子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悬崖有多高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岩石架有多高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“我”为什么“一时拿不定主意”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后来又为什么跟着伙伴们去爬山了呢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“我”在爬山途中都遇到了哪些困难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当时“我”是怎么想的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后来“我”又是怎样脱险的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脱险以后“我”有什么感觉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主要内容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文章记叙了“我”童年时和小伙伴攀登悬崖时在半途中陷入困境，最后在父亲的指点下爬下悬崖、化险为夷的经过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复述要求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跳读课文，抓住以上讨论要点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②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重点细节，尤其是脱险部分，尽量用课文原句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③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口齿清楚，能正确表达感情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614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说一说</a:t>
            </a: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2358720"/>
            <a:ext cx="79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</a:rPr>
              <a:t>读了这个故事，你有什么感想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35640" y="3716280"/>
            <a:ext cx="223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7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人生哲理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336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在人生的路上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不管面对怎样的艰难险阻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只要把大困难分解成小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一个一个地认真地解决小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终将战胜巨大的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赢得最后的胜利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9ac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华文彩云"/>
              </a:rPr>
              <a:t>    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华文彩云"/>
              </a:rPr>
              <a:t>合作   探究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1253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找出这部分开头的自然环境描写，想想有什么作用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父亲为什么指挥“我”先迈出左脚的一小步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这对你有什么启示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“你能办得到的。”“这似乎能办得到。”“我能办得到的。”朗读这三句话时应把重音放在哪个字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三句话的语气有什么不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后两句写出了我的什么变化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我在父亲的指导下仅仅是爬下了几米高的石架，为什么还说“我产生了巨大的成就感”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结合文章最后一段，说说你对题目“走一步，再走一步”的理解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6858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华文彩云"/>
              </a:rPr>
              <a:t>  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彩云"/>
              </a:rPr>
              <a:t>思考并回答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44640"/>
            <a:ext cx="91440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请找出反映“我”心理变化的句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子，并说说作者这样写真实可信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课文是如何来写“走一步”的，又是如何来写“再走一步”的？你认为这样安排详略有何好处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30:31Z</dcterms:created>
  <dc:creator>wutao</dc:creator>
  <dc:description/>
  <dc:language>en-US</dc:language>
  <cp:lastModifiedBy>a</cp:lastModifiedBy>
  <dcterms:modified xsi:type="dcterms:W3CDTF">2004-12-16T00:55:51Z</dcterms:modified>
  <cp:revision>100</cp:revision>
  <dc:subject/>
  <dc:title>幻灯片 1</dc:title>
</cp:coreProperties>
</file>