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1C9-3E90-4408-8AC9-51BBE58B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9F5-BB7A-400A-9732-00FD3BF2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263-E6AD-4559-AC44-6E4570FB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836-02E7-4678-8704-5606927D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276-6D4C-4FC1-837C-0E347775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899E-B5C0-4EF3-91CD-1E91C12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726C-976B-4917-B597-74648E6B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295-B209-4328-92EE-0FB4D977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175F-43D1-4677-BDF5-30FC0B6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90F0-C6A2-4B08-AD93-E5367A2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253D-1F3D-4893-B526-0D846FC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384-FBBE-47A3-9810-3EE9E6F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538-9A96-4A9A-A3AA-6A37254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7023-3F50-4CC6-8CE9-9B6DB23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0A5-8764-4167-A06E-F410150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F4EE-7AB0-48DE-B858-34C938EC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9749-A89F-453E-9B02-C5933837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B25-88E9-427F-BD28-10104CC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EC1-9AE8-492E-9BB6-A632A730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681-C330-43D1-ADF8-1946B050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1AB-C0DE-46AE-A763-C9DFE00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B0F-2D10-411D-A8E3-7ED6112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7C5-4EBF-45DF-A1B0-0EED19A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B91-5AB9-458A-AA47-C57F0E9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AE1-700B-472F-AEFD-79833EAC5948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F42A-E88B-4370-8DDA-328AD6B1F48D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6880" y="53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初中语文第一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2565360"/>
            <a:ext cx="705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4495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莫顿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·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亨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1484280"/>
            <a:ext cx="8424720" cy="4540680"/>
          </a:xfrm>
          <a:prstGeom prst="rect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79880" y="549360"/>
            <a:ext cx="2779200" cy="70344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隶书"/>
              </a:rPr>
              <a:t>讨               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22400" y="1479600"/>
            <a:ext cx="420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找出课文中描写“我”爬下悬崖时的语句和“我”走第一步时的动词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这几个动词突出了“我”的什么心理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5240" y="2827440"/>
            <a:ext cx="37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课文什么地方写“我”再走一步？“走一步”和“再走一步”在写法上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有什么不同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5800" y="2251080"/>
            <a:ext cx="41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父亲指点“我”爬下悬崖时，“我”的心理有什么变化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01920" y="3711600"/>
            <a:ext cx="479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父亲是怎么知道“我”陷入困境的？课文中几次写到杰利？是详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还是略写？能否略去不写杰利？为什么？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6000" y="4556160"/>
            <a:ext cx="48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5.“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啜泣”是什么意思？课文中几次写到“啜泣”？含义有什么不同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32080" y="5132520"/>
            <a:ext cx="471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爬悬崖这件事给了“我”什么启示？（“我”永远忘不了的经验指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的是什么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5950080"/>
            <a:ext cx="842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72240" y="2898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爬悬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1197000"/>
            <a:ext cx="503280" cy="396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3536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毫无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35360" y="29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35360" y="491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341360"/>
            <a:ext cx="86508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50920" y="2421000"/>
            <a:ext cx="8636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7280" y="21081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走 一 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3357720"/>
            <a:ext cx="865080" cy="863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80000" y="4292640"/>
            <a:ext cx="863280" cy="86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39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再走一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36600" y="2108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详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07880" y="397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略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79720" y="3332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记事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1720" y="5641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启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8080" y="621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说理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2080" y="614520"/>
            <a:ext cx="729360" cy="45972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9548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72600" y="1484280"/>
            <a:ext cx="576720" cy="39888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面对困难，不畏惧害怕，要冷静分析，循序渐进，克服困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2600" y="2276640"/>
            <a:ext cx="576720" cy="70380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千里之行，始于足下。实现远大理想，要从小事做起，小进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会积累成大成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28480" y="4581360"/>
            <a:ext cx="649800" cy="39888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详略得当、以事寓理、以小见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7360" y="3500280"/>
            <a:ext cx="1095120" cy="45972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写作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49360"/>
            <a:ext cx="1873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反馈练习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15920" y="1622520"/>
            <a:ext cx="589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课文主要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写“我”（                              ）的过程，写我爬下悬崖走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一步时的动词是（                  ），这几个动词突出了我的（             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的心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1800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跟小伙伴们爬悬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1240" y="1916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伸、探、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59720" y="19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小心翼翼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0360" y="3116160"/>
            <a:ext cx="488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文中两次写到“啜泣”，含义不同。第一次是（                        ），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二次是（                                                              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54840" y="3141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恐惧、伤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7880" y="342900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惊喜、委屈、感动、余悸、成就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82440" y="4437000"/>
            <a:ext cx="591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在征服悬崖的过程中作者详细地写出了“我”的心理变化：最初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             ）、继而是（                 ），随后是（                  ）最后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觉得自己有一种巨大的（           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24080" y="47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亳无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164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04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4960" y="501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成就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1880" y="585144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我永远忘不了的经验指的是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4440" y="5851440"/>
            <a:ext cx="20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要着眼于最初的小小一步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走了这一步后再走下一步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直到抵达我要到的地方为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1280" y="62064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 学 目 标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844640"/>
            <a:ext cx="5977080" cy="720720"/>
          </a:xfrm>
          <a:prstGeom prst="rect">
            <a:avLst/>
          </a:prstGeom>
          <a:solidFill>
            <a:srgbClr val="ffff99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292428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07664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522936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4800" y="2060640"/>
            <a:ext cx="43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掌 握 重 点 词 语 “ 啜 泣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小 心 翼 翼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伸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探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踩”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0400" y="314172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精读课文第三部分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把握“我”爬悬崖时的心理变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292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了解学习详略得当、以小见大、以事寓理的写作方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44560" y="55166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培养学生树立自信、克服困难、取得成功的心理素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956720" y="6381720"/>
            <a:ext cx="7189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14480" cy="108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3280" y="1989000"/>
            <a:ext cx="216000" cy="936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1700280"/>
            <a:ext cx="576000" cy="396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3573360"/>
            <a:ext cx="2303280" cy="216000"/>
          </a:xfrm>
          <a:prstGeom prst="rightArrow">
            <a:avLst>
              <a:gd name="adj1" fmla="val 50000"/>
              <a:gd name="adj2" fmla="val 266583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23600" y="137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重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23600" y="5340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难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140328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80000" y="1989000"/>
            <a:ext cx="35640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理解“我”爬悬崖时的心理变化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5877000"/>
            <a:ext cx="35640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学习写作方法，培养心理  素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121440" cy="4567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03080" y="1268280"/>
            <a:ext cx="485280" cy="1708200"/>
          </a:xfrm>
          <a:prstGeom prst="rect">
            <a:avLst/>
          </a:prstGeom>
          <a:solidFill>
            <a:srgbClr val="ffff99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青            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4840" y="87984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大    雪    压    青    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6320" y="87984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青    松    挺    且    直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8320" y="88128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要    知    松    高    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1960" y="88380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待    到    雪    化    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64360" y="3068640"/>
            <a:ext cx="360360" cy="86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80808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陈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46800" y="1052640"/>
            <a:ext cx="7285680" cy="5031720"/>
          </a:xfrm>
          <a:prstGeom prst="rect">
            <a:avLst/>
          </a:prstGeom>
          <a:solidFill>
            <a:srgbClr val="99cc0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612720" y="907920"/>
            <a:ext cx="10009080" cy="18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066680" y="19051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雪纷飞，冰天雪地，青松不畏严寒，生机勃勃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傲然挺立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青少年要学习青松坚强不屈的精神，遇到困难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树立信心，去克服困难取得成功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2565360"/>
            <a:ext cx="705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32240" y="419040"/>
            <a:ext cx="3167640" cy="94716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听课文录音思考完成下列问题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4920" y="2060640"/>
            <a:ext cx="2939040" cy="283716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课文写了一件什么事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标明每个自然段的序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用波浪线划出课文中写“我”的心理活动的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课文哪一段写悬崖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30:31Z</dcterms:created>
  <dc:creator>wutao</dc:creator>
  <dc:description/>
  <dc:language>en-US</dc:language>
  <cp:lastModifiedBy>a</cp:lastModifiedBy>
  <dcterms:modified xsi:type="dcterms:W3CDTF">2004-12-16T00:59:35Z</dcterms:modified>
  <cp:revision>100</cp:revision>
  <dc:subject/>
  <dc:title>幻灯片 1</dc:title>
</cp:coreProperties>
</file>