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3B6B-2D88-469B-8F35-F60C7F00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4608-B6C9-4D15-867A-F80375D9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9E04-F27D-4F6A-A76D-19C3A896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4F8D-C737-447C-87A5-291498D8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7D3C-CBAE-4617-A6D9-3B756FD6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CE5B-A8B4-45F2-852D-3AFD15EF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66D7-A524-4628-A748-F00B3E76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E47F-851C-4D4D-BB4E-70591804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484-796A-4E0A-8A58-596709A2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BB32-BC9A-465B-BF4F-9D9B9CF1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4EA6-5C6B-4FD9-9273-F5756E50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01A4-83EB-4466-BA8C-1A548846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DF20-6EBA-4A4E-91C2-2A20CA17E5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-1371600" y="1828800"/>
            <a:ext cx="91440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3492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走一步，</a:t>
            </a:r>
            <a:endParaRPr b="1" lang="en-US" sz="9600" spc="1" strike="noStrike">
              <a:ln w="3492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3492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     </a:t>
            </a:r>
            <a:r>
              <a:rPr b="1" lang="zh-CN" sz="9600" spc="1" strike="noStrike">
                <a:ln w="3492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再走一步</a:t>
            </a:r>
            <a:endParaRPr b="1" lang="en-US" sz="9600" spc="1" strike="noStrike">
              <a:ln w="3492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104880" y="17784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      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1676520"/>
            <a:ext cx="739152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xùn           jiè             lín            xú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训      诫      嶙      峋 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          chuò         n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眩      啜     纳     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104880" y="17784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      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676520"/>
            <a:ext cx="739152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xùn           jiè             lín            xú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训      诫      嶙      峋 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          chuò         nà            hǎ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眩      啜     纳     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训诫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嶙峋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啜泣：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纳罕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小心翼翼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04880" y="17784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      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训诫：告诫，教导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嶙峋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啜泣：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纳罕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小心翼翼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04880" y="17784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      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训诫：告诫，教导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嶙峋：形容人瘦削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啜泣：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纳罕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小心翼翼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04880" y="17784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      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训诫：告诫，教导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嶙峋：形容人瘦削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啜泣：抽噎，抽抽搭搭地哭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纳罕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小心翼翼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4880" y="17784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      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训诫：告诫，教导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嶙峋：形容人瘦削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啜泣：抽噎，抽抽搭搭地哭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纳罕：惊奇，诧异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小心翼翼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04880" y="17784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      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训诫：告诫，教导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嶙峋：形容人瘦削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啜泣：抽噎，抽抽搭搭地哭。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纳罕：惊奇，诧异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小心翼翼：谨慎小心，丝毫不敢疏忽的样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04880" y="17784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      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 朗读课文，复述故事情节，说说你从中悟出了什么生活哲理。 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 在下边两种情况下，你将分别说些什么，做些什么？说出来与同学交流一下。 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如“我”的父亲没有来，你作为“我”的同学，将怎么办？ 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如你是“我”，孤身一人在悬崖上，将怎么办？ 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△生活中难免遇到困难。你遇到过什么困难？是怎样处理的？  有什么经验教训？写出来，班里出一期专栏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2286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研讨与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训诫  耸立  迂回  凝视  啜泣    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罕  瘦骨嶙峋  心惊肉跳</a:t>
            </a:r>
            <a:r>
              <a:rPr b="0" lang="zh-CN" sz="2000" spc="-1" strike="noStrike">
                <a:solidFill>
                  <a:srgbClr val="99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2286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读一读，写一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187640"/>
            <a:ext cx="3200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214280"/>
            <a:ext cx="82296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走一步，再走一步》是美国作家莫顿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亨特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那年写的回忆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时一次爬悬崖的经历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把这一经验推而广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为人生的宝贵财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为战胜一切艰难的法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篇课文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容上很有咀嚼的余地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别是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眼于那最初的一小步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一句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喻意值得咀嚼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的是困难再大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是可以分解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大困难分解成一个个小困难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不难克服了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篇课文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足以启发我们在生活中要善于感悟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凡事要想一想其中包含一个什么道理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悟到哲理就有普遍的指导意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成为一笔精神财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善于感悟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作文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有东西可写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不起眼的题材上也能写出好文章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15960" y="10008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前       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38680" y="2286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读一读，写一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1752480"/>
            <a:ext cx="464832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志倒下的时候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命也就不再屹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歪歪斜斜的身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怎耐得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叶萧瑟  晚来风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638680" y="2286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读一读，写一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14800" y="1828800"/>
            <a:ext cx="261900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垂下头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是为了让思想扬起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若有一个不屈的灵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脚下，就会有一片坚实的土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638680" y="2286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读一读，写一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52560" y="1828800"/>
            <a:ext cx="328968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无论走向何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都会有无数双眼睛跟随着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别人那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认识了自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638680" y="2286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再　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t_1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3024360" cy="2460600"/>
          </a:xfrm>
          <a:prstGeom prst="rect">
            <a:avLst/>
          </a:prstGeom>
          <a:ln w="0">
            <a:noFill/>
          </a:ln>
        </p:spPr>
      </p:pic>
      <p:pic>
        <p:nvPicPr>
          <p:cNvPr id="87" name="054" descr=""/>
          <p:cNvPicPr/>
          <p:nvPr/>
        </p:nvPicPr>
        <p:blipFill>
          <a:blip r:embed="rId3"/>
          <a:stretch/>
        </p:blipFill>
        <p:spPr>
          <a:xfrm>
            <a:off x="609480" y="5715000"/>
            <a:ext cx="1382760" cy="217440"/>
          </a:xfrm>
          <a:prstGeom prst="rect">
            <a:avLst/>
          </a:prstGeom>
          <a:ln w="0">
            <a:noFill/>
          </a:ln>
        </p:spPr>
      </p:pic>
      <p:pic>
        <p:nvPicPr>
          <p:cNvPr id="88" name="054" descr=""/>
          <p:cNvPicPr/>
          <p:nvPr/>
        </p:nvPicPr>
        <p:blipFill>
          <a:blip r:embed="rId4"/>
          <a:stretch/>
        </p:blipFill>
        <p:spPr>
          <a:xfrm>
            <a:off x="3429000" y="5715000"/>
            <a:ext cx="1382760" cy="217440"/>
          </a:xfrm>
          <a:prstGeom prst="rect">
            <a:avLst/>
          </a:prstGeom>
          <a:ln w="0">
            <a:noFill/>
          </a:ln>
        </p:spPr>
      </p:pic>
      <p:pic>
        <p:nvPicPr>
          <p:cNvPr id="89" name="054" descr=""/>
          <p:cNvPicPr/>
          <p:nvPr/>
        </p:nvPicPr>
        <p:blipFill>
          <a:blip r:embed="rId5"/>
          <a:stretch/>
        </p:blipFill>
        <p:spPr>
          <a:xfrm>
            <a:off x="2057400" y="5715000"/>
            <a:ext cx="1382760" cy="217440"/>
          </a:xfrm>
          <a:prstGeom prst="rect">
            <a:avLst/>
          </a:prstGeom>
          <a:ln w="0">
            <a:noFill/>
          </a:ln>
        </p:spPr>
      </p:pic>
      <p:pic>
        <p:nvPicPr>
          <p:cNvPr id="90" name="054" descr=""/>
          <p:cNvPicPr/>
          <p:nvPr/>
        </p:nvPicPr>
        <p:blipFill>
          <a:blip r:embed="rId6"/>
          <a:stretch/>
        </p:blipFill>
        <p:spPr>
          <a:xfrm>
            <a:off x="6172200" y="5715000"/>
            <a:ext cx="1382760" cy="217440"/>
          </a:xfrm>
          <a:prstGeom prst="rect">
            <a:avLst/>
          </a:prstGeom>
          <a:ln w="0">
            <a:noFill/>
          </a:ln>
        </p:spPr>
      </p:pic>
      <p:pic>
        <p:nvPicPr>
          <p:cNvPr id="91" name="054" descr=""/>
          <p:cNvPicPr/>
          <p:nvPr/>
        </p:nvPicPr>
        <p:blipFill>
          <a:blip r:embed="rId7"/>
          <a:stretch/>
        </p:blipFill>
        <p:spPr>
          <a:xfrm>
            <a:off x="4800600" y="5715000"/>
            <a:ext cx="1382760" cy="217440"/>
          </a:xfrm>
          <a:prstGeom prst="rect">
            <a:avLst/>
          </a:prstGeom>
          <a:ln w="0">
            <a:noFill/>
          </a:ln>
        </p:spPr>
      </p:pic>
      <p:pic>
        <p:nvPicPr>
          <p:cNvPr id="92" name="054" descr=""/>
          <p:cNvPicPr/>
          <p:nvPr/>
        </p:nvPicPr>
        <p:blipFill>
          <a:blip r:embed="rId8"/>
          <a:stretch/>
        </p:blipFill>
        <p:spPr>
          <a:xfrm>
            <a:off x="7543800" y="5715000"/>
            <a:ext cx="138276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04880" y="17784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      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676520"/>
            <a:ext cx="73915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训      诫      嶙      峋 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眩      啜     纳     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04880" y="17784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      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1676520"/>
            <a:ext cx="73915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xùn   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训      诫      嶙      峋 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眩      啜     纳     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104880" y="17784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      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676520"/>
            <a:ext cx="73915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xùn           jiè   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训      诫      嶙      峋 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眩      啜     纳     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04880" y="17784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      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1676520"/>
            <a:ext cx="73915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xùn           jiè             lín           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训      诫      嶙      峋 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眩      啜     纳     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04880" y="17784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      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676520"/>
            <a:ext cx="739152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xùn           jiè             lín            xú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训      诫      嶙      峋 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眩      啜     纳     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04880" y="17784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      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676520"/>
            <a:ext cx="739152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xùn           jiè             lín            xú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训      诫      嶙      峋 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xu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眩      啜     纳     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04880" y="17784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      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1676520"/>
            <a:ext cx="739152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xùn           jiè             lín            xú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训      诫      嶙      峋 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          chu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眩      啜     纳     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04:19:47Z</dcterms:created>
  <dc:creator>wutao</dc:creator>
  <dc:description/>
  <dc:language>en-US</dc:language>
  <cp:lastModifiedBy>a</cp:lastModifiedBy>
  <dcterms:modified xsi:type="dcterms:W3CDTF">2004-12-16T01:02:00Z</dcterms:modified>
  <cp:revision>100</cp:revision>
  <dc:subject/>
  <dc:title>PowerPoint 演示文稿</dc:title>
</cp:coreProperties>
</file>