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FFA-8021-4D18-9C86-77C1E0E6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CC1-D04B-4F20-B884-B83F51D0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D3E1-F88C-4353-8697-DB2E100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D392A-4924-486A-A93F-4636DD8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B902-2517-429A-8BDA-3CE061C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429B6-CEFA-46C2-8BB3-EA37BC8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04076-2968-45C2-A094-7EA595E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2FB50-BDEB-40AE-A144-22E263D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5415B-212F-4CB3-B47B-588D6F0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FB152-43B4-4D68-80A8-DEEDCE91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DA9DF-E614-4699-A9E3-C0D35D5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C6C-FE40-43D6-91A1-BC648681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368-0694-476C-B861-400C251F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CB9D-004C-4D5A-813A-4BF93269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FA6A-81BC-425D-9567-9761C06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507-F670-4216-98EA-659B177C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276A-C197-4677-B8B7-4A1E11C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BCCB-E6A3-4A98-88C0-36CB56A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2E6-792E-4AED-A052-5B8E120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4AF4-62B9-44FE-AF50-7F6A9FE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7C3-E081-4489-8F8A-30DC4582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4612-591C-4078-B101-3E23ACC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ECA-5120-4B80-8D1E-C5AB490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732-79B7-4E5B-B6CC-7372B63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899C-B294-46D6-BF6F-CCF851C3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74B2-6517-4474-896F-1C56E3F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3E280-A067-4FA3-829D-7FDEED8F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A677-FE58-43DC-92D0-32FDCF3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CC30E-5540-4752-822C-269ABC84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188E7-D29E-4B1A-A203-161D4CF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A1E89-2354-4BDC-8A9F-8A42E6FC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3DF-37CB-4099-9347-91D421B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CA4B0-017D-4674-9CBE-721DA31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57C5B-25AA-477F-92E1-1939537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654E6-85EB-4A9E-9325-C5E1A07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2038F-683A-4C8B-A7EA-7B8CD67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24948-7774-4DB2-9567-B961845F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79F62-4FCE-4BA9-B031-8B31A48E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1F02D-D877-4AD4-AF96-E7BFE42E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A628-ED8C-44CA-A54C-59019464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73D2-C174-4C14-AF6E-022EC52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B9AA8-9585-471D-B499-8582C68A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3EC-5821-427A-B020-8F8E056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143E-D884-4B58-A98F-B767503F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4C40-B9E8-4AE6-9B9E-03618231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45E87-8D11-4AB5-A87B-DFE71AA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2EEB-D13D-4544-9E86-34EF370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1611-13DE-4B00-B0D7-EA88966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53E82-72B9-4DB7-A21B-C56D8F9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221F-562B-46EB-AF80-25BE2F9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0FBB-7DA6-4795-B372-A5946EE9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667D-8994-4DD6-81D8-DAF69F86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7007-2206-487B-91F0-8CAD2FBF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08E-3962-47E2-84CA-77996A9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1886-62B7-48D7-B813-3DFD710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DB58-FB6A-4B24-ACDF-121B6A0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CBCB-7355-4466-9A98-F3CEB71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9703-BA45-4BEB-8CC2-B608A480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AB48-26CA-49AF-8FA4-4338589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2243-967A-4D8D-9E83-9B1CC51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94074-AFAB-42C3-9965-4145864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7F63-F502-4D16-AF57-3CF962A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5FA5-D02D-403E-8A6E-A5B3932C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F4F7-DED0-4D5D-82CD-8B71D6B6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FBC-9763-49EF-A7E5-B51B217E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B539-FBE4-495E-BF11-37798A80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AC4C6-9D82-4BAF-8EA4-5FCDF315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FF89-219E-49D3-97F0-F86650F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DB78D-FF97-4ACF-89B6-8D7D516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3A66-2704-4985-A95F-EDF68DB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B760-9508-47EE-9AEA-ACFCC9B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61C7-B583-4EEE-AB42-46F237B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309A-0372-427F-A00B-9EFD3B34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16A7-1D57-4C0D-A5F8-E43C343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9E75-4133-455B-9322-8494935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0FD-283F-42B4-8492-D293A24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06C0-C5AF-492A-B741-A644F0D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18A0-38A0-44F8-8199-0146D74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6055-1758-43CC-B637-C16F3933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C82E-163F-49E4-8CDC-72C66B6D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41A5-5B93-415F-BF6A-4C5323A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0A97-E909-4B4E-968F-B19C1E6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FF8B-0035-4B0F-BCDE-97C341D7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FBCC-30BC-4731-95EE-004A6BB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7543-A13A-44D4-B800-3D44A526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19C0-5388-487F-A6E5-972B510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329-CC5B-48D8-A38B-16514B5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1084-EDC0-4335-B7C6-54A6D50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E599-1CC4-4849-B809-088B22A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B89A-5DA0-44D7-9C08-8E5A602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EEAA5-FAAF-477E-BF4D-1A3E091C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1ED49-0F5C-4B2F-9031-26051750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5CEE-3A71-4C8A-9C90-793CD136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518BF-4B9F-4AC9-B018-575CE46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4237-A01D-4597-A696-C69502F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F025-22D3-4439-9CF5-A105B91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71871-71E7-4487-8A5E-7E7FE8E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B52-D57B-4127-8CF1-159BFDA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19149-41CC-4EAE-B5EC-399399F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0D4E3-D815-4373-B221-AFF0433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C658-B495-44E7-AF35-189FEBF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F1C4-D2A0-4642-9993-B48832E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FE0E-5795-4299-BFC5-6666AF8D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A9AC2-409E-4228-9B1B-204CCEA7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98C69-A049-4193-AB96-9BAB0B5E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B216F-0BB8-472C-8BE3-855C80AE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3A8D-F68D-4A1D-9158-F1CDA2F0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6E10C-A489-44BB-AEC0-896AA1F1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5D3-1BF4-4168-A2A0-205EB89A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C2D2-BB9D-4209-8348-4390199F97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5B6-CC58-4B69-91B5-3470888DA8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C0B-B5F0-4338-8EE0-6E3C4171B827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68AD-108F-4EB5-8F04-D4BECA3DF73C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6ABA-A7BF-415F-B9D1-77D2DC866B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94E8-F16A-4060-A456-B5C2FD7CB0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221-F510-440B-BB8F-4D7DF3E7DA3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F13-E4D2-40AD-A3D1-F6890F3118A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71640" y="119700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sea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637360" y="134136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宋体"/>
              </a:rPr>
              <a:t>生命   生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06960" y="4076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宋体"/>
              </a:rPr>
              <a:t>杏林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1997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年台湾发生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白晓燕事件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后，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</a:rPr>
              <a:t>台湾民间发动“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504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为台湾而走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大游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</a:rPr>
              <a:t>行，十万人游行队伍的领头人是坐在轮椅上的杏林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  <a:ea typeface="宋体"/>
              </a:rPr>
              <a:t>我们一群同事联名声援她，并称赞她说，像她这样的残疾人，本应受别人的照顾，可她却不断为别人发出热和光。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56000" y="494172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她回信说：“我没你们想象的那么了不起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plit dir="in" orient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讲个笑话给你听：有人溺水，岸边围了一大堆人，却无人下去救他，正在危急时，突然有一个人跳下去把那个人救上来，大家对此人的英勇均十分敬佩，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67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有人问他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‘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真伟大，你怎么有气跳下水的？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’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这人很无辜的回答说：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‘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我本来是看热闹的，因为人太挤，不小心被下水，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3429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宋体"/>
                <a:ea typeface="宋体"/>
              </a:rPr>
              <a:t>结果……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’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104280" y="4392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明白我的意思了吗？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93640" y="530064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我就是个不小心被下水的人，哈哈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六十一岁的杏林子，虽然从十二岁起就忍受着关节无止尽的疼痛，进进出出医院无数次，但……</a:t>
            </a:r>
            <a:r>
              <a:rPr b="1" lang="zh-CN" sz="3600" spc="-1" strike="noStrike">
                <a:solidFill>
                  <a:srgbClr val="ff0000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32920" y="2852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从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沒有否定生命的芬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甜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84000" y="393372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更不敢否定生命的意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834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想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着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想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着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我心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里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的哀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伤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72800" y="3429000"/>
            <a:ext cx="7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  <a:ea typeface="宋体"/>
              </a:rPr>
              <a:t>渐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標楷體"/>
              </a:rPr>
              <a:t>被敬仰所取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怀着肃穆的心情，重读故友赠我的《美丽人生的</a:t>
            </a:r>
            <a:r>
              <a:rPr b="1" lang="zh-CN" sz="3600" spc="-1" strike="noStrike">
                <a:solidFill>
                  <a:srgbClr val="ffff66"/>
                </a:solidFill>
                <a:latin typeface="標楷體"/>
                <a:ea typeface="宋体"/>
              </a:rPr>
              <a:t>22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种宝典》。</a:t>
            </a:r>
            <a:r>
              <a:rPr b="1" lang="zh-CN" sz="3600" spc="-1" strike="noStrike">
                <a:solidFill>
                  <a:srgbClr val="ffff66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00800" y="3967200"/>
            <a:ext cx="34725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在经历了那些欢笑或眼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甜蜜或辛酸，种种磨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心房的碎裂，长夜孤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81480" y="2162160"/>
            <a:ext cx="327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书中的最后一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彷佛是她的诀别书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我们跌跌撞撞、恓恓惶惶走过一生，面对生命大限，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48440" y="2233440"/>
            <a:ext cx="3472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或不甘不舍，或厌烦唾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总有太多的人事瓜葛不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牵扯不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57280" y="4610160"/>
            <a:ext cx="4721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又有几人能豁达、潇洒从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我轻轻的招手，作别西天的云彩’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3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4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回顾一生，不论这回顾有多少的不堪，既然这是必然的结局，无从逃避，也无人可以豁免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59280" y="3645000"/>
            <a:ext cx="5724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57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就放下劳顿的身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放下一切的是非恩怨，</a:t>
            </a:r>
            <a:br>
              <a:rPr sz="4000"/>
            </a:b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宋体"/>
              </a:rPr>
              <a:t>只有感谢和赞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怀念和祝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40520" y="256536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文鼎粗隸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对生命敬虔的一鞠躬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51160" y="2787480"/>
            <a:ext cx="139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16600" y="2852640"/>
            <a:ext cx="139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73040" y="4322880"/>
            <a:ext cx="3838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所有曾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与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我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们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相</a:t>
            </a:r>
            <a:r>
              <a:rPr b="1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伴偕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或交错而错过的朋友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杏林子简洁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-252720" y="141300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杏林子，本名刘侠，一九四二年生。十二岁患类风湿关节炎，至今与病魔纠缠未休，她写作不辍，先后出版多部文集。一九八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年当选台湾十大杰出女青年，一九八三年获得国家文艺基金散文奖。更创办伊甸残障基金，身体力行，为残障朋友服务。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年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日不幸去世，享年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61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岁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　　杏林子在作品中处处流露对人、对社会的关爱之情，讴歌天地间种种的美，抒发她对生命的欣赏与喜悦，以过人的毅力和爱心，在繁杂晦暗的社会中透出温暖的亮光。著有《杏林小记》、《生之歌》、《心灵品管》、《行到水穷处》、《真情是一生的承诺》等多部作品。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851280" y="-5638680"/>
          <a:ext cx="182520" cy="1813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杏林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2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                                 </a:t>
                      </a:r>
                      <a:r>
                        <a:rPr b="0" lang="en-US" sz="115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7" name="xinglinzi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4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323640" y="541080"/>
            <a:ext cx="22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35440" y="53352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爱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95600" y="40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人欠我或我欠人．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16520" y="51444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恋过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052880" y="138744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恨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过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96000" y="1387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怨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过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964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宋体"/>
                <a:ea typeface="宋体"/>
              </a:rPr>
              <a:t>因为他们，丰富了我们的生命；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trips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38360" y="836640"/>
            <a:ext cx="40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上帝，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让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我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们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走了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这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一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64160" y="2060640"/>
            <a:ext cx="28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也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自己，不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虚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mph" presetID="20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7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8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9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042920" y="620280"/>
            <a:ext cx="6500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杏林子来人世一趟，确实不虚此行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71560" y="501336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她，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将永远活在我们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的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3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95280" y="26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读一读   想一想   说一说  写一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26920" y="177336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骚扰    小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  茁壮    糟蹋    庸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负    昂然挺立      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天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撼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地   肃然起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主探究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篇文章共写了几个事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找出自己感触最深的事例，反复品读，体悟文章的内涵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划出自己认为写得最好、最精彩、最能表达作者感情的语句，并体会其作用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赏析语段中好词语的运用，比较分析看看，为什么用得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补成一句话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7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只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停地在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飞来旋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骚扰着我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令我震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令我肃然起敬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昂然挺立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以擎天撼地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可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也可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庸碌一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应许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遭遇祸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喜或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838520" y="1557000"/>
            <a:ext cx="590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．本文写的是什么内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作者是从哪几个方面来写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21760" y="270828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文章表达了作者怎样的感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4000" y="260280"/>
            <a:ext cx="30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体感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8360" y="549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合作 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907280" y="1236600"/>
            <a:ext cx="58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个事例为什么这样排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什么前两个事例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小虫子和小瓜苗这样的小生命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个事例蕴涵的意思侧重点有什么不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瓜苗仅仅活了几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说得上”擎天撼地的生命力”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杏林子永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远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活在我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们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心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83640" y="6013440"/>
            <a:ext cx="2672280" cy="76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勇者刘侠的画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6281640"/>
            <a:ext cx="2808360" cy="5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松月书室敬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家居照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248360" cy="41050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7380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文鼎粗隸"/>
                <a:ea typeface="文鼎粗隸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杏林子去世了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8000" y="1413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宋体"/>
                <a:ea typeface="宋体"/>
              </a:rPr>
              <a:t>早上刚起床就听到这个消息，心胸像被重锤敲了一下，</a:t>
            </a:r>
            <a:r>
              <a:rPr b="1" lang="zh-CN" sz="4000" spc="-1" strike="noStrike">
                <a:solidFill>
                  <a:srgbClr val="ff7c8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69000" y="331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令我脚步踉跄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15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971640" y="2923920"/>
            <a:ext cx="6983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她在几天前还通过电邮跟我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约好，等她身体比较健壮了，就到马来西亚来跟读者见面。</a:t>
            </a:r>
            <a:r>
              <a:rPr b="0" lang="zh-CN" sz="4000" spc="-1" strike="noStrike">
                <a:solidFill>
                  <a:srgbClr val="ffff00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00360" y="54936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我跌坐在客厅一隅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默默缅怀她的一切；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11280" y="2205000"/>
            <a:ext cx="76327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以残弱的身子扛起的重负，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对亲友、残障孩子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自然山水、世间万物的热爱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80240" y="4467240"/>
            <a:ext cx="41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那些激励人心的文章……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2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594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00"/>
                </a:solidFill>
                <a:latin typeface="宋体"/>
                <a:ea typeface="宋体"/>
              </a:rPr>
              <a:t>前年我到台北县新店市杏林子的家探望她，告别时很自然的就伸手要跟她握别，</a:t>
            </a:r>
            <a:r>
              <a:rPr b="0" lang="zh-CN" sz="4000" spc="-1" strike="noStrike">
                <a:solidFill>
                  <a:srgbClr val="336600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00000" y="5261040"/>
            <a:ext cx="59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可是，她却无力伸手。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4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826920" y="836640"/>
            <a:ext cx="777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她教我摸她的肩膀，我只触摸到软绵绵的肤肌，骨骼都被病菌蚀掉了，双手仅赖着肤肌吊在身上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03280" y="3429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刹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那间，我的热泪夺眶而出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83040" y="489600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可是杏林子却以爽朗的笑声送别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9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752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这几年来，杏林子都把她的新作交给《星洲日报》刊载，因此和我、艈林、颂勤同事常有书信往来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1:51:41Z</dcterms:created>
  <dc:creator>wutao</dc:creator>
  <dc:description/>
  <dc:language>en-US</dc:language>
  <cp:lastModifiedBy>zj</cp:lastModifiedBy>
  <dcterms:modified xsi:type="dcterms:W3CDTF">2004-07-19T07:37:03Z</dcterms:modified>
  <cp:revision>100</cp:revision>
  <dc:subject/>
  <dc:title>投影片 1</dc:title>
</cp:coreProperties>
</file>