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7.gif" ContentType="image/gif"/>
  <Override PartName="/ppt/media/image5.jpeg" ContentType="image/jpeg"/>
  <Override PartName="/ppt/media/image1.jpeg" ContentType="image/jpeg"/>
  <Override PartName="/ppt/media/image3.gif" ContentType="image/gif"/>
  <Override PartName="/ppt/media/image12.png" ContentType="image/png"/>
  <Override PartName="/ppt/media/image4.png" ContentType="image/png"/>
  <Override PartName="/ppt/media/image10.jpeg" ContentType="image/jpeg"/>
  <Override PartName="/ppt/media/image2.gif" ContentType="image/gif"/>
  <Override PartName="/ppt/media/image6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F0F-C344-49C8-B871-6924BB45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7CE-89FB-4238-81A8-9251F02E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5E4-F3A9-489E-80D7-A5B070FC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185-B93F-49C6-A153-69AD7315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2C6-38B2-4A29-98C9-9554ECC5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B63-BE8D-493D-8CB3-0F643393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A74-3749-4C3B-806F-9E4031DD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3B7-15BF-499E-9448-8B3A76F1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9D5-E93E-4FED-9756-2500B40B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434-1C1E-4576-A8E9-ECF3354D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F2C-E18B-4D16-B990-08C89F9E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A28-C579-4AD5-97B3-DFCD4D58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960D-ABB5-4E40-B49E-C12BCBE0A4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5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43000" y="1087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493200" y="1179360"/>
            <a:ext cx="4727520" cy="358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生命   生命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  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  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pic>
        <p:nvPicPr>
          <p:cNvPr id="43" name="3004" descr=""/>
          <p:cNvPicPr/>
          <p:nvPr/>
        </p:nvPicPr>
        <p:blipFill>
          <a:blip r:embed="rId2"/>
          <a:stretch/>
        </p:blipFill>
        <p:spPr>
          <a:xfrm>
            <a:off x="1295280" y="2590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4" name="BUT2_ANM" descr=""/>
          <p:cNvPicPr/>
          <p:nvPr/>
        </p:nvPicPr>
        <p:blipFill>
          <a:blip r:embed="rId3"/>
          <a:stretch/>
        </p:blipFill>
        <p:spPr>
          <a:xfrm>
            <a:off x="3733920" y="1930320"/>
            <a:ext cx="914400" cy="660600"/>
          </a:xfrm>
          <a:prstGeom prst="rect">
            <a:avLst/>
          </a:prstGeom>
          <a:ln w="0">
            <a:noFill/>
          </a:ln>
        </p:spPr>
      </p:pic>
      <p:pic>
        <p:nvPicPr>
          <p:cNvPr id="45" name="BUT2_ANM" descr=""/>
          <p:cNvPicPr/>
          <p:nvPr/>
        </p:nvPicPr>
        <p:blipFill>
          <a:blip r:embed="rId4"/>
          <a:stretch/>
        </p:blipFill>
        <p:spPr>
          <a:xfrm>
            <a:off x="5334120" y="952560"/>
            <a:ext cx="114300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BUT2_ANM" descr=""/>
          <p:cNvPicPr/>
          <p:nvPr/>
        </p:nvPicPr>
        <p:blipFill>
          <a:blip r:embed="rId5"/>
          <a:stretch/>
        </p:blipFill>
        <p:spPr>
          <a:xfrm>
            <a:off x="4648320" y="3309840"/>
            <a:ext cx="1218960" cy="88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-30492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“瓜子抗争”一例中的“竟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居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冒出了一截小瓜苗。那小小的种子里，包含了一种怎样的力量，竟使它可以冲破坚硬的外壳，在没有阳光、没有泥土的砖缝中，不屈（倔强）地向上，茁壮生长，昂然挺立。它仅仅活了几天，但是，那一股足以擎天撼地的生命力，令我肃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起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十分敬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!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否换用括号里的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90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赏析语段中的好词语，比较分析看看，为什么用得好？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J_029" descr=""/>
          <p:cNvPicPr/>
          <p:nvPr/>
        </p:nvPicPr>
        <p:blipFill>
          <a:blip r:embed="rId1"/>
          <a:stretch/>
        </p:blipFill>
        <p:spPr>
          <a:xfrm>
            <a:off x="0" y="137160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03680" y="304920"/>
            <a:ext cx="9693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作者对生命的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善待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            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生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珍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         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不懈努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2514600"/>
            <a:ext cx="99072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156360" y="3124080"/>
            <a:ext cx="99072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838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冰心老人说：“宇宙是一个大的生命，江流入海，落叶归根，我们是宇宙中的一息，我们是大生命中的一分子，不是每一道江都能流入大海，不是每一粒种子都能发芽，生命中不是永远快乐，也不是永远痛苦，快乐与痛苦是相辅相成的，在快乐中，我们要感谢生命，在痛苦中，我们也要感谢生命，因为快乐、兴奋、痛苦又何尝不是美丽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43000" y="1087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 rot="5400000">
            <a:off x="493200" y="1179360"/>
            <a:ext cx="4727520" cy="358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生命   生命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  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  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3004" descr=""/>
          <p:cNvPicPr/>
          <p:nvPr/>
        </p:nvPicPr>
        <p:blipFill>
          <a:blip r:embed="rId3"/>
          <a:stretch/>
        </p:blipFill>
        <p:spPr>
          <a:xfrm>
            <a:off x="1295280" y="2590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1" name="BUT2_ANM" descr=""/>
          <p:cNvPicPr/>
          <p:nvPr/>
        </p:nvPicPr>
        <p:blipFill>
          <a:blip r:embed="rId4"/>
          <a:stretch/>
        </p:blipFill>
        <p:spPr>
          <a:xfrm>
            <a:off x="5410080" y="228600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72" name="BUT2_ANM" descr=""/>
          <p:cNvPicPr/>
          <p:nvPr/>
        </p:nvPicPr>
        <p:blipFill>
          <a:blip r:embed="rId5"/>
          <a:stretch/>
        </p:blipFill>
        <p:spPr>
          <a:xfrm>
            <a:off x="4800600" y="449568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73" name="BUT2_ANM" descr=""/>
          <p:cNvPicPr/>
          <p:nvPr/>
        </p:nvPicPr>
        <p:blipFill>
          <a:blip r:embed="rId6"/>
          <a:stretch/>
        </p:blipFill>
        <p:spPr>
          <a:xfrm>
            <a:off x="3581280" y="3733920"/>
            <a:ext cx="96048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43000" y="1087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 rot="5400000">
            <a:off x="188640" y="1029960"/>
            <a:ext cx="4727520" cy="3581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生命   生命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  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  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3004" descr=""/>
          <p:cNvPicPr/>
          <p:nvPr/>
        </p:nvPicPr>
        <p:blipFill>
          <a:blip r:embed="rId5"/>
          <a:stretch/>
        </p:blipFill>
        <p:spPr>
          <a:xfrm>
            <a:off x="990720" y="25146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8" name="BUT2_ANM" descr=""/>
          <p:cNvPicPr/>
          <p:nvPr/>
        </p:nvPicPr>
        <p:blipFill>
          <a:blip r:embed="rId6"/>
          <a:stretch/>
        </p:blipFill>
        <p:spPr>
          <a:xfrm>
            <a:off x="4876920" y="1143000"/>
            <a:ext cx="213336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BUT2_ANM" descr=""/>
          <p:cNvPicPr/>
          <p:nvPr/>
        </p:nvPicPr>
        <p:blipFill>
          <a:blip r:embed="rId7"/>
          <a:stretch/>
        </p:blipFill>
        <p:spPr>
          <a:xfrm>
            <a:off x="6400800" y="2743200"/>
            <a:ext cx="1905120" cy="1219320"/>
          </a:xfrm>
          <a:prstGeom prst="rect">
            <a:avLst/>
          </a:prstGeom>
          <a:ln w="0">
            <a:noFill/>
          </a:ln>
        </p:spPr>
      </p:pic>
      <p:pic>
        <p:nvPicPr>
          <p:cNvPr id="80" name="BUT2_ANM" descr=""/>
          <p:cNvPicPr/>
          <p:nvPr/>
        </p:nvPicPr>
        <p:blipFill>
          <a:blip r:embed="rId8"/>
          <a:stretch/>
        </p:blipFill>
        <p:spPr>
          <a:xfrm>
            <a:off x="4343400" y="3962520"/>
            <a:ext cx="19051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0"/>
            <a:ext cx="7924680" cy="19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命  生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杏林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夜晚，我在灯下写稿，一只飞蛾不停地在我头顶上方飞来旋去，骚扰着我。趁它停在眼前小憩时，我一伸手捉住了它，我原想弄死它，但它鼓动双翅，极力挣扎，我感到一股生命的力量在我手中跃动，那样强烈！那样鲜明！这样一只小小的飞蛾，只要我的手指稍一用力，它就不能再动了，可是那双翅膀在我手中挣扎，那种生之欲望令我震惊，使我忍不住放了它！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914400"/>
            <a:ext cx="807696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我常常想，生命是什么呢？墙角的砖缝中掉进一粒香瓜子，隔了几天，竟然冒出了一截小瓜苗。那小小的种子里，包含了一种怎样的力量，竟使它可以冲破坚硬的外壳，在没有阳光、没有泥土的砖缝中，不屈地向上，茁壮生长，昂然挺立。它仅仅活了几天，但是，那一股足以擎天撼地的生命力，令我肃然起敬！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许多年前，有一次，我借来医生的听诊器，静听自己的心跳，那一声声沉稳而有规律的跳动，给我极大的震撼，这就是我的生命，单单属于我的。我可以好好地使用它，也可以白白糟踏它；我可以使它度过一个有意义的人生，也可以任它荒废，庸碌一生。一切全在我一念之间，我必须对自己负责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685800"/>
            <a:ext cx="8077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虽然肉体的生命短暂，生老病死也往往令人无法捉摸，但是，让有限的生命发挥出无限的价值，使我们活得更为光彩有力，却在于我们自己掌握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从那一刻起，我应许自己，绝不辜负生命，绝不让它从我手中白白流失。不论未来的命运如何，遇福遇祸，或喜或忧，我都愿意为它奋斗，勇敢地活下去。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685800"/>
            <a:ext cx="8077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虽然肉体的生命短暂，生老病死也往往令人无法捉摸，但是，让有限的生命发挥出无限的价值，使我们活得更为光彩有力，却在于我们自己掌握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从那一刻起，我应许自己，绝不辜负生命，绝不让它从我手中白白流失。不论未来的命运如何，遇福遇祸，或喜或忧，我都愿意为它奋斗，勇敢地活下去。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1295280"/>
            <a:ext cx="73152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下列字词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憩        骚 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竟 然        庸 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擎天撼地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 蹋        应 许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辜 负        短 暂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52680" y="1676520"/>
            <a:ext cx="3733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飞蛾求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 </a:t>
            </a:r>
            <a:r>
              <a:rPr b="1" i="1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瓜子抗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 </a:t>
            </a:r>
            <a:r>
              <a:rPr b="1" i="1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倾听心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UT2_ANM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838080" cy="745920"/>
          </a:xfrm>
          <a:prstGeom prst="rect">
            <a:avLst/>
          </a:prstGeom>
          <a:ln w="0">
            <a:noFill/>
          </a:ln>
        </p:spPr>
      </p:pic>
      <p:pic>
        <p:nvPicPr>
          <p:cNvPr id="57" name="HEART" descr=""/>
          <p:cNvPicPr/>
          <p:nvPr/>
        </p:nvPicPr>
        <p:blipFill>
          <a:blip r:embed="rId3"/>
          <a:stretch/>
        </p:blipFill>
        <p:spPr>
          <a:xfrm>
            <a:off x="6934320" y="4724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44197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赏析语段中好词语，比较分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1523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找出自己感触最深的事例，从字、词、句或从事例本身出发，谈谈你的感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07:58:34Z</dcterms:created>
  <dc:creator>wutao</dc:creator>
  <dc:description/>
  <dc:language>en-US</dc:language>
  <cp:lastModifiedBy>zyb2</cp:lastModifiedBy>
  <dcterms:modified xsi:type="dcterms:W3CDTF">2004-09-17T06:54:28Z</dcterms:modified>
  <cp:revision>100</cp:revision>
  <dc:subject/>
  <dc:title>PowerPoint 演示文稿</dc:title>
</cp:coreProperties>
</file>