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9AE-0C13-4849-B674-CFC08645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0D3-2B4E-4E90-ACD6-DDF006CE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20F-731A-4A94-851C-A66C7535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C0D-BA10-4217-A0F0-688910CD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6564-C3F8-4C5A-B06E-0618F737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514A-0ABF-45E9-BAE5-30903073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FFF8-8594-4FD5-B8B1-E1C12711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C077-D504-452D-B3FF-DFE5F57E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8B7F-DA31-47CF-B80F-6C637811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374F-624B-493C-A8B3-8705C9EA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9025-2177-410F-9352-87A5BC69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BAC-C275-47A5-B734-0FB3AD6A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61AD-9551-4193-A972-701BAA71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40A9-2AFE-453F-9AAB-52EED887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ECD7-0883-47CB-BF4E-FE8A75DC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383D-8EA9-4B6A-8A17-A37FEE33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AB51-D4E1-454A-8829-59F1615B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D9F-2503-42AD-8B41-3C2DF511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AB1-C68C-461C-8BB2-5688BCBC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DE3-65C2-4D56-8C74-2ABB0009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268-1C6B-4950-8B72-6374813F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C9B-8405-4BC8-9BFA-FCD3C5BA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507-81A9-4A26-AF79-0729960D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C03-CAEA-40CA-ABB8-8DEDFB0F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20DD-B423-4C48-85AF-B91FB888517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A922-1904-4E3A-B49D-B3F3D828000C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398280" y="3141720"/>
            <a:ext cx="200916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华文彩云"/>
              </a:rPr>
              <a:t>生命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生命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55736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华文隶书"/>
              </a:rPr>
              <a:t>杏林子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66ccff"/>
                </a:solidFill>
                <a:latin typeface="华文中宋"/>
                <a:ea typeface="华文中宋"/>
              </a:rPr>
              <a:t>12</a:t>
            </a:r>
            <a:r>
              <a:rPr b="1" lang="zh-CN" sz="2400" spc="-1" strike="noStrike">
                <a:solidFill>
                  <a:srgbClr val="66ccff"/>
                </a:solidFill>
                <a:latin typeface="华文中宋"/>
                <a:ea typeface="华文中宋"/>
              </a:rPr>
              <a:t>岁时染上了类风湿关节炎，与之奋斗了近五十年。后来病情恶化，她忍着病痛，写了四十多个剧本和许多散文。但她的作品却一直流露出积极、乐观、斗志、爱和盼。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0920" y="2781360"/>
            <a:ext cx="67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某些东西只有当失去它的时候，才感到它的珍贵。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4491000"/>
            <a:ext cx="4572000" cy="2367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8480" cy="2133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457200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68360" y="476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  <a:ea typeface="黑体"/>
              </a:rPr>
              <a:t>她的弟弟刘侃在一篇怀念姐姐的的文章中说：“我常常自问，你到底怎么活的？不能吃自己想吃的东西，不能去自己想去的地方；不能自己梳个头，甚至化个自己想化的妆，到后来连大笑两声也变得奢侈，因为要带来一阵的咳嗽和气喘……”随后他意识到：“原来你把痛苦当成最好的榨汁机，压出最美、最醇的生命之泉，让每个人在灰心绝望、伤心痛苦的时候，再找回生命的勇气、方向和动力。”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4360" y="404640"/>
            <a:ext cx="57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33"/>
                </a:solidFill>
                <a:latin typeface="Arial"/>
                <a:ea typeface="华文彩云"/>
              </a:rPr>
              <a:t>读一读，写一写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2205000"/>
            <a:ext cx="6048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骚扰      小憩    糟蹋    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庸碌      辜负    昂然挺立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擎天撼地          肃然起敬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627280" y="1989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1628640"/>
            <a:ext cx="6119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33cc"/>
                </a:solidFill>
                <a:latin typeface="zypyyb"/>
                <a:ea typeface="zypyyb"/>
              </a:rPr>
              <a:t>1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o                    q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  <a:ea typeface="Arial"/>
              </a:rPr>
              <a:t>ì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             t</a:t>
            </a:r>
            <a:r>
              <a:rPr b="0" lang="zh-CN" sz="2800" spc="-1" strike="noStrike">
                <a:solidFill>
                  <a:srgbClr val="ff33cc"/>
                </a:solidFill>
                <a:latin typeface="zypyyb"/>
                <a:ea typeface="zypyyb"/>
              </a:rPr>
              <a:t>4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zh-CN" sz="2800" spc="-1" strike="noStrike">
                <a:solidFill>
                  <a:srgbClr val="ff33cc"/>
                </a:solidFill>
                <a:latin typeface="zypyyb"/>
                <a:ea typeface="zypyyb"/>
              </a:rPr>
              <a:t>#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ngl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  <a:ea typeface="Arial"/>
              </a:rPr>
              <a:t>ù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           g</a:t>
            </a:r>
            <a:r>
              <a:rPr b="0" lang="zh-CN" sz="2800" spc="-1" strike="noStrike">
                <a:solidFill>
                  <a:srgbClr val="ff33cc"/>
                </a:solidFill>
                <a:latin typeface="zypyyb"/>
                <a:ea typeface="zypyyb"/>
              </a:rPr>
              <a:t>&amp;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ff33cc"/>
                </a:solidFill>
                <a:latin typeface="zypyyb"/>
                <a:ea typeface="zypyyb"/>
              </a:rPr>
              <a:t>2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  <a:ea typeface="Arial"/>
              </a:rPr>
              <a:t>í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ng   h</a:t>
            </a:r>
            <a:r>
              <a:rPr b="0" lang="zh-CN" sz="2800" spc="-1" strike="noStrike">
                <a:solidFill>
                  <a:srgbClr val="ff33cc"/>
                </a:solidFill>
                <a:latin typeface="zypyyb"/>
                <a:ea typeface="zypyyb"/>
              </a:rPr>
              <a:t>4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n                     s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  <a:ea typeface="Arial"/>
              </a:rPr>
              <a:t>ù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26920" y="2637000"/>
            <a:ext cx="749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 Black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66ff33"/>
                </a:solidFill>
                <a:latin typeface="Arial Black"/>
                <a:ea typeface="楷体_GB2312"/>
              </a:rPr>
              <a:t>使用了</a:t>
            </a:r>
            <a:r>
              <a:rPr b="1" lang="zh-CN" sz="4800" spc="-1" strike="noStrike">
                <a:solidFill>
                  <a:srgbClr val="ff66ff"/>
                </a:solidFill>
                <a:latin typeface="Arial Black"/>
                <a:ea typeface="华文彩云"/>
              </a:rPr>
              <a:t>反复</a:t>
            </a:r>
            <a:r>
              <a:rPr b="1" lang="zh-CN" sz="4000" spc="-1" strike="noStrike">
                <a:solidFill>
                  <a:srgbClr val="66ff33"/>
                </a:solidFill>
                <a:latin typeface="Arial Black"/>
                <a:ea typeface="楷体_GB2312"/>
              </a:rPr>
              <a:t>的修辞方法，强调了</a:t>
            </a:r>
            <a:r>
              <a:rPr b="1" lang="zh-CN" sz="4800" spc="-1" strike="noStrike">
                <a:solidFill>
                  <a:srgbClr val="ff66ff"/>
                </a:solidFill>
                <a:latin typeface="Arial Black"/>
                <a:ea typeface="华文彩云"/>
              </a:rPr>
              <a:t>生命的可贵</a:t>
            </a:r>
            <a:r>
              <a:rPr b="1" lang="zh-CN" sz="4000" spc="-1" strike="noStrike">
                <a:solidFill>
                  <a:srgbClr val="66ff33"/>
                </a:solidFill>
                <a:latin typeface="Arial Black"/>
                <a:ea typeface="楷体_GB2312"/>
              </a:rPr>
              <a:t>，表达了对生命</a:t>
            </a:r>
            <a:r>
              <a:rPr b="1" lang="zh-CN" sz="4800" spc="-1" strike="noStrike">
                <a:solidFill>
                  <a:srgbClr val="ff66ff"/>
                </a:solidFill>
                <a:latin typeface="Arial Black"/>
                <a:ea typeface="华文彩云"/>
              </a:rPr>
              <a:t>强烈的呼唤</a:t>
            </a:r>
            <a:r>
              <a:rPr b="1" lang="zh-CN" sz="4000" spc="-1" strike="noStrike">
                <a:solidFill>
                  <a:srgbClr val="66ff33"/>
                </a:solidFill>
                <a:latin typeface="Arial Black"/>
                <a:ea typeface="楷体_GB2312"/>
              </a:rPr>
              <a:t>。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55640" y="1268280"/>
            <a:ext cx="67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 Black"/>
              </a:rPr>
              <a:t>课题为什么要连用两个“生命”？去掉一个是不是更简洁？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284720" y="2708280"/>
            <a:ext cx="48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 Black"/>
                <a:ea typeface="华文行楷"/>
              </a:rPr>
              <a:t>这篇文章共写了几个事例？你能用一个</a:t>
            </a:r>
            <a:r>
              <a:rPr b="1" lang="zh-CN" sz="4800" spc="-1" strike="noStrike">
                <a:solidFill>
                  <a:srgbClr val="ff66ff"/>
                </a:solidFill>
                <a:latin typeface="Arial Black"/>
                <a:ea typeface="华文彩云"/>
              </a:rPr>
              <a:t>关键词</a:t>
            </a:r>
            <a:r>
              <a:rPr b="1" lang="zh-CN" sz="3600" spc="-1" strike="noStrike">
                <a:solidFill>
                  <a:srgbClr val="00ff00"/>
                </a:solidFill>
                <a:latin typeface="Arial Black"/>
                <a:ea typeface="华文行楷"/>
              </a:rPr>
              <a:t>来概括这个事例吗？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8360" y="1557360"/>
            <a:ext cx="2087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 Black"/>
                <a:ea typeface="黑体"/>
              </a:rPr>
              <a:t>飞蛾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 Black"/>
                <a:ea typeface="黑体"/>
              </a:rPr>
              <a:t>香瓜子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 Black"/>
                <a:ea typeface="黑体"/>
              </a:rPr>
              <a:t>心跳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27280" y="907920"/>
            <a:ext cx="309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生之欲望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生命力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生命  珍视 奋斗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50920" y="54936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 Black"/>
                <a:ea typeface="华文中宋"/>
              </a:rPr>
              <a:t>你感受到作者跟你说了她的哪些想法？（可用原文回答）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708280"/>
            <a:ext cx="864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Arial Black"/>
                <a:ea typeface="华文隶书"/>
              </a:rPr>
              <a:t>我必须对自己负责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Arial Black"/>
                <a:ea typeface="华文隶书"/>
              </a:rPr>
              <a:t>让有限的生命发挥出无限的价值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Arial Black"/>
                <a:ea typeface="华文隶书"/>
              </a:rPr>
              <a:t>我愿意为它奋斗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00000" y="350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 Black"/>
              </a:rPr>
              <a:t>划出自已认为写得好的、最精彩的句子或词语，谈一谈你的体会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6920" y="1857240"/>
            <a:ext cx="54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 Black"/>
                <a:ea typeface="华文中宋"/>
              </a:rPr>
              <a:t>你对哪个事例感触最深？是什么打动了你呢？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68360" y="0"/>
            <a:ext cx="386712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体验反思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306864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阅读本文后，你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</a:rPr>
              <a:t>自已的感受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是</a:t>
            </a:r>
            <a:r>
              <a:rPr b="1" lang="zh-CN" sz="4800" spc="-1" strike="noStrike">
                <a:solidFill>
                  <a:srgbClr val="ffcc00"/>
                </a:solidFill>
                <a:latin typeface="Arial"/>
              </a:rPr>
              <a:t>什么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？在日常生活和学习中你对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华文琥珀"/>
              </a:rPr>
              <a:t>生命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有哪些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</a:rPr>
              <a:t>认识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971640" y="981000"/>
            <a:ext cx="72007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人最宝贵的是生命。生命对每个人都只有一次。这仅有的一次生命应怎样度过呢？每当回忆往事的时候，能够不为虚度年华而悔恨，不因碌碌无为而羞耻；在临死的时候，他能够说：“我的整个生命和全部精力，都以献给了世界上最壮丽的事业——为人类解放而进行的斗争。”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            </a:t>
            </a:r>
            <a:r>
              <a:rPr b="0" i="1" lang="zh-CN" sz="2000" spc="-1" strike="noStrike">
                <a:solidFill>
                  <a:srgbClr val="66ff33"/>
                </a:solidFill>
                <a:latin typeface="Arial"/>
                <a:ea typeface="华文新魏"/>
              </a:rPr>
              <a:t>——</a:t>
            </a:r>
            <a:r>
              <a:rPr b="0" i="1" lang="zh-CN" sz="2000" spc="-1" strike="noStrike">
                <a:solidFill>
                  <a:srgbClr val="66ff33"/>
                </a:solidFill>
                <a:latin typeface="Arial"/>
                <a:ea typeface="华文新魏"/>
              </a:rPr>
              <a:t>奥斯特洛夫斯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01:14:32Z</dcterms:created>
  <dc:creator>wutao</dc:creator>
  <dc:description/>
  <dc:language>en-US</dc:language>
  <cp:lastModifiedBy>zyb2</cp:lastModifiedBy>
  <dcterms:modified xsi:type="dcterms:W3CDTF">2004-09-17T06:59:43Z</dcterms:modified>
  <cp:revision>100</cp:revision>
  <dc:subject/>
  <dc:title>幻灯片 1</dc:title>
</cp:coreProperties>
</file>