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1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7A4-465D-4B7D-83DB-925CB5E7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1CD-3AF7-4CFB-88F8-09A1D14B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645-383B-4CEE-99D8-E90911CC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6AC-2F38-4804-A1A0-17056A97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331-001D-4CE7-8049-D18616F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070-E3DC-4E17-9DEF-3ECC47BC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21F-25D0-47CB-91F7-01DD525C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509-3438-4309-85D2-A69FB60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803-F028-4E11-BF6D-0CE82CB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A74-77B7-4B4E-92F7-6D3509B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5AD-0CD7-48A4-9BD1-0D0FBDFD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DBB-F996-41A5-883D-DDA9EED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3D91-280B-459E-9D15-55144DD8B4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81320" y="2209680"/>
            <a:ext cx="288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生命 生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4800" y="3726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：杏林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2286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434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iuxia1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214360" cy="31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18181"/>
                </a:solidFill>
                <a:latin typeface="Times New Roman"/>
              </a:rPr>
              <a:t>杏林子，这一位长期处于痛楚的人，这一位只有小学程度，因类风湿性关节炎而全身关节百分之八十损坏的残障者，不单没有诅咒生命，反而洋溢了对生命的歌颂和热爱。她写作不辍，出版的书深受读者们的喜爱，为引发社会对残障者的关注，不惜冒着生命危险上街请愿，成立了「伊甸残障社会福利基金会」，为台湾的弱势群体谋福利。她一生积极开朗，淡泊名利，她有一句名言：「除了爱我一无所有」，她的一生就是基督的爱的见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080" y="3549600"/>
            <a:ext cx="219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杏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942—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名 ：刘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1800" y="601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字词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0000" descr=""/>
          <p:cNvPicPr/>
          <p:nvPr/>
        </p:nvPicPr>
        <p:blipFill>
          <a:blip r:embed="rId2"/>
          <a:stretch/>
        </p:blipFill>
        <p:spPr>
          <a:xfrm>
            <a:off x="-304920" y="38289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1520" y="169236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66280" y="167652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09480" y="160020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肃然起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680" y="291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糟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652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庸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48840" y="281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5520" y="12412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29360" y="1209600"/>
            <a:ext cx="7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9440" y="1295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001" descr=""/>
          <p:cNvPicPr/>
          <p:nvPr/>
        </p:nvPicPr>
        <p:blipFill>
          <a:blip r:embed="rId2"/>
          <a:stretch/>
        </p:blipFill>
        <p:spPr>
          <a:xfrm>
            <a:off x="685800" y="5334120"/>
            <a:ext cx="78487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0026" descr=""/>
          <p:cNvPicPr/>
          <p:nvPr/>
        </p:nvPicPr>
        <p:blipFill>
          <a:blip r:embed="rId3"/>
          <a:stretch/>
        </p:blipFill>
        <p:spPr>
          <a:xfrm>
            <a:off x="762120" y="1905120"/>
            <a:ext cx="50328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0026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50328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0026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503280" cy="457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1440" y="1771560"/>
            <a:ext cx="436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目中“生命”一词，为什么连续用两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去掉一个行不行？为什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26600" y="296388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列举了哪三个事例，用一句话概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每个事例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1720" y="4259160"/>
            <a:ext cx="30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个事例蕴含的意思分别侧重哪一方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人生的三点思考 分别侧重哪 一方面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14600" y="2286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3240" y="1143000"/>
            <a:ext cx="45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说一说：文中哪些用词让你觉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特别独具匠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480" y="6019920"/>
            <a:ext cx="2286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32960" y="711360"/>
            <a:ext cx="540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感到一股生命的力量在我手中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跃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隔了几天，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竟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冒出了一截小瓜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那一股足以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擎天撼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生命力，令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肃然起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都愿意为它奋斗，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Times New Roman"/>
              </a:rPr>
              <a:t>勇敢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下去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PFAQ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1006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2362320"/>
            <a:ext cx="84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阅读本文后，结合自己的生活，说说你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感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304920"/>
            <a:ext cx="48006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体验与反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GOOGOO" descr=""/>
          <p:cNvPicPr/>
          <p:nvPr/>
        </p:nvPicPr>
        <p:blipFill>
          <a:blip r:embed="rId2"/>
          <a:stretch/>
        </p:blipFill>
        <p:spPr>
          <a:xfrm>
            <a:off x="7315200" y="3809880"/>
            <a:ext cx="125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2:09:20Z</dcterms:created>
  <dc:creator>wutao</dc:creator>
  <dc:description/>
  <dc:language>en-US</dc:language>
  <cp:lastModifiedBy>zj</cp:lastModifiedBy>
  <dcterms:modified xsi:type="dcterms:W3CDTF">2004-07-19T06:58:15Z</dcterms:modified>
  <cp:revision>100</cp:revision>
  <dc:subject/>
  <dc:title>PowerPoint 演示文稿</dc:title>
</cp:coreProperties>
</file>