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BED-7597-426E-82B4-4D59E1D8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37B-69A4-4091-BB34-0FA71A2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878-4AE6-499F-A7F3-A35F4472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726-C796-4F0D-88AC-9041507D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EBB-5AAE-43D1-A9DD-6CD06174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79F-202D-4778-95A0-32A53711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25F-A645-4BE8-8198-B8842C3D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F132-2D67-4F0B-9B0B-DCC487A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B99-ABA1-4C98-94B5-EFAFB43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D455-4691-4749-BA35-044DF66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4E45-6E43-4DE8-BAC4-D4824E9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5EB-1A56-4018-A13C-9A087F5B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EBD7-DB61-4763-A5A3-CD5FA0B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15CB-B43F-48C5-B99F-49BDF0B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7563-BDC9-4498-95D6-850B8D1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1CA7-C0BA-4B69-8A91-82143BBF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84E5-CE80-40C3-8289-535F55EB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473-FBC2-4A8E-B797-3C29F7C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62-12CC-47B0-91F8-FD040179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05E-B424-41BF-8660-3E15EE91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311-7B1C-48CE-96DF-E46DA819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DA0-1F9F-4FF5-A34F-A56E94B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D90-B887-4B77-97C3-CD9355D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49A-0838-424A-8AB8-9CB85B2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C88E-3A42-495D-A18F-31011A23D14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7AC6-8BC9-4592-AEE6-8E756FD9801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0195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     </a:t>
            </a:r>
            <a:r>
              <a:rPr b="1" lang="en-US" sz="7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生命，生命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      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         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         </a:t>
            </a: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杏林子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6996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349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、不论未来的命运如何，遇福遇祸，或喜或忧，我都愿意为它奋斗，勇敢地活下去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352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人生不是一帆风顺的，无论遇到什么挫折，我们都应该勇敢地面对，不退缩，不气馁，做生活的强者，主宰自己的命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9907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人最宝贵的是生命。生命对每个人只有一次。这仅有的一次生命应当怎样度过呢？每当回忆往事的时候，能够不为虚度年华而悔恨，不因碌碌无为而羞耻；在临死的时候，他能够说：“我的整个生命和全部精力，都已献给了世界上最壮丽的事业——为人类解放而进行的斗争。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                   ————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奥斯特洛夫斯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3520" y="992160"/>
            <a:ext cx="52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第二课时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05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2640" y="17208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一、阅读同名文章（练习题二），完成下列表格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0840" y="245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08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2438280"/>
          <a:ext cx="6477120" cy="401328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25909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蜜蜂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我的态度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我的动作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围着嗡嗡转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飞回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抖着翅出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受伤钻出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捋翅试飞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远飞消失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17528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0240" y="2995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厌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80400" y="299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立刻赶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792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失去耐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24400" y="368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拍打踩入沙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3360" y="4367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吃了一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08440" y="429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又一次踩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44400" y="484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内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0400" y="4824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弯腰察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0240" y="5433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怜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08560" y="5378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跪在地上观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0240" y="5891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敬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08560" y="591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跪了好久好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15424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二、将这篇文章与我们所学的课文相比，你更喜欢哪一篇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?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为什么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508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08040" y="314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36232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三、用一句话概括两文对于生命的共同认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如：</a:t>
            </a:r>
            <a:r>
              <a:rPr b="1" lang="en-US" sz="44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         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   的生命是美的。</a:t>
            </a:r>
            <a:r>
              <a:rPr b="1" lang="en-US" sz="44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99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662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四、延伸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我们应当怎样看待生命，怎样才能不辜负生命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14479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附：杏林子，台湾女作家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42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生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岁罹患类风湿关节炎，至今全身关节均告损坏；但写作不辍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80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当选为十大杰出女青年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83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获得国家文艺基金会散文奖，于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82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创办了伊甸残障福利基金会，为全台湾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万残障朋友服务，无私奉献她的爱心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32884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五、练习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积累警句———将课内外关于生命的哲理警句摘录出来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271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123840"/>
            <a:ext cx="6435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一、朗读课文，注意以下字的读音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骚（      ）扰              小憩  （      ）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茁（      ）壮              糟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)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蹋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庸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  )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碌（     ）      辜（     ）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昂（       ）然挺立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肃（      ）然起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擎（     ）天撼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 )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地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0960" y="106668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ā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914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83808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1360" y="10666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q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5000" y="2057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zhu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4000" y="2133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zā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5240" y="21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t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6400" y="304812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yō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852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l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45160" y="30481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g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0600" y="403848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á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7400" y="50198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s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2360" y="59436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qí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3800" y="60199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hà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905120"/>
            <a:ext cx="79567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二、思考问题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、课文写了哪些有关生命的事例？试着用自己的话概括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lide0005_image016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13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0560" y="505944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飞蛾挣扎    ——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26280" y="5059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求生欲望强烈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6524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小幼苗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64240" y="498312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香瓜子生长  ——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8280" y="498312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生命力顽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w0307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16160" y="513540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聆听心跳　——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86320" y="5181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对自己负责，珍惜生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286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5400" spc="-1" strike="noStrike">
                <a:solidFill>
                  <a:srgbClr val="5b5249"/>
                </a:solidFill>
                <a:latin typeface="Times New Roman"/>
              </a:rPr>
              <a:t>重点朗读最后三段，找出触动自己的句子来谈一谈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34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7720" y="990720"/>
            <a:ext cx="86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⑴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、我可以好好地使用它，也可以白白糟蹋它；我可以使它度过一个有意义的人生，也可以任它荒废，庸碌一生。一切全在我一念之间，我必须对自己负责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3581280"/>
            <a:ext cx="91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生命是属于我们自己的，如果我们不  珍惜时间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让岁月流逝，那么，我们便只能虚度光阴，无所事事；只有我们珍惜它，用心生活，我们才能过得充实，有意义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990720"/>
            <a:ext cx="78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、让有限的生命发挥出无限的价值，使我们活得更为光彩有力，却在于我们自己掌握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47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我们是命运的主人，只有我们努力了，生命才有意义，才能在有限的时间里最大可能地创造生活，丰富生活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7:49:18Z</dcterms:created>
  <dc:creator>wutao</dc:creator>
  <dc:description/>
  <dc:language>en-US</dc:language>
  <cp:lastModifiedBy>zj</cp:lastModifiedBy>
  <dcterms:modified xsi:type="dcterms:W3CDTF">2004-07-26T09:03:31Z</dcterms:modified>
  <cp:revision>100</cp:revision>
  <dc:subject/>
  <dc:title>生命，生命</dc:title>
</cp:coreProperties>
</file>