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chimes.wav" ContentType="audio/x-wav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3FB-C78B-4A21-8C1D-55FE563C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C63-E2F3-46B9-861D-28580DB7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DC9-C8C9-45A1-BF40-D84D43C3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15F-E771-4635-8B27-C9731F13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6AF-4932-47D0-B5F1-71247835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591-AF27-4FAC-9AC6-06A92B3D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520-892A-4E73-A7CE-B7EBE078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AFD-BE53-4B67-804B-CA24B677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7B8-5FE7-492D-8309-C20D4E70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61F-1AA4-4786-97BC-8C412EE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997-C3BE-46B3-82B9-3F703DDC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438-5292-41C0-9C03-DA0E565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F4BD-A655-45E2-979A-AC190B632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fo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7560" y="39434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杏林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48360" y="-77760"/>
            <a:ext cx="118584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华文彩云"/>
              </a:rPr>
              <a:t>生命     生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坐轮椅的战时总统罗斯福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44480" y="-834480"/>
            <a:ext cx="2069280" cy="84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坐在轮椅上的总统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罗斯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为反法西斯战争作出了卓著的贡献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hxm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473880" y="-288360"/>
            <a:ext cx="2130480" cy="72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断臂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何雪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书写灿烂的人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93960" y="228600"/>
            <a:ext cx="301464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让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华文彩云"/>
              </a:rPr>
              <a:t>生命</a:t>
            </a: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大放异彩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E01561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05520" y="4267080"/>
            <a:ext cx="40384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19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20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23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531440" y="44136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业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5440" y="1655640"/>
            <a:ext cx="513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写一则读后感，题目自拟，字数不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如：   人生的启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--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读《生命 生命》有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96080" y="57150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f3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137160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22840" y="457200"/>
            <a:ext cx="26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学习目标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880" y="2421000"/>
            <a:ext cx="183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揣摩词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感受作者强烈的思想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学习夹叙夹议的写作手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all010" descr=""/>
          <p:cNvPicPr/>
          <p:nvPr/>
        </p:nvPicPr>
        <p:blipFill>
          <a:blip r:embed="rId6"/>
          <a:stretch/>
        </p:blipFill>
        <p:spPr>
          <a:xfrm>
            <a:off x="755640" y="256536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49" name="ball010" descr=""/>
          <p:cNvPicPr/>
          <p:nvPr/>
        </p:nvPicPr>
        <p:blipFill>
          <a:blip r:embed="rId7"/>
          <a:stretch/>
        </p:blipFill>
        <p:spPr>
          <a:xfrm>
            <a:off x="755640" y="4292640"/>
            <a:ext cx="32076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274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48520" y="1052640"/>
            <a:ext cx="75103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看清字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读准字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并解释下列词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搔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)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然挺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)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惊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庸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)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糟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捉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)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23200" y="2209680"/>
            <a:ext cx="15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r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0840" y="2133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5400" y="320040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4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07800" y="4114800"/>
            <a:ext cx="15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ōn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g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l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42920" y="4114800"/>
            <a:ext cx="12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t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41560" y="51246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zhu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ō m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03840" y="5105520"/>
            <a:ext cx="8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ín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03600" y="312408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cc0000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35000" y="304920"/>
            <a:ext cx="9009000" cy="1052280"/>
            <a:chOff x="135000" y="304920"/>
            <a:chExt cx="9009000" cy="1052280"/>
          </a:xfrm>
        </p:grpSpPr>
        <p:grpSp>
          <p:nvGrpSpPr>
            <p:cNvPr id="60" name=""/>
            <p:cNvGrpSpPr/>
            <p:nvPr/>
          </p:nvGrpSpPr>
          <p:grpSpPr>
            <a:xfrm>
              <a:off x="425520" y="412560"/>
              <a:ext cx="711360" cy="474480"/>
              <a:chOff x="425520" y="412560"/>
              <a:chExt cx="711360" cy="474480"/>
            </a:xfrm>
          </p:grpSpPr>
          <p:sp>
            <p:nvSpPr>
              <p:cNvPr id="61" name=""/>
              <p:cNvSpPr/>
              <p:nvPr/>
            </p:nvSpPr>
            <p:spPr>
              <a:xfrm>
                <a:off x="425520" y="4125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08560" y="4125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49360" y="834840"/>
              <a:ext cx="737640" cy="474480"/>
              <a:chOff x="549360" y="834840"/>
              <a:chExt cx="737640" cy="474480"/>
            </a:xfrm>
          </p:grpSpPr>
          <p:sp>
            <p:nvSpPr>
              <p:cNvPr id="64" name=""/>
              <p:cNvSpPr/>
              <p:nvPr/>
            </p:nvSpPr>
            <p:spPr>
              <a:xfrm>
                <a:off x="549360" y="8348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8000" y="8348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135000" y="7617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0040" y="3049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51080" y="11260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383840" y="304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考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4080" y="1752480"/>
            <a:ext cx="318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文章记叙了哪几件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?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分别用一句话概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每一件事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7400" y="36576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这三件事分别从哪三个方面选材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0" y="8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47920" y="820800"/>
            <a:ext cx="6251400" cy="4394160"/>
            <a:chOff x="1447920" y="820800"/>
            <a:chExt cx="6251400" cy="4394160"/>
          </a:xfrm>
        </p:grpSpPr>
        <p:sp>
          <p:nvSpPr>
            <p:cNvPr id="74" name=""/>
            <p:cNvSpPr/>
            <p:nvPr/>
          </p:nvSpPr>
          <p:spPr>
            <a:xfrm>
              <a:off x="1447920" y="82080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82080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80880" y="1219320"/>
            <a:ext cx="8047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可以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好好地使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或是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白白糟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可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使它过一个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更有意义的人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或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任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荒废虚度，庸碌一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全在我一念之间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必须对自己负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27920" y="457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揣摩品味文中富有表现力的词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0" y="9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47920" y="912960"/>
            <a:ext cx="6251400" cy="4394160"/>
            <a:chOff x="1447920" y="912960"/>
            <a:chExt cx="6251400" cy="4394160"/>
          </a:xfrm>
        </p:grpSpPr>
        <p:sp>
          <p:nvSpPr>
            <p:cNvPr id="80" name=""/>
            <p:cNvSpPr/>
            <p:nvPr/>
          </p:nvSpPr>
          <p:spPr>
            <a:xfrm>
              <a:off x="1447920" y="91296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47920" y="91296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" y="1447920"/>
            <a:ext cx="804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我原想弄死它，但它鼓动着双翅，极力地挣扎，我感到一股生命的力量在我手中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跃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那样强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那样鲜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0" y="9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912960"/>
            <a:ext cx="6251400" cy="4394160"/>
            <a:chOff x="1447920" y="912960"/>
            <a:chExt cx="6251400" cy="4394160"/>
          </a:xfrm>
        </p:grpSpPr>
        <p:sp>
          <p:nvSpPr>
            <p:cNvPr id="85" name=""/>
            <p:cNvSpPr/>
            <p:nvPr/>
          </p:nvSpPr>
          <p:spPr>
            <a:xfrm>
              <a:off x="1447920" y="91296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7920" y="91296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33520" y="3124080"/>
            <a:ext cx="804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在没有阳光、没有泥土的水泥地上，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不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地向上茁长，昂然挺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0" y="8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47920" y="820800"/>
            <a:ext cx="6251400" cy="4394160"/>
            <a:chOff x="1447920" y="820800"/>
            <a:chExt cx="6251400" cy="4394160"/>
          </a:xfrm>
        </p:grpSpPr>
        <p:sp>
          <p:nvSpPr>
            <p:cNvPr id="90" name=""/>
            <p:cNvSpPr/>
            <p:nvPr/>
          </p:nvSpPr>
          <p:spPr>
            <a:xfrm>
              <a:off x="1447920" y="82080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7920" y="82080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09480" y="4495680"/>
            <a:ext cx="8047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我借来医生的听诊器，聆听自己的心跳，那一声声沉稳而有规律的跳动，给我极深的憾动，这就是我的生命，单单属于我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5880" y="230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（跳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8420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（倔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5000" y="304920"/>
            <a:ext cx="9009000" cy="1052280"/>
            <a:chOff x="135000" y="304920"/>
            <a:chExt cx="9009000" cy="1052280"/>
          </a:xfrm>
        </p:grpSpPr>
        <p:grpSp>
          <p:nvGrpSpPr>
            <p:cNvPr id="96" name=""/>
            <p:cNvGrpSpPr/>
            <p:nvPr/>
          </p:nvGrpSpPr>
          <p:grpSpPr>
            <a:xfrm>
              <a:off x="425520" y="412560"/>
              <a:ext cx="711360" cy="474480"/>
              <a:chOff x="425520" y="412560"/>
              <a:chExt cx="711360" cy="474480"/>
            </a:xfrm>
          </p:grpSpPr>
          <p:sp>
            <p:nvSpPr>
              <p:cNvPr id="97" name=""/>
              <p:cNvSpPr/>
              <p:nvPr/>
            </p:nvSpPr>
            <p:spPr>
              <a:xfrm>
                <a:off x="425520" y="4125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8560" y="4125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49360" y="834840"/>
              <a:ext cx="737640" cy="474480"/>
              <a:chOff x="549360" y="834840"/>
              <a:chExt cx="737640" cy="474480"/>
            </a:xfrm>
          </p:grpSpPr>
          <p:sp>
            <p:nvSpPr>
              <p:cNvPr id="100" name=""/>
              <p:cNvSpPr/>
              <p:nvPr/>
            </p:nvSpPr>
            <p:spPr>
              <a:xfrm>
                <a:off x="549360" y="8348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18000" y="8348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35000" y="7617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0040" y="3049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51080" y="11260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info" descr=""/>
          <p:cNvPicPr/>
          <p:nvPr/>
        </p:nvPicPr>
        <p:blipFill>
          <a:blip r:embed="rId2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957560" y="39434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杏林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9000" y="-336600"/>
            <a:ext cx="118584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华文彩云"/>
              </a:rPr>
              <a:t>生命     生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765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人，最宝贵的是生命。生命对每个人只有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次。这仅有的一次生命应当怎样度过呢？每当回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往事的时候，能够不为虚度年华而悔恨，不因碌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无为而羞耻；在临死的时候，他能够说：“我的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个生命和全部精力，都已经献给了世界上最壮丽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事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─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为人类解放而进行的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anglan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63040" y="152280"/>
            <a:ext cx="356328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高位截瘫的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桑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                 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笑对人生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0:43:44Z</dcterms:created>
  <dc:creator>wutao</dc:creator>
  <dc:description/>
  <dc:language>en-US</dc:language>
  <cp:lastModifiedBy>liying</cp:lastModifiedBy>
  <dcterms:modified xsi:type="dcterms:W3CDTF">2005-08-01T05:21:48Z</dcterms:modified>
  <cp:revision>101</cp:revision>
  <dc:subject/>
  <dc:title>PowerPoint 演示文稿</dc:title>
</cp:coreProperties>
</file>