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00BC-1F61-424E-9DB5-D6301CB75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8673-9584-4D52-9E88-4AD71ECD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D900-BF2B-443E-B3E2-B5CE3852F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ED3D-474B-4FA4-BE71-71060E14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044E-E7D4-41B5-B926-17BE8579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69A9-B786-452D-B7AA-8C02BFC1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1DF1-3F5A-4DF3-A835-D1EC5A0B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BC2C-7C19-4DE3-A10F-21619DB9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9E70-289C-4587-9A9B-3808CEFF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DCF3-613D-498A-A996-427052A0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93D0-4782-4226-BDAC-BC94102D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7F7B-CB63-4545-8D1B-320B8F79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43B9-3845-4571-894A-690C7A8A02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aotai0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077320" y="5715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762120" y="1371600"/>
            <a:ext cx="739116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黑体"/>
              </a:rPr>
              <a:t>命运交响曲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90720" y="1371600"/>
            <a:ext cx="7238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延伸作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写在作文本上，命题日记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写一则读后感，题目自拟，字数不限。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   如：人生的启迪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90720" y="213372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理解内容，感悟中心，揣摩词语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．学习并运用正确的朗读方法，诵读课文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．联系生活实际，谈谈对人生的感悟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23880" y="685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黑体"/>
              </a:rPr>
              <a:t>学习目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860120" y="504720"/>
            <a:ext cx="994680" cy="581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读一读，写一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49320"/>
            <a:ext cx="769608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扰　小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憩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壮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糟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庸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负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然挺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擎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天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撼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地　肃然起敬　应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1828800"/>
            <a:ext cx="7531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本文写的是什么内容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作者是从哪几个方面来写的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文章表达了作者怎样的感情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13200" y="4572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边听边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182880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   ①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篇文章共写了几个事例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   ②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找出自己感触最深的事例，反复品读，体悟文章的内涵。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   ③划出自己认为写得最好、最精彩、最能表达作者感情的语句，并体会其作用。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   ④赏析语段中的好词语运用，比较分析看看，为什么用得好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60560" y="685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自主探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19320" y="2209680"/>
            <a:ext cx="694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   ①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朗读时注意语气、语速、语调及重音的把握。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   ②理解文章内容，揣摩写作意图，有感情的朗读，从朗读中解决思考题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73000" y="8380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朗读指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04920"/>
            <a:ext cx="908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合作探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文中找出作者对生命的三点思考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259092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　　第一点思考，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必须对自己负责，好好地使用生命，让人生更有意义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第二点思考，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怎样对待生命的短暂，怎样对待生老病死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第三点思考，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珍惜生命，珍惜时间，不懈努力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91440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质疑交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   ①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阅读本文后，自己的感受是什么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日常生活和学习中，自己对生命有哪些认识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   ②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们应当怎样去生活，对生命或人生是否有不同的见解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38080" y="1295280"/>
            <a:ext cx="7543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拓展延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   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速读美国克伦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沃森的《生命，生命》，并与本文进行比较，通过比较阅读，思考：两篇文章比较，自己更喜欢哪一篇，为什么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2:33:24Z</dcterms:created>
  <dc:creator>wutao</dc:creator>
  <dc:description/>
  <dc:language>en-US</dc:language>
  <cp:lastModifiedBy>abc</cp:lastModifiedBy>
  <dcterms:modified xsi:type="dcterms:W3CDTF">2004-09-04T23:11:26Z</dcterms:modified>
  <cp:revision>100</cp:revision>
  <dc:subject/>
  <dc:title>PowerPoint 演示文稿</dc:title>
</cp:coreProperties>
</file>