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758-C3ED-486D-9AC7-30CD232F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155-B37F-452E-8F04-0EFAEF09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0ED-D543-451E-AC3B-8C872FEC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A4D-408A-4D8D-94A5-D9FDC6CE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8B57-9C99-4E4B-8052-D026D840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278E-EF07-469E-B31D-330C14B5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CD39-D0C6-4B00-814E-38FD83C6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89F3-4A2E-4608-8F93-1C53231C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CA9C-E560-4B82-B02E-86FC2A26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40D0-C676-4652-8A68-FEC2A078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04FB-6649-455D-8968-C9D43E3F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0BC-0ED0-459F-BE5C-D771071D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B4E2-C13D-453A-9894-2E7336F6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49C6-DD8B-47EB-8D53-4E668EE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DCA1-EB9A-43A3-B983-958E28CC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8B47-3BF1-4274-BD36-329AECCA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B34F-FB83-49E7-AAC9-763B6D87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F64-1B46-48C2-9B7F-D3240209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871-F9BC-4052-9B77-6771F793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35B-9D30-425B-9E17-729FB3FB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A86-E3A9-4B7F-B9FC-77DD52B6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801-E650-4F85-AD0D-1B55EC16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385-E40E-4469-B1C5-5D046970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8A1-DB4B-4C3A-8DC2-05DC1DB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B10A-3CE8-453C-A9B6-F2BDE690EC47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84CE-23AB-4DD7-B030-E5AAE5595662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1251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95640" y="242172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检查预习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242172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理清思路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314100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深入研读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314100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语义理解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386316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体验感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386316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拓展延伸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458244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总   结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458244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练   习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58920" y="404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讨论划线词的作用：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615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⑴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感到一股生命的力量在我手中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跃动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”“跃动”改为“跳动”行不行？为什么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4241160"/>
            <a:ext cx="77612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行。跳动是一起一伏地动；跃动表达心情急切。用“跃动”更能表达“生之欲望”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83628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⑵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隔了几天，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竟然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冒出了一截小瓜苗。”“竟然”为什么不能去掉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3638160"/>
            <a:ext cx="7777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竟然表达了一种意想不到，表达出一种惊喜，若去掉就没有了这种表达效果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4360" y="8233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⑶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那一股足以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擎天撼地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生命力，令我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肃然起敬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”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3090960"/>
            <a:ext cx="7920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擎天撼地”本来形容力量巨大，这里指小瓜苗在没有生存条件下，竟然冒出了一截，充分表现了小瓜苗的生命力。“肃然”，形容十分恭敬的样子。“肃然起敬”表达了对顽强的生命力的一种崇敬，在这里是不可随便调换的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1025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⑷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瓜苗在没有阳光、没有泥土的砖缝中，不屈地向上，茁壮生长，昂然挺立。”又说“它仅仅活了几天”……前后是否矛盾，为什么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3953880"/>
            <a:ext cx="770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瓜苗在没有生长的条件下，靠瓜子本身的养分，确实能茁壮生长、昂然挺立，而瓜子的养分仅仅能供养它活几天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9666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⑸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都愿意为它奋斗，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勇敢地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活下去。”作者为什么要加“勇敢地”来修饰“活下去”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3967920"/>
            <a:ext cx="8174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那种难以忍受的病痛，活着会比死了还要难受。张海迪也是如此，同样是生不如死。像她们这种情况，活着比死亡还更需要勇气，因此在“活下去”的前面加上“勇敢地”修饰成分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32000" y="40752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体验与感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828440"/>
            <a:ext cx="802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⑴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阅读本文后，自己的感受是什么？在日常生活和学习中，自己对生命有哪些认识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01220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⑵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应当怎样去生活，对生命或人生是否有不同的见解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283824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苏联著名作家奥斯特洛夫斯基曾说过：“人最宝贵的是生命。生命对每个人只有一次。这仅有的一次生命应当怎样度过呢？每当回忆往事的时候，能够不为虚度年华而悔恨，不因碌碌无为而羞耻；在临死的时候，他能够说：‘我的整个生命和全部精力，都已经献给了世界上最壮丽的事业——为人类解放而进行的斗争。’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62064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斯特洛夫斯基用自己年轻的生命实践自己的诺言，对怎样看待生命，怎样好好享用生命，让人生更有意义，珍惜生命，不懈努力，做出了坚定的回答。我们的雷锋也用他年轻的生命谱写了一曲让生命更有意义的颂歌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63640" y="76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拓展延伸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3099960"/>
            <a:ext cx="714708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速读美国克伦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沃森的《生命生命》并与本文进行比较，通过比较阅读，思考：两篇文章比较，自己更喜欢哪一篇，为什么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19280" y="259920"/>
            <a:ext cx="237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结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173040"/>
            <a:ext cx="817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冰心说：“宇宙是一个大的生命，江流入海，落叶归根，我们是宇宙中的一息，我们是大生命中的一分子。不是每一道江流都能流入大海，不是每一粒种子都能成熟发芽，生命中不是永远快乐，也不是永远痛苦，快乐与痛苦是相辅相成的。在快乐中，我们要感谢生命，在痛苦中，我们也要感谢生命，因为快乐、兴奋、痛苦又何尝不是美丽呢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冰心老人的话揭示了生命的意义和真谛，愿每一位同学都珍爱生命，珍惜时间，让人生更有意义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837000"/>
            <a:ext cx="748836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给划线字注音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憩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扰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庸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擎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)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天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撼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糟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蹋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1916280"/>
            <a:ext cx="1100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1916280"/>
            <a:ext cx="131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g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81360"/>
            <a:ext cx="152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āo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2781360"/>
            <a:ext cx="18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ō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3645000"/>
            <a:ext cx="178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í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3645000"/>
            <a:ext cx="2146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à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360" y="4508640"/>
            <a:ext cx="1519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t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92360" y="5155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作业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259740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⒈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完成《学案》“自学阶梯评估”练习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延伸作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写一则读后感，题目自拟，字数不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：人生的启迪——读《生命生命》有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35640"/>
            <a:ext cx="309564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释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憩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擎天撼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肃然起敬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糟蹋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庸碌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应许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骚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692280"/>
            <a:ext cx="6162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休息一会儿。憩，休息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84360" y="1268280"/>
            <a:ext cx="576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力量巨大。擎，举起。撼，摇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2481120"/>
            <a:ext cx="6050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由于受感动而产生恭敬和钦佩之情。肃然，形容十分恭敬的样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365720"/>
            <a:ext cx="468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浪费或损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4875120"/>
            <a:ext cx="648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人平庸，没有作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5524560"/>
            <a:ext cx="2139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应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0560" y="6165720"/>
            <a:ext cx="46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使不安宁；扰乱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1280" y="11106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速读全文，画出各语段的主题词，梳理文章思路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638440"/>
            <a:ext cx="75610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⑴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本文写的是什么内容？作者是从哪几个方面来写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⑵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文章表达了作者怎样的感情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2877480"/>
            <a:ext cx="75628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对一篇文章，除了整体把握之外，更重要的是对一些精彩的内容进行研读。这样，对文章所表达的深刻内涵就会有更好地领会，从而更贴切地感悟作者的思想感情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3693600"/>
            <a:ext cx="7678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一种修辞方法——反复。去掉一个不可以。因为连用表示强调，表达了对生命的强烈的呼唤，表达了强烈的生命意识，去掉就没有这种表达作用了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691920"/>
            <a:ext cx="80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⑴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题目中“生命”一词，为什么连续用两次？去掉一个行不行？为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298908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飞蛾在险境中，生命面临着严重的威胁下，极力挣扎着。——强烈的求生欲望，生命都是自我珍视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香瓜子在墙角砖缝中长出小苗。——从生命诞生这个角度说明，生命力之强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”静心听心脏的跳动感受自己的生命。——有了生命意识，就会严肃地思考人生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2739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⑵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作者列举了哪三个事例，试各用一句话概括每个事例的内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30150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点思考：必须对自己负责，好好地使用生命，让人生更有意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点思考：回答怎样对待生命的短暂，怎样对待生老病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点思考：将目标、信念付诸于行动。要珍惜生命、珍惜时间、不懈努力，为生命奋斗，“勇敢地活下去”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808920"/>
            <a:ext cx="82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⑶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三个事例蕴含的意思分别侧重哪一方面？对人生的三点思考分别侧重哪一方面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24000" y="98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事例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思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89080" y="2205000"/>
            <a:ext cx="24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之欲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2205000"/>
            <a:ext cx="24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命意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1920" y="357336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命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35798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命的价值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2560" y="49482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494820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珍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奋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5720"/>
            <a:ext cx="207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飞蛾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香瓜子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心跳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07:14:29Z</dcterms:created>
  <dc:creator>wutao</dc:creator>
  <dc:description/>
  <dc:language>en-US</dc:language>
  <cp:lastModifiedBy>周璟</cp:lastModifiedBy>
  <dcterms:modified xsi:type="dcterms:W3CDTF">2004-09-13T02:06:32Z</dcterms:modified>
  <cp:revision>100</cp:revision>
  <dc:subject/>
  <dc:title>幻灯片 1</dc:title>
</cp:coreProperties>
</file>