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9451-D59D-4FEA-B3C8-3C1D1449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149-E7AE-4CAB-9769-B0C5513B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994-7531-433C-92FB-82F873A6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5CE-E408-4E84-AC9E-FBBC19FE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4239-539C-4A5C-9647-03240017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BE33-7D9C-466F-BE96-EC1FF0A7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F970-2619-4458-8EBD-7A5EF755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C570-3075-4EAE-AF6C-BB1AFC00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BF4F-13E2-4DDF-ADE3-EACCE44D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A44B-D37D-4F4C-B972-0B61A011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CB8C-73D3-4970-8E6F-C61D4840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492-DB57-4197-86D4-533CAAED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A811-D0A5-4B99-B029-B955AF53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5D18-F00D-4E28-A821-63C72E8F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9169-1E7A-4518-BE48-7EB29D2F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E132-93B5-4692-BCDF-B68AC5A4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2F2E-9069-4DE7-90A8-176F32CB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1F3B-029A-4FF1-BAA2-550346EC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1CD-0CDA-4D6E-9101-112793FB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819-A66E-4B36-9A92-2F7C2EA4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EAF-0C83-4AE2-ADDC-855D4DD3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383-B9A5-4768-8B34-5784248D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8D0-3488-447C-B899-61DECD7E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E2F-7339-4AB6-8D0E-4F34636E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C19B-F9B7-4D76-9875-7C34425F5B4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8BE1-2BF0-4CB7-BB40-AB737214DEF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生命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6760" y="1897200"/>
            <a:ext cx="54936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546120" y="152280"/>
            <a:ext cx="237492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生    命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9160" y="2286000"/>
            <a:ext cx="23749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生    命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5960" y="4267080"/>
            <a:ext cx="15210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杏 林 子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生命的力量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717240" y="601560"/>
            <a:ext cx="164268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b00b"/>
                </a:solidFill>
                <a:latin typeface="隶书"/>
                <a:ea typeface="隶书"/>
              </a:rPr>
              <a:t>钻 缝 而 出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3880" y="0"/>
            <a:ext cx="403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</a:rPr>
              <a:t>重点突破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1828800"/>
            <a:ext cx="2530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106668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讨论一：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     </a:t>
            </a: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三个事例蕴含的意思分别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 </a:t>
            </a: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侧重于哪一方面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55760" y="3745080"/>
            <a:ext cx="7635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讨论二：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    </a:t>
            </a: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对人生的三点思考进行了怎样的安排？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89280" y="0"/>
            <a:ext cx="458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ccffcc"/>
                </a:solidFill>
                <a:uFillTx/>
                <a:latin typeface="Times New Roman"/>
                <a:ea typeface="华文隶书"/>
              </a:rPr>
              <a:t>疑难研讨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1066680"/>
            <a:ext cx="77119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  <a:ea typeface="华文新魏"/>
              </a:rPr>
              <a:t>问题一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文章中三个事例为什么要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这样排列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03480" y="3581280"/>
            <a:ext cx="77691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  <a:ea typeface="华文新魏"/>
              </a:rPr>
              <a:t>问题二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说小瓜苗“擎天撼地的生命力”，又说“它仅仅活了几天”，是不是自相矛盾？为什么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39120" y="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名言警句：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106668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生命如逝水，流去的日子是不会回来的。为了不让生命毫无痕迹地消失，我们一定要好好地把握它，利用它，填满它，至低限度，让它留下一点对得起自己的痕迹。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                 ——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罗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人的生命是短暂的，但我要把     有限的生命投入到无限的为人民服务之中去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                 ——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雷锋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444040" y="-15228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名言警句：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7462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人，最宝贵的是生命，生命对每个人只有一次。这仅有的一次生命应当怎样度过呢？每当回忆往事的时候，能够不为虚度年华而悔恨，不因碌碌无为而羞耻。在临死的时候，他能够说：“我的整个生命和全部精力，都已经献给了世界上最壮丽的事业——为人类解放而斗争。”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——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奥斯特洛夫斯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76720" y="152280"/>
            <a:ext cx="5562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生命是张没有价值的白纸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自从绿给了我发展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红给了我热情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黄教我以忠义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蓝教我以高洁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粉红赐我以希望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灰白赠我以悲哀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再完成这帧彩图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黑还要加我以死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从此以后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我便溺爱于我的生命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因为我爱她的色彩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 rot="5400000">
            <a:off x="1019160" y="1724040"/>
            <a:ext cx="2124000" cy="961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华文行楷"/>
              </a:rPr>
              <a:t>色彩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99ff33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36640" y="24912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9200" y="3031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作者简介：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17880" y="1620720"/>
            <a:ext cx="641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1447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楷体ＣＳ"/>
              </a:rPr>
              <a:t>       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杏林子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本名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刘侠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，杏林子只是笔名。她生前饱受病痛煎熬，但在病榻上阅读了大量文学作品，因而培养出创作兴趣与文学底子。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第一部创作《生之歌》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。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最后一本散文集《打破的古董》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。她去世后，身体捐赠给医院做病理解剖。她留下的爱永远在大家心中，她的一生和她的著作成为千万人的精神食粮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79520" y="29700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36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</a:rPr>
              <a:t>掌握下列红颜色字的读音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219320"/>
            <a:ext cx="903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骚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扰（   ）      小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憩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（  ）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茁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壮（     ）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糟蹋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（   ）（  ）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庸碌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（     ）（   ）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辜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负（  ）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昂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然挺立（   ）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擎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天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撼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地（      ）（    ）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肃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然起敬（   ）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955160" y="1447920"/>
            <a:ext cx="40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2952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1219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3300"/>
                </a:solidFill>
                <a:latin typeface="zypyyb"/>
                <a:ea typeface="zypyyb"/>
              </a:rPr>
              <a:t>1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1219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ì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9810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zhu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ó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196524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0" lang="en-US" sz="4000" spc="-1" strike="noStrike">
                <a:solidFill>
                  <a:srgbClr val="ff3300"/>
                </a:solidFill>
                <a:latin typeface="zypyyb"/>
                <a:ea typeface="zypyyb"/>
              </a:rPr>
              <a:t>1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58200" y="196524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ff3300"/>
                </a:solidFill>
                <a:latin typeface="zypyyb"/>
                <a:ea typeface="zypyyb"/>
              </a:rPr>
              <a:t>4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26668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ō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876920" y="272736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ù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01000" y="26668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ū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34290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zypyyb"/>
                <a:ea typeface="zypyyb"/>
              </a:rPr>
              <a:t>2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4419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41148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1911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ff3300"/>
                </a:solidFill>
                <a:latin typeface="zypyyb"/>
                <a:ea typeface="zypyyb"/>
              </a:rPr>
              <a:t>4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44197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048920" y="4876920"/>
            <a:ext cx="105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ù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book3" descr=""/>
          <p:cNvPicPr/>
          <p:nvPr/>
        </p:nvPicPr>
        <p:blipFill>
          <a:blip r:embed="rId1"/>
          <a:stretch/>
        </p:blipFill>
        <p:spPr>
          <a:xfrm>
            <a:off x="7315200" y="5105520"/>
            <a:ext cx="15238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95280" y="304920"/>
            <a:ext cx="294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66ff33"/>
                </a:solidFill>
                <a:uFillTx/>
                <a:latin typeface="Times New Roman"/>
                <a:ea typeface="华文行楷"/>
              </a:rPr>
              <a:t>词语释义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295280"/>
            <a:ext cx="243864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骚扰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小憩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茁壮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糟蹋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庸碌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22440" y="1295280"/>
            <a:ext cx="672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——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使人不安宁；干扰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22440" y="2362320"/>
            <a:ext cx="672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——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休息一会。憩：休息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3429000"/>
            <a:ext cx="716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——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强壮、健壮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4495680"/>
            <a:ext cx="413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——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浪费或损坏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638680"/>
            <a:ext cx="702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——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形容人平庸，没有作为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0"/>
            <a:ext cx="35971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昂然挺立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擎天撼地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肃然起敬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辜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18080" y="0"/>
            <a:ext cx="5425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——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挺胸抬头，无所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    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畏惧地直立着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                 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38360" y="1449360"/>
            <a:ext cx="3057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——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形容力量巨大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    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擎，举起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    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撼，摇动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41760" y="3657600"/>
            <a:ext cx="506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——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由于受感动而产生恭敬和钦佩之情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5867280"/>
            <a:ext cx="702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——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对不起别人好心或期望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84360" y="152280"/>
            <a:ext cx="35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</a:rPr>
              <a:t>整体感知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905120"/>
            <a:ext cx="31244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感知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感知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2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感知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3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4038480"/>
            <a:ext cx="609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作者的思路是怎样的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1217520"/>
            <a:ext cx="9083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文章举了哪三个关于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生命的事例？引发了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怎样的思考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5181480"/>
            <a:ext cx="672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如何理解文章的中心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花朵" descr=""/>
          <p:cNvPicPr/>
          <p:nvPr/>
        </p:nvPicPr>
        <p:blipFill>
          <a:blip r:embed="rId1"/>
          <a:stretch/>
        </p:blipFill>
        <p:spPr>
          <a:xfrm>
            <a:off x="0" y="525780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3276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生命  生命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1905120"/>
            <a:ext cx="533520" cy="3429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137160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三件关于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命的小故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60948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34800"/>
            <a:ext cx="27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小飞蛾挣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170640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香瓜子萌芽生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3078000"/>
            <a:ext cx="28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心脏跳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6360" y="91440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（生之欲望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231624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（生命力强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368784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（感受生命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70360" y="4983120"/>
            <a:ext cx="34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引发思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花朵" descr=""/>
          <p:cNvPicPr/>
          <p:nvPr/>
        </p:nvPicPr>
        <p:blipFill>
          <a:blip r:embed="rId1"/>
          <a:stretch/>
        </p:blipFill>
        <p:spPr>
          <a:xfrm>
            <a:off x="1219320" y="518148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蛾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 rot="5400000">
            <a:off x="5867280" y="1218960"/>
            <a:ext cx="3810240" cy="2133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小  飞  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生命的力量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-437040" y="609480"/>
            <a:ext cx="21913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aeaea"/>
                </a:solidFill>
                <a:latin typeface="方正舒体"/>
                <a:ea typeface="方正舒体"/>
              </a:rPr>
              <a:t> </a:t>
            </a:r>
            <a:r>
              <a:rPr b="1" lang="en-US" sz="6600" spc="-1" strike="noStrike">
                <a:solidFill>
                  <a:srgbClr val="7358a8"/>
                </a:solidFill>
                <a:latin typeface="方正舒体"/>
                <a:ea typeface="方正舒体"/>
              </a:rPr>
              <a:t>茁 壮 生  长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02:41:07Z</dcterms:created>
  <dc:creator>wutao</dc:creator>
  <dc:description/>
  <dc:language>en-US</dc:language>
  <cp:lastModifiedBy>周璟</cp:lastModifiedBy>
  <dcterms:modified xsi:type="dcterms:W3CDTF">2004-09-13T02:17:08Z</dcterms:modified>
  <cp:revision>100</cp:revision>
  <dc:subject/>
  <dc:title>PowerPoint 演示文稿</dc:title>
</cp:coreProperties>
</file>