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  <p:custShowLst>
    <p:custShow name="自定义放映1" id="0">
      <p:sldLst>
        <p:sld r:id="rId6"/>
        <p:sld r:id="rId7"/>
        <p:sld r:id="rId8"/>
        <p:sld r:id="rId9"/>
        <p:sld r:id="rId10"/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49B4-D9E0-4280-8BF3-33464119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934-4CAB-4CB6-9A9A-29C7FB5F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339-4D97-4079-B191-A8268774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6D4-5A1B-4F80-B12F-75F91CA1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8D22-275F-449F-9C17-4E890B5C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BC97-FCCA-4B74-94A9-11FB447D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A05E-3426-44C7-B130-CF1D6F79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9780-C7A6-4B1C-B234-D6975565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23A1-7175-4F4A-B2CD-77212C85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F8A2-132E-4C09-B45D-693FC5F9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E083-9858-43CE-8DD8-049DB4D0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2590-165C-4A9A-B0B4-A95D4A0E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BAFF-A789-4E9A-AA29-49A59F71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EE98-50E1-455D-8991-2603CB32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45DF-EC62-4308-A7D9-7B783D0F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4B56-158E-4DEB-83BA-FB39FFAC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9605-32D4-4105-B276-CF50F0DB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8DE3-4158-469E-8369-3D2D9FE3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CA9-DA2F-439B-9D15-0A8EFD11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022D-1DE1-447C-89B5-DDF7CC01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36EF-5BA5-4184-AED2-1AE92D35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E87C-1347-4999-B3BA-11D60DA6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771-41D0-456F-8927-1E7E3FF1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E99-D20C-40AE-9672-113963EA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DF6A-6917-4C8D-A87D-5AA52D86109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4681-0B89-44C9-BDD1-CDE0DF0A5F6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20960" y="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a3710"/>
                </a:solidFill>
                <a:latin typeface="Times New Roman"/>
                <a:ea typeface="楷体_GB2312"/>
              </a:rPr>
              <a:t>生命，生命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160020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杏林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2716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CAWT27WP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540160" cy="304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1440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                                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笔名：杏林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                                  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杏林子，这一位长期处于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                           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楚的人，这位只有小学程度，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                           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类风湿性关节炎而全身关节百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66"/>
                </a:solidFill>
                <a:latin typeface="Arial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cc66"/>
                </a:solidFill>
                <a:latin typeface="Arial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cc66"/>
                </a:solidFill>
                <a:latin typeface="Arial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cc66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之八十损坏的残障者，不但没有诅咒生命，反而洋溢了对生命的歌颂和热爱。她写作不辍，出版的书深受读者们的喜爱，为引发社会对残障者的关注，不惜冒着生命危险上街请愿，成立了“伊甸残障社会福利基金会”，为台湾的弱势群体谋福利。她一生积极开朗，淡泊名利，她有一句名言：“除了爱我一无所有”，她的一生就是基督的爱的见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43280" y="762120"/>
            <a:ext cx="525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文章写了哪几个事例？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提示：可抓住文中的词语概括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43280" y="3429000"/>
            <a:ext cx="525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请从以上三个事例中，选出你感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最深的事例，说说为什么喜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54480" y="1160640"/>
            <a:ext cx="48747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以第二段为例，请寻找课文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用得非常好的词语， 用圆圈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出来， 想一想为什么用得好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0184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这些富有表现力、生命力的词句是很能表达作者的情感的，也才使文章显得更为生动，朗读时特别应注意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朗读指导：注意把握朗读技巧（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）注意语速、语调、停顿、重音。（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）理解内容，有表情地加以朗读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990720"/>
            <a:ext cx="9144000" cy="31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无论怎样微弱的生命，都具有不可思议的生命力，作者从小现象悟出大道理是 很能启发人的，同时，她对生命的思考也由此展开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从文中找出作者对生命的三点思考 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2860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第一点思考：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必须对自己负责，好好地使用生命，让人生更有意义。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28600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第二点思考：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回答怎样对待生命的短暂，怎样对待生老病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3809880"/>
            <a:ext cx="792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第三点思考：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将目标、信念付诸于行动。要珍惜生命、珍惜时间、不懈努力，为生命奋斗，“勇敢地活下去”。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630800" y="703440"/>
            <a:ext cx="5880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读罢全文，你感受到什么？请联系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生活实际谈谈你对生命的认识。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380880"/>
            <a:ext cx="8915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e2b1c"/>
                </a:solidFill>
                <a:latin typeface="Times New Roman"/>
                <a:ea typeface="楷体_GB2312"/>
              </a:rPr>
              <a:t>请用下列格式说话：“我感受到，生命因为……而美丽”，再联系到生活实际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e2b1c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4400" spc="-1" strike="noStrike">
                <a:solidFill>
                  <a:srgbClr val="ee2b1c"/>
                </a:solidFill>
                <a:latin typeface="Times New Roman"/>
                <a:ea typeface="楷体_GB2312"/>
              </a:rPr>
              <a:t>示范：我感受到生命因为自强不息而美丽，著名作曲家贝多芬又瞎又聋，但他自强不息与命运抗争，终于“扼住了命运的咽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12040" y="1447920"/>
            <a:ext cx="51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由生命你还联想到什么？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28600"/>
            <a:ext cx="9524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文章可以结束，但生命的长河永无止境。每当夜深时，我合上眼睛，眼前总会浮现这样一幅幅图景：鲁迅在夜里一边咳嗽，一边写文章，昏暗的灯光下，发出内心的《呐喊》；卡夫卡彻夜写完自传体小说《判决》，完成与自己灵魂的对话；普鲁斯特从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35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岁到死，生活在暗室中，门窗紧闭，房间里点着蜡烛，《追忆似水年华》成为他唯一的安慰。这是一群孤独的人，这又是一群灵魂饱满的人。对于我们来说，我们的青春的生命不必像他们那样有太重的负荷。我想说的只是，哪怕我们的世界变得越来越小，越来越平庸，也别让我们的生命之花枯萎，别让我们的精神之花凋谢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832880" y="596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10520" y="609480"/>
            <a:ext cx="5667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33"/>
                </a:solidFill>
                <a:latin typeface="Times New Roman"/>
                <a:ea typeface="楷体_GB2312"/>
              </a:rPr>
              <a:t>以“由生命联想到……”为范围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33"/>
                </a:solidFill>
                <a:latin typeface="Times New Roman"/>
                <a:ea typeface="楷体_GB2312"/>
              </a:rPr>
              <a:t>结合实际谈谈你对生命的感受</a:t>
            </a:r>
            <a:r>
              <a:rPr b="1" lang="zh-CN" sz="4800" spc="-1" strike="noStrike">
                <a:solidFill>
                  <a:srgbClr val="99ff33"/>
                </a:solidFill>
                <a:latin typeface="Times New Roman"/>
                <a:ea typeface="楷体_GB2312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-311040"/>
          <a:ext cx="9144000" cy="748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11040"/>
                    <a:ext cx="9144000" cy="74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w02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4833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w03" descr=""/>
          <p:cNvPicPr/>
          <p:nvPr/>
        </p:nvPicPr>
        <p:blipFill>
          <a:blip r:embed="rId1"/>
          <a:stretch/>
        </p:blipFill>
        <p:spPr>
          <a:xfrm>
            <a:off x="0" y="-312840"/>
            <a:ext cx="9144000" cy="748368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w04" descr=""/>
          <p:cNvPicPr/>
          <p:nvPr/>
        </p:nvPicPr>
        <p:blipFill>
          <a:blip r:embed="rId1"/>
          <a:stretch/>
        </p:blipFill>
        <p:spPr>
          <a:xfrm>
            <a:off x="-304920" y="-561960"/>
            <a:ext cx="9448920" cy="77328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w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833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w06" descr=""/>
          <p:cNvPicPr/>
          <p:nvPr/>
        </p:nvPicPr>
        <p:blipFill>
          <a:blip r:embed="rId1"/>
          <a:stretch/>
        </p:blipFill>
        <p:spPr>
          <a:xfrm>
            <a:off x="0" y="-312840"/>
            <a:ext cx="9144000" cy="748368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38088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但人的生命却只有两万多天，我们不禁深深叹息：人生是如此短暂！但是在如此短暂的人生中，我们可以面临许多选择，我们可以选择坚强、勇敢和快乐，也可以选择脆弱、逃避悲伤，甚至是死亡。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周璟</cp:lastModifiedBy>
  <dcterms:modified xsi:type="dcterms:W3CDTF">2004-09-13T02:20:54Z</dcterms:modified>
  <cp:revision>100</cp:revision>
  <dc:subject/>
  <dc:title>PowerPoint Presentation</dc:title>
</cp:coreProperties>
</file>