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146-91ED-418C-BD35-5A37A57A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232-F3E9-416A-8754-6FBD972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978-CD56-4376-9331-BE1DDCF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293-7A47-4CC8-802A-3D52CAE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E07-D542-4DD9-A74A-5701E52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4CC-7CFB-4141-9C8D-5311BE6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247F-ACD1-4B45-84E1-58763B5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F56-CF11-4662-997A-957129B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8C4-CA36-473F-913F-F1D9555E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747-C2BA-44CE-AF8D-443C08E1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78A4-3855-40B8-BD0C-DEE9908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BDB-5D06-43D7-8056-F68EFDC6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2B23-83E2-467E-BEC5-1FB7795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B7A-5759-41EA-951D-9F6911C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196-37F1-4E89-8B21-D2756FA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1899-D48F-4B10-807B-4285C2E6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F93-6FC8-4D85-8FA7-B0BA7F4E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9DF-4511-4F68-A31C-6AA5B6A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A5D-6036-40B8-B3AF-4DCCACD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B4E-1263-43E7-B0F8-3C53BA0C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45F-6D1D-42EA-8F52-5125F08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38E-6074-45E2-A951-A9C1E0BA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148-015B-4376-9E74-0C26EDE9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B91-0BF4-45D7-9549-86D40DE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9E4-B0D8-4983-9028-4719FADC591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9B9-352C-4094-BD8A-07850290B2E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mmer.wav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ap.org.hk/product_list/book/4296.htm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www.cap.org.hk/product_list/book/4293.htm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breeze.wav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0066"/>
                </a:solidFill>
                <a:latin typeface="Arial"/>
                <a:ea typeface="全真海報體"/>
              </a:rPr>
              <a:t>       </a:t>
            </a:r>
            <a:r>
              <a:rPr b="0" lang="zh-TW" sz="4800" spc="-1" strike="noStrike">
                <a:solidFill>
                  <a:srgbClr val="330066"/>
                </a:solidFill>
                <a:latin typeface="Arial"/>
                <a:ea typeface="全真海報體"/>
              </a:rPr>
              <a:t>生     之     歌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33720" y="54082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編著者：杏林子（劉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出版者 </a:t>
            </a: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星光出版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文本導讀者 </a:t>
            </a: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陳筱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13960" y="914400"/>
            <a:ext cx="1682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全真顏體"/>
                <a:ea typeface="全真顏體"/>
              </a:rPr>
              <a:t>生命不在乎長短，而是它的價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00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7142" t="0" r="0" b="0"/>
          <a:stretch/>
        </p:blipFill>
        <p:spPr>
          <a:xfrm>
            <a:off x="5029200" y="42670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50877" t="34793" r="28492" b="47170"/>
          <a:stretch/>
        </p:blipFill>
        <p:spPr>
          <a:xfrm>
            <a:off x="2133720" y="23623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743200" y="1066680"/>
            <a:ext cx="609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哦﹗我願意再忍受一這樣酷熱的夏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只要讓我再欣賞一次這樣 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晚霞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049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zh-TW" sz="4400" spc="-1" strike="noStrike">
                <a:solidFill>
                  <a:srgbClr val="990033"/>
                </a:solidFill>
                <a:latin typeface="全真顏體"/>
                <a:ea typeface="全真顏體"/>
              </a:rPr>
              <a:t>晚       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6960" y="4660200"/>
            <a:ext cx="17049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顏體"/>
              </a:rPr>
              <a:t>我痴痴坐在窗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顏體"/>
              </a:rPr>
              <a:t>直到暮色四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5720" y="3048120"/>
            <a:ext cx="48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特黑體"/>
              </a:rPr>
              <a:t>最後一絲光線消失在遠方的山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7680" y="679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28600" y="204840"/>
            <a:ext cx="2286000" cy="1682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0f3f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7012" t="0" r="0" b="3346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865400" y="-959760"/>
            <a:ext cx="3989520" cy="89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86bfb"/>
                </a:solidFill>
                <a:latin typeface="Arial"/>
                <a:ea typeface="全真古印體"/>
              </a:rPr>
              <a:t>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裡的山特別靈秀飄逸 有種國畫山水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遠清幽的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輕時 遠山近樹煙雲繚繞迷離婆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濃時滾滾翻騰洶湧而至真有驚濤裂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捲起千堆雪的氣勢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4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4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4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4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4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3504960" cy="5181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077320" y="1905120"/>
            <a:ext cx="76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3300"/>
                </a:solidFill>
                <a:latin typeface="Arial"/>
                <a:ea typeface="全真綜藝體"/>
              </a:rPr>
              <a:t>小歌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600" y="419400"/>
            <a:ext cx="4081320" cy="75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清晨，天才濛濛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小歌手們就聚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在高大的千年桐樹上大展歌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嗓音低沉雄厚的男高音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 高亮園潤的女高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還有活潑俏皮語音清純的小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聽說也有很多畫眉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但至今仍緣摼一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只在此山中雲深不知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我稱那棵千年桐為小歌手們的米蘭歌劇院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躺在床上也能欣賞到世界最偉大的演唱哩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4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5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190760" cy="510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438280" y="609480"/>
            <a:ext cx="344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66"/>
                </a:solidFill>
                <a:latin typeface="Arial"/>
                <a:ea typeface="全真疊黑體"/>
              </a:rPr>
              <a:t>小     蜘    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75248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3120" y="380880"/>
            <a:ext cx="30448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小蜘蛛實在小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   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一面小小的網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只有嬰兒的手掌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脈絡分明玲瓏精緻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只可惜稍不小心就破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   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但牠一點也不介意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織了又破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破了又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幾次看牠停下腳步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以為牠跑不動了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但牠仍堅持下去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3640" y="1752480"/>
            <a:ext cx="1460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望著這面小小的蛛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我在想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我們是否也學到一些什麼呢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19360" y="609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96633"/>
                </a:solidFill>
                <a:latin typeface="Arial"/>
                <a:ea typeface="全真行書"/>
              </a:rPr>
              <a:t>手  的  故  事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rcRect l="4405" t="0" r="0" b="3580"/>
          <a:stretch/>
        </p:blipFill>
        <p:spPr>
          <a:xfrm>
            <a:off x="4114800" y="24382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960" y="685800"/>
            <a:ext cx="359316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雖然我的手不再美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但我希望它多學習一些付出的功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在別人危難時及時伸出援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但願這也是一雙懂得安慰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禱告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那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就是它的外表再醜陋又有什麼關係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5120" y="-36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杏林子──我們敬愛的劉姐，因意外於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2003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年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月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日凌晨安息主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2971800"/>
            <a:ext cx="1676520" cy="2463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4724280"/>
            <a:ext cx="800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全真顏體"/>
              </a:rPr>
              <a:t>瀟洒走一回──</a:t>
            </a:r>
            <a:br>
              <a:rPr sz="2800"/>
            </a:b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全真顏體"/>
              </a:rPr>
              <a:t>擦乾你的眼淚，帶著微笑，就當送別遠行的老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41560" y="2279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95280" y="457200"/>
          <a:ext cx="7848720" cy="1297080"/>
        </p:xfrm>
        <a:graphic>
          <a:graphicData uri="http://schemas.openxmlformats.org/drawingml/2006/table">
            <a:tbl>
              <a:tblPr/>
              <a:tblGrid>
                <a:gridCol w="2679840"/>
                <a:gridCol w="2654280"/>
                <a:gridCol w="2514600"/>
              </a:tblGrid>
              <a:tr h="129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33720" cy="2590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057400" y="281952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886200" y="2514600"/>
            <a:ext cx="1996920" cy="2895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1752480"/>
            <a:ext cx="295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疊黑體"/>
                <a:ea typeface="全真疊黑體"/>
              </a:rPr>
              <a:t>杏林子著作： </a:t>
            </a:r>
            <a:r>
              <a:rPr b="0" lang="zh-TW" sz="2800" spc="-1" strike="noStrike" u="sng">
                <a:solidFill>
                  <a:srgbClr val="7e9ce8"/>
                </a:solidFill>
                <a:uFillTx/>
                <a:latin typeface="全真疊黑體"/>
                <a:ea typeface="全真疊黑體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5867280" y="2743200"/>
            <a:ext cx="1579680" cy="2692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zh-TW" sz="4000" spc="-1" strike="noStrike">
                <a:solidFill>
                  <a:srgbClr val="330066"/>
                </a:solidFill>
                <a:latin typeface="全真疊圓體"/>
                <a:ea typeface="全真疊圓體"/>
              </a:rPr>
              <a:t>問   題   討   論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全真行書"/>
                <a:ea typeface="全真行書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你對生命的看法， 人活著究竟為何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2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在你周遭環境中最令你感動的人或事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哪 些？說來聽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3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  每一個今天都將成為昨天，一日復一日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人生追求什麼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4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在大自然界你透過觀察，最深刻的印像是什麽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5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什麼是愛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6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絕望的背後該給予何種支撐的力量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95120" y="922320"/>
            <a:ext cx="54104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75080" cy="24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45720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杏林子，本名劉俠，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二月二十八日生，陜西省扶風縣杏林鎮人。十二歲時罹患了一種罕見的疾病「類風溼性關節炎」，發病時手腳腫痛，行動極為不便，使她因而對生命抱著消極的態度，直到十六歲時因信仰基督教，在心靈上有了寄託，由信仰中體驗到生命的價值和尊貴，漸漸改變了她對生命的看法，轉而充滿了樂觀與積極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由於在病床上只有「書」才能讓她忘卻疼痛，所以她的母親總不辭勞苦的替她借書，因此使她由「看書人」成為「寫書人」。她曾到「傷殘服務中心」、「南機場社區發展實驗中心」等為和她一樣在身體上有殘缺的人做義工服務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她得到了第八屆十大傑出女青年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金鳳獎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，之後於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成立了伊甸殘障基金會，同年《另一種愛情》一書獲得國家文藝獎，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又獲社服獎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近年，在幾乎無法執筆的情況下，她仍寫作不輟，作品中充滿了求生的意志，足以激勵人心。她的著作有：《生之歌》、《生之頌》、《杏林小記》、《北極第一家》等四十多本書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240" y="3581280"/>
            <a:ext cx="1399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全真顏體"/>
                <a:ea typeface="全真顏體"/>
              </a:rPr>
              <a:t>生平 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zh-TW" sz="4800" spc="-1" strike="noStrike">
                <a:solidFill>
                  <a:srgbClr val="330066"/>
                </a:solidFill>
                <a:latin typeface="全真中明體"/>
                <a:ea typeface="全真中明體"/>
              </a:rPr>
              <a:t>生     之    歌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zh-TW" sz="3900" spc="-1" strike="noStrike">
                <a:solidFill>
                  <a:srgbClr val="330066"/>
                </a:solidFill>
                <a:latin typeface="Calligraph421 BT"/>
                <a:ea typeface="全真行書"/>
              </a:rPr>
              <a:t>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一首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詠出諸天的奧秘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一粒貌不驚人的種子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往往隱藏著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個花季的燦爛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一個少不更事的嬰兒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卻足以包容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顆追尋真理 渴羨美善的靈智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甚麼呢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上帝手中一個可愛的秘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是彰顯他的慈愛與大能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因為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的本身就是一樁奇蹟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88760" y="152280"/>
            <a:ext cx="73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生命   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                 </a:t>
            </a: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生命是什麼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13480" y="1523880"/>
            <a:ext cx="1400040" cy="64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許多年前有一天我借來醫生的聽診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聆聽自己的心跳 那一聲聲沉穩而規律的跳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給我極深的撼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這就是我的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680" y="813240"/>
            <a:ext cx="261972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雖然肉體的生命短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生老病死的過程也往往令人無法捉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但是從有限的生命發揮出無限的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使我們活得更為光彩有力卻在於我們自己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從那一刻起我應許自己絕不辜負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絕不讓它自我手中白白流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4400" y="2741760"/>
            <a:ext cx="3279600" cy="4116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24080"/>
            <a:ext cx="5562720" cy="373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/>
          </p:cNvPr>
          <p:cNvPicPr/>
          <p:nvPr/>
        </p:nvPicPr>
        <p:blipFill>
          <a:blip r:embed="rId4"/>
          <a:srcRect l="0" t="0" r="0" b="52953"/>
          <a:stretch/>
        </p:blipFill>
        <p:spPr>
          <a:xfrm>
            <a:off x="6248520" y="0"/>
            <a:ext cx="2895480" cy="13716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5"/>
          </p:cNvPr>
          <p:cNvSpPr/>
          <p:nvPr/>
        </p:nvSpPr>
        <p:spPr>
          <a:xfrm>
            <a:off x="0" y="325440"/>
            <a:ext cx="6095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大自然時時都在轉換著它的面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你見過同樣一片葉子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你見過四季不變的山嗎</a:t>
            </a:r>
            <a:r>
              <a:rPr b="1" lang="zh-TW" sz="2000" spc="-1" strike="noStrike">
                <a:solidFill>
                  <a:srgbClr val="008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8200" y="1600200"/>
            <a:ext cx="2374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66"/>
                </a:solidFill>
                <a:latin typeface="Arial"/>
                <a:ea typeface="全真顏體"/>
              </a:rPr>
              <a:t>在上帝的畫室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片雲是相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朵花是一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次的晚霞是一成不變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zh-TW" sz="4000" spc="-1" strike="noStrike">
                <a:solidFill>
                  <a:srgbClr val="cc0066"/>
                </a:solidFill>
                <a:latin typeface="全真海報體"/>
                <a:ea typeface="全真海報體"/>
              </a:rPr>
              <a:t>力     爭      上     游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rcRect l="0" t="0" r="0" b="42200"/>
          <a:stretch/>
        </p:blipFill>
        <p:spPr>
          <a:xfrm>
            <a:off x="609480" y="3124080"/>
            <a:ext cx="8305920" cy="236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0" t="53150" r="0" b="0"/>
          <a:stretch/>
        </p:blipFill>
        <p:spPr>
          <a:xfrm>
            <a:off x="609480" y="5181480"/>
            <a:ext cx="8305920" cy="1676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12193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人生有如一條波濤洶湧的大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有人力爭上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有人隨波逐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66"/>
                </a:solidFill>
                <a:latin typeface="Arial"/>
                <a:ea typeface="全真顏體"/>
              </a:rPr>
              <a:t>端看你採取那一種人生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Arial"/>
                <a:ea typeface="全真中隸書"/>
              </a:rPr>
              <a:t>         </a:t>
            </a:r>
            <a:r>
              <a:rPr b="1" lang="zh-TW" sz="4400" spc="-1" strike="noStrike">
                <a:solidFill>
                  <a:srgbClr val="cc0066"/>
                </a:solidFill>
                <a:latin typeface="全真顏體"/>
                <a:ea typeface="全真顏體"/>
              </a:rPr>
              <a:t>孩  子  的  世  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rcRect l="3912" t="0" r="49234" b="68775"/>
          <a:stretch/>
        </p:blipFill>
        <p:spPr>
          <a:xfrm>
            <a:off x="3429000" y="2209680"/>
            <a:ext cx="3733920" cy="1866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1716" t="28519" r="52334" b="0"/>
          <a:stretch/>
        </p:blipFill>
        <p:spPr>
          <a:xfrm>
            <a:off x="3429000" y="3990960"/>
            <a:ext cx="3276720" cy="2867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45008" t="-5192" r="0" b="0"/>
          <a:stretch/>
        </p:blipFill>
        <p:spPr>
          <a:xfrm>
            <a:off x="6629400" y="2057400"/>
            <a:ext cx="2819520" cy="480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198720" y="1752480"/>
            <a:ext cx="34722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孩子的世界裡充滿了愛與同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      </a:t>
            </a: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當成人的世界裡逐漸世故老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上帝便賜下這些天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好叫我們多學一些純真和無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>
            <a:hlinkClick r:id="rId1"/>
          </p:cNvPr>
          <p:cNvPicPr/>
          <p:nvPr/>
        </p:nvPicPr>
        <p:blipFill>
          <a:blip r:embed="rId2"/>
          <a:srcRect l="0" t="0" r="4779" b="7800"/>
          <a:stretch/>
        </p:blipFill>
        <p:spPr>
          <a:xfrm>
            <a:off x="0" y="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04240" y="609480"/>
            <a:ext cx="850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990033"/>
                </a:solidFill>
                <a:latin typeface="Arial"/>
              </a:rPr>
              <a:t>故鄉     故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6360" y="793440"/>
            <a:ext cx="353304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朋友自美寄我一片楓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雖經千里迢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仍然如丹似火 鮮艷無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不禁想起故鄉的楓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我的故鄉就叫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看見筆名就像是再一次提醒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記住 你是杏林鎮的孩子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846000" y="3886200"/>
            <a:ext cx="4446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一片楓葉為誰愁</a:t>
            </a:r>
            <a:r>
              <a:rPr b="1" lang="zh-TW" sz="2800" spc="-1" strike="noStrike">
                <a:solidFill>
                  <a:srgbClr val="cc0066"/>
                </a:solidFill>
                <a:latin typeface="全真顏體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秋心呢  秋思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故鄉</a:t>
            </a:r>
            <a:r>
              <a:rPr b="1" lang="zh-TW" sz="2800" spc="-1" strike="noStrike">
                <a:solidFill>
                  <a:srgbClr val="cc0066"/>
                </a:solidFill>
                <a:latin typeface="Arial"/>
              </a:rPr>
              <a:t>﹗</a:t>
            </a: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  故鄉</a:t>
            </a:r>
            <a:r>
              <a:rPr b="1" lang="zh-TW" sz="2800" spc="-1" strike="noStrike">
                <a:solidFill>
                  <a:srgbClr val="cc0066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511440" cy="4648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15000" y="228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  <a:ea typeface="全真顏體"/>
              </a:rPr>
              <a:t>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609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  <a:ea typeface="全真顏體"/>
              </a:rPr>
              <a:t>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14800" y="377856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哦</a:t>
            </a:r>
            <a:r>
              <a:rPr b="0" lang="zh-TW" sz="2800" spc="-1" strike="noStrike">
                <a:solidFill>
                  <a:srgbClr val="cc3300"/>
                </a:solidFill>
                <a:latin typeface="新細明體"/>
                <a:ea typeface="全真顏體"/>
              </a:rPr>
              <a:t>﹗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在人生的旅途上，別讓我們走得太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因為許多美好的事物，往往在匆匆忙忙中被遺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給我門一顆詩心，隨時不忘檢拾一些美好的片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愛的亮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歡笑和歌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好將我們的生活編得更加豐富美麗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2:32:35Z</dcterms:created>
  <dc:creator>wutao</dc:creator>
  <dc:description/>
  <dc:language>en-US</dc:language>
  <cp:lastModifiedBy>周璟</cp:lastModifiedBy>
  <dcterms:modified xsi:type="dcterms:W3CDTF">2004-09-15T00:57:58Z</dcterms:modified>
  <cp:revision>100</cp:revision>
  <dc:subject/>
  <dc:title>       生     之     歌</dc:title>
</cp:coreProperties>
</file>