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0D3E-E412-4781-B82C-F95490177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5127-237B-49D9-87AC-E6AE44197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4BB8-926B-46DE-B7B3-26501B3AE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D068-5E0A-4E8B-8913-A536A61B6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B7D2-E561-4139-990D-BA4F51948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C46F-B5D0-4672-B3EE-15C423885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94A9-CE31-49A5-A8DE-E1D4E8690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46E1-65FC-4531-8512-287815AD7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BE0E-8EEB-428B-BCED-99724C5F1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6179-D13D-4C01-9884-2BBBD38CC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8597-D34C-4BA4-814E-93FE260C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0D1E-37BD-4FFF-8897-648BBDFE5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60233-57F9-4DE5-B6C3-6D329FF372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280" y="0"/>
            <a:ext cx="83883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  <a:ea typeface="標楷體"/>
              </a:rPr>
              <a:t>杏林子永遠活在我們心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817880" y="2852640"/>
            <a:ext cx="2527560" cy="7642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76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標楷體"/>
              </a:rPr>
              <a:t>勇者劉俠的畫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家居照" descr=""/>
          <p:cNvPicPr/>
          <p:nvPr/>
        </p:nvPicPr>
        <p:blipFill>
          <a:blip r:embed="rId2"/>
          <a:stretch/>
        </p:blipFill>
        <p:spPr>
          <a:xfrm>
            <a:off x="684360" y="2349360"/>
            <a:ext cx="2808000" cy="1973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380360" y="56610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 advTm="18000"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8000"/>
                            </p:stCondLst>
                            <p:childTnLst>
                              <p:par>
                                <p:cTn id="20" nodeType="afterEffect" fill="hold" presetClass="entr" presetID="14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我們一群同事聯名聲援她，並稱讚她說，像她這樣的殘疾人，本應受別人的照顧，可她卻不斷為別人發出熱和光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56000" y="4941720"/>
            <a:ext cx="59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標楷體"/>
              </a:rPr>
              <a:t>她回信說：“我沒你們想像的那麼了不起</a:t>
            </a:r>
            <a:r>
              <a:rPr b="1" lang="zh-CN" sz="4000" spc="-1" strike="noStrike">
                <a:solidFill>
                  <a:srgbClr val="ffff99"/>
                </a:solidFill>
                <a:latin typeface="Arial"/>
                <a:ea typeface="宋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4000">
    <p:split dir="in" orient="horz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39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539640" y="105228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講個笑話給你聽：有人溺水，岸邊圍了一大堆人，卻無人下去救他，正在危急時，突然有一個人跳下去把那個人救上來，大家對此人的英勇均十分敬佩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9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68000" y="1483920"/>
            <a:ext cx="867564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有人問他‘真偉大，你怎麼有</a:t>
            </a:r>
            <a:r>
              <a:rPr b="0" lang="zh-CN" sz="3600" spc="-1" strike="noStrike">
                <a:solidFill>
                  <a:srgbClr val="800000"/>
                </a:solidFill>
                <a:latin typeface="Arial"/>
                <a:ea typeface="宋体"/>
              </a:rPr>
              <a:t>勇</a:t>
            </a: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氣跳下水的？’這人很無辜的回答說：‘我本來是看熱鬧的，因為人太擠，不小心被下水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908000" y="3429000"/>
            <a:ext cx="456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00"/>
                </a:solidFill>
                <a:latin typeface="Arial"/>
                <a:ea typeface="標楷體"/>
              </a:rPr>
              <a:t>結果．．．．．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093120" y="436572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標楷體"/>
              </a:rPr>
              <a:t>明白我的意思了嗎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68360" y="5300640"/>
            <a:ext cx="511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標楷體"/>
              </a:rPr>
              <a:t>我就是個不小心被下水的人，哈哈！”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標楷體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">
    <p:dissolve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3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3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000"/>
                            </p:stCondLst>
                            <p:childTnLst>
                              <p:par>
                                <p:cTn id="180" nodeType="afterEffect" fill="hold" presetClass="entr" presetID="5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65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9500"/>
                            </p:stCondLst>
                            <p:childTnLst>
                              <p:par>
                                <p:cTn id="192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611280" y="765000"/>
            <a:ext cx="8229600" cy="20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標楷體"/>
              </a:rPr>
              <a:t>六十一歲的杏林子，雖然從十二歲起就忍受著關節無止盡的疼痛，進進出出醫院無數次，但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21040" y="2852640"/>
            <a:ext cx="429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標楷體"/>
              </a:rPr>
              <a:t>她從沒有否定生命的芬芳與甜美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46960" y="3933720"/>
            <a:ext cx="46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標楷體"/>
              </a:rPr>
              <a:t>更不敢否定生命的意義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3000">
    <p:wipe dir="u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45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7" nodeType="afterEffect" fill="hold" presetClass="entr" presetID="5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5000"/>
                            </p:stCondLst>
                            <p:childTnLst>
                              <p:par>
                                <p:cTn id="215" nodeType="afterEffect" fill="hold" presetClass="entr" presetID="1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539640" y="47628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標楷體"/>
              </a:rPr>
              <a:t>懷著肅穆的心情，重讀故友贈我的《美麗人生的</a:t>
            </a:r>
            <a:r>
              <a:rPr b="1" lang="en-US" sz="3600" spc="-1" strike="noStrike">
                <a:solidFill>
                  <a:srgbClr val="ffff66"/>
                </a:solidFill>
                <a:latin typeface="標楷體"/>
              </a:rPr>
              <a:t>22</a:t>
            </a:r>
            <a:r>
              <a:rPr b="1" lang="en-US" sz="3600" spc="-1" strike="noStrike">
                <a:solidFill>
                  <a:srgbClr val="ffff66"/>
                </a:solidFill>
                <a:latin typeface="標楷體"/>
              </a:rPr>
              <a:t>種寶典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791080" y="3933720"/>
            <a:ext cx="347256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  <a:ea typeface="標楷體"/>
              </a:rPr>
              <a:t>在經歷了那些歡笑或眼淚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  <a:ea typeface="標楷體"/>
              </a:rPr>
              <a:t>甜蜜或辛酸，種種磨難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  <a:ea typeface="標楷體"/>
              </a:rPr>
              <a:t>心房的碎裂，長夜孤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809440" y="2133720"/>
            <a:ext cx="374688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  <a:ea typeface="標楷體"/>
              </a:rPr>
              <a:t>書中的最後一章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  <a:ea typeface="標楷體"/>
              </a:rPr>
              <a:t>彷彿是她的訣別書：．．．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4000">
    <p:checker dir="horz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6500"/>
                            </p:stCondLst>
                            <p:childTnLst>
                              <p:par>
                                <p:cTn id="233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24000" y="83628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標楷體"/>
              </a:rPr>
              <a:t>我們跌跌撞撞、恓恓惶惶走過一生，面對生命大限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438720" y="2205000"/>
            <a:ext cx="347256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  <a:ea typeface="標楷體"/>
              </a:rPr>
              <a:t>或不甘不捨，或厭煩唾棄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  <a:ea typeface="標楷體"/>
              </a:rPr>
              <a:t>總有太多的人事瓜葛不清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  <a:ea typeface="標楷體"/>
              </a:rPr>
              <a:t>牽扯不斷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12480" y="4581360"/>
            <a:ext cx="49536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  <a:ea typeface="標楷體"/>
              </a:rPr>
              <a:t>又</a:t>
            </a:r>
            <a:r>
              <a:rPr b="1" lang="en-US" sz="3600" spc="-1" strike="noStrike">
                <a:solidFill>
                  <a:srgbClr val="800000"/>
                </a:solidFill>
                <a:latin typeface="Arial"/>
                <a:ea typeface="標楷體"/>
              </a:rPr>
              <a:t>有幾人能豁達、瀟灑從容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  <a:ea typeface="標楷體"/>
              </a:rPr>
              <a:t>‘</a:t>
            </a:r>
            <a:r>
              <a:rPr b="1" lang="en-US" sz="3600" spc="-1" strike="noStrike">
                <a:solidFill>
                  <a:srgbClr val="800000"/>
                </a:solidFill>
                <a:latin typeface="Arial"/>
                <a:ea typeface="標楷體"/>
              </a:rPr>
              <a:t>我輕輕的招手，作別西天的雲彩’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3000">
    <p:checker dir="horz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4" dur="3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3500"/>
                            </p:stCondLst>
                            <p:childTnLst>
                              <p:par>
                                <p:cTn id="246" nodeType="afterEffect" fill="hold" presetClass="entr" presetID="21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8500"/>
                            </p:stCondLst>
                            <p:childTnLst>
                              <p:par>
                                <p:cTn id="250" nodeType="afterEffect" fill="hold" presetClass="entr" presetID="17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23640" y="404280"/>
            <a:ext cx="824364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回顧一生，不論這回顧有多少的不堪，既然這是必然的結局，無從逃避，也無人可以豁免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59280" y="3645000"/>
            <a:ext cx="572436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57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00"/>
                </a:solidFill>
                <a:latin typeface="Arial"/>
                <a:ea typeface="標楷體"/>
              </a:rPr>
              <a:t>就放下勞頓的身心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8440" indent="-57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00"/>
                </a:solidFill>
                <a:latin typeface="Arial"/>
                <a:ea typeface="標楷體"/>
              </a:rPr>
              <a:t>放下一切的是非恩怨，</a:t>
            </a:r>
            <a:br>
              <a:rPr sz="4000"/>
            </a:br>
            <a:r>
              <a:rPr b="0" lang="en-US" sz="4000" spc="-1" strike="noStrike">
                <a:solidFill>
                  <a:srgbClr val="333300"/>
                </a:solidFill>
                <a:latin typeface="Arial"/>
                <a:ea typeface="標楷體"/>
              </a:rPr>
              <a:t>只有感謝和讚美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8440" indent="-57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00"/>
                </a:solidFill>
                <a:latin typeface="Arial"/>
                <a:ea typeface="標楷體"/>
              </a:rPr>
              <a:t>懷念和祝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38360" y="25653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標楷體"/>
              </a:rPr>
              <a:t>那麼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6000">
    <p:randomBar dir="horz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6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0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3000"/>
                            </p:stCondLst>
                            <p:childTnLst>
                              <p:par>
                                <p:cTn id="262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6500"/>
                            </p:stCondLst>
                            <p:childTnLst>
                              <p:par>
                                <p:cTn id="266" nodeType="afterEffect" fill="hold" presetClass="entr" presetID="5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8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9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0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68000" y="1699920"/>
            <a:ext cx="676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文鼎粗隸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對生命敬虔的一鞠躬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450800" y="2787480"/>
            <a:ext cx="14000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標楷體"/>
              </a:rPr>
              <a:t>謝謝天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16240" y="2852640"/>
            <a:ext cx="14000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標楷體"/>
              </a:rPr>
              <a:t>謝謝地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63680" y="4292640"/>
            <a:ext cx="3838320" cy="13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Arial"/>
                <a:ea typeface="標楷體"/>
              </a:rPr>
              <a:t>謝謝所有曾與我們相伴偕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Arial"/>
                <a:ea typeface="標楷體"/>
              </a:rPr>
              <a:t>或交錯而錯過的朋友</a:t>
            </a:r>
            <a:r>
              <a:rPr b="0" lang="en-US" sz="4000" spc="-1" strike="noStrike">
                <a:solidFill>
                  <a:srgbClr val="993300"/>
                </a:solidFill>
                <a:latin typeface="Arial"/>
                <a:ea typeface="標楷體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7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500"/>
                            </p:stCondLst>
                            <p:childTnLst>
                              <p:par>
                                <p:cTn id="279" nodeType="after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1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6000"/>
                            </p:stCondLst>
                            <p:childTnLst>
                              <p:par>
                                <p:cTn id="283" nodeType="afterEffect" fill="hold" presetClass="entr" presetID="21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500"/>
                            </p:stCondLst>
                            <p:childTnLst>
                              <p:par>
                                <p:cTn id="287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23640" y="541080"/>
            <a:ext cx="2268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00"/>
                </a:solidFill>
                <a:latin typeface="Arial"/>
              </a:rPr>
              <a:t>那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74280" y="51264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標楷體"/>
              </a:rPr>
              <a:t>愛過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95600" y="407664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33"/>
                </a:solidFill>
                <a:latin typeface="Arial"/>
                <a:ea typeface="標楷體"/>
              </a:rPr>
              <a:t>人欠我或我欠人．．．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218920" y="51444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Arial"/>
                <a:ea typeface="標楷體"/>
              </a:rPr>
              <a:t>戀過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55280" y="138744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標楷體"/>
              </a:rPr>
              <a:t>恨過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796000" y="1387440"/>
            <a:ext cx="170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  <a:ea typeface="標楷體"/>
              </a:rPr>
              <a:t>怨過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5013360"/>
            <a:ext cx="82296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1872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33"/>
                </a:solidFill>
                <a:latin typeface="Arial"/>
                <a:ea typeface="標楷體"/>
              </a:rPr>
              <a:t>因為他們，豐富了我們的生命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2000">
    <p:strips dir="ru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6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500"/>
                            </p:stCondLst>
                            <p:childTnLst>
                              <p:par>
                                <p:cTn id="298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4000"/>
                            </p:stCondLst>
                            <p:childTnLst>
                              <p:par>
                                <p:cTn id="303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500"/>
                            </p:stCondLst>
                            <p:childTnLst>
                              <p:par>
                                <p:cTn id="308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7000"/>
                            </p:stCondLst>
                            <p:childTnLst>
                              <p:par>
                                <p:cTn id="313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1500"/>
                            </p:stCondLst>
                            <p:childTnLst>
                              <p:par>
                                <p:cTn id="323" nodeType="afterEffect" fill="hold" presetClass="entr" presetID="40">
                                  <p:stCondLst>
                                    <p:cond delay="1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324160" y="836640"/>
            <a:ext cx="44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33"/>
                </a:solidFill>
                <a:latin typeface="Arial"/>
                <a:ea typeface="標楷體"/>
              </a:rPr>
              <a:t>謝謝上帝，讓我們走了這一遭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22880" y="206064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33"/>
                </a:solidFill>
                <a:latin typeface="Arial"/>
                <a:ea typeface="標楷體"/>
              </a:rPr>
              <a:t>也謝謝自己，不虛此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checker dir="vert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36" nodeType="afterEffect" fill="hold" presetClass="entr" presetID="53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0"/>
                            </p:stCondLst>
                            <p:childTnLst>
                              <p:par>
                                <p:cTn id="342" nodeType="afterEffect" fill="hold" presetClass="emph" presetID="20">
                                  <p:stCondLst>
                                    <p:cond delay="150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343" dur="1500" autoRev="1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344" dur="1500" autoRev="1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345" dur="1500" autoRev="1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5327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文鼎粗隸"/>
                <a:ea typeface="文鼎粗隸"/>
              </a:rPr>
              <a:t>“</a:t>
            </a:r>
            <a:r>
              <a:rPr b="1" lang="en-US" sz="4400" spc="-1" strike="noStrike">
                <a:solidFill>
                  <a:srgbClr val="ffff00"/>
                </a:solidFill>
                <a:latin typeface="標楷體"/>
                <a:ea typeface="標楷體"/>
              </a:rPr>
              <a:t>杏林子去世了</a:t>
            </a:r>
            <a:r>
              <a:rPr b="1" lang="en-US" sz="4400" spc="-1" strike="noStrike">
                <a:solidFill>
                  <a:srgbClr val="ffff00"/>
                </a:solidFill>
                <a:latin typeface="標楷體"/>
                <a:ea typeface="標楷體"/>
              </a:rPr>
              <a:t>!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08000" y="1413000"/>
            <a:ext cx="72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標楷體"/>
                <a:ea typeface="標楷體"/>
              </a:rPr>
              <a:t>早上剛起床就聽到這個消息，心胸像被重錘敲了一下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58920" y="328464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標楷體"/>
              </a:rPr>
              <a:t>令我腳步踉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">
    <p:dissolv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500"/>
                            </p:stCondLst>
                            <p:childTnLst>
                              <p:par>
                                <p:cTn id="32" nodeType="afterEffect" fill="hold" presetClass="entr" presetID="42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6000"/>
                            </p:stCondLst>
                            <p:childTnLst>
                              <p:par>
                                <p:cTn id="38" nodeType="afterEffect" fill="hold" presetClass="emph" presetID="36">
                                  <p:stCondLst>
                                    <p:cond delay="1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9150"/>
                            </p:stCondLst>
                            <p:childTnLst>
                              <p:par>
                                <p:cTn id="44" nodeType="afterEffect" fill="hold" presetClass="entr" presetID="2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042920" y="620280"/>
            <a:ext cx="65008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杏林子來人世一趟，確實不虛此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43160" y="501336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標楷體"/>
              </a:rPr>
              <a:t>她，將永遠活在我們的心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2" dur="3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4000"/>
                            </p:stCondLst>
                            <p:childTnLst>
                              <p:par>
                                <p:cTn id="354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4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71640" y="2923920"/>
            <a:ext cx="69832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標楷體"/>
              </a:rPr>
              <a:t>她在幾天前還通過電郵跟我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標楷體"/>
              </a:rPr>
              <a:t>約好，等她身體比較健壯了，就到馬來西亞來跟讀者見面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700360" y="549360"/>
            <a:ext cx="64436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187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標楷體"/>
              </a:rPr>
              <a:t>我跌坐在客廳一隅，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標楷體"/>
              </a:rPr>
              <a:t>默默緬懷她的一切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11280" y="2205000"/>
            <a:ext cx="7632720" cy="20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  <a:ea typeface="標楷體"/>
              </a:rPr>
              <a:t>她以殘弱的身子扛起的重負，</a:t>
            </a:r>
            <a:br>
              <a:rPr sz="4000"/>
            </a:br>
            <a:r>
              <a:rPr b="0" lang="en-US" sz="4000" spc="-1" strike="noStrike">
                <a:solidFill>
                  <a:srgbClr val="ff3300"/>
                </a:solidFill>
                <a:latin typeface="Arial"/>
                <a:ea typeface="標楷體"/>
              </a:rPr>
              <a:t>她對親友、殘障孩子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  <a:ea typeface="標楷體"/>
              </a:rPr>
              <a:t>自然山水、世間萬物的熱愛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73200" y="443700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  <a:ea typeface="標楷體"/>
              </a:rPr>
              <a:t>她那些淚勵人心的文章．．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6" presetSubtype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500"/>
                            </p:stCondLst>
                            <p:childTnLst>
                              <p:par>
                                <p:cTn id="77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2200"/>
                            </p:stCondLst>
                            <p:childTnLst>
                              <p:par>
                                <p:cTn id="83" nodeType="after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55640" y="2060280"/>
            <a:ext cx="78343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想著，想著，我心裡的哀傷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25440" y="342900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  <a:ea typeface="標楷體"/>
              </a:rPr>
              <a:t>漸被敬仰所取代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3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500"/>
                            </p:stCondLst>
                            <p:childTnLst>
                              <p:par>
                                <p:cTn id="95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39280" y="333360"/>
            <a:ext cx="594036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00"/>
                </a:solidFill>
                <a:latin typeface="標楷體"/>
              </a:rPr>
              <a:t>前年我到台北縣新店市杏林子的家探望她，告別時很自然的就伸手要跟她握別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5229360"/>
            <a:ext cx="45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標楷體"/>
              </a:rPr>
              <a:t>可是，她卻無力伸手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cover dir="ld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400"/>
                            </p:stCondLst>
                            <p:childTnLst>
                              <p:par>
                                <p:cTn id="111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26920" y="836640"/>
            <a:ext cx="77774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標楷體"/>
              </a:rPr>
              <a:t>她教我摸她的肩膀，我只觸摸到軟綿綿的膚肌，骨骼都被病菌蝕掉了，雙手僅賴著膚肌吊在身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03280" y="3429000"/>
            <a:ext cx="712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00"/>
                </a:solidFill>
                <a:latin typeface="Arial"/>
                <a:ea typeface="標楷體"/>
              </a:rPr>
              <a:t>刹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標楷體"/>
              </a:rPr>
              <a:t>那間，我的熱淚奪眶而出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867200" y="486900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標楷體"/>
              </a:rPr>
              <a:t>可是杏林子卻以爽朗的笑聲送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500"/>
                            </p:stCondLst>
                            <p:childTnLst>
                              <p:par>
                                <p:cTn id="124" nodeType="after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8900"/>
                            </p:stCondLst>
                            <p:childTnLst>
                              <p:par>
                                <p:cTn id="130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50920" y="1125000"/>
            <a:ext cx="475272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這幾年來，杏林子都把她的新作交給《星洲日報》刊載，因此和我、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艈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林、頌勤同事常有書信往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84360" y="1052280"/>
            <a:ext cx="8229600" cy="32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1997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年台灣發生“白曉燕事件”後，台灣民間發動“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504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為台灣而走”大遊行，十萬人遊行隊伍的領頭人是坐在輪椅上的杏林子。我們一群同事聯名聲援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randomBar dir="vert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3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2T01:51:41Z</dcterms:created>
  <dc:creator>wutao</dc:creator>
  <dc:description/>
  <dc:language>en-US</dc:language>
  <cp:lastModifiedBy>周璟</cp:lastModifiedBy>
  <dcterms:modified xsi:type="dcterms:W3CDTF">2004-09-20T01:10:47Z</dcterms:modified>
  <cp:revision>100</cp:revision>
  <dc:subject/>
  <dc:title>投影片 1</dc:title>
</cp:coreProperties>
</file>