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CC9-2C92-46BA-8463-455DD0C9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CF8-4083-4349-93DF-1600460F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872DC-ED8C-420A-8EDF-5C83FF30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932AE-6625-4FE3-939A-087C65C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6AAC2-88C7-493D-8323-3B02CCF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0F0D4-6788-479B-91F5-CE1277F9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6D36-3668-4021-82C6-69BC71B0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6387E-89D9-464B-93D3-DC0D042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E4CF4-2F7D-406B-9A83-3487243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B1DBE-3561-439B-A0D2-50523351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B524E-3A82-4F1D-AEEF-F74380A6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EE7-328D-4D2C-8209-EEF6729C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A79-D603-4E89-A513-5B9DB4D5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E903-3016-4A09-91F4-0DCAF504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8444-807E-4763-B709-BDF8085E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2537-4C1B-4CD9-8E19-2E1B0CEF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B909-DEF4-4630-8A16-C16FFBCE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F97-00DD-4CC8-9B06-1E20E932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9CC5-78E2-4770-BDC6-C1C3B3E4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3341-7A4A-46A6-812E-6D31160B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C06-449D-4900-9228-69A2C4C9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30A2-12EF-405E-B35B-30779A78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830F-26BC-4B7C-AC55-3E7CADC8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6E35-ADBB-4928-B7E6-3B196D4F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556C-6A58-4F88-858D-A26B8488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0BFC-C665-429F-B21B-9D54BD45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D204F-09E7-44A4-9E16-FCD5F7E8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405BB-81C1-40B3-8FBC-95990B9F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A66ED-771F-432C-AA1D-9757C239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34E85-C0D0-41C6-B7FA-DA504968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84C97-7626-4290-BB4D-EF2DB890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679-8BA5-4C22-9351-F2F8733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648C0-8EA7-4639-BD68-61ABB91F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9D2AA-7EF0-4EA2-96A1-55DA643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EFF2E-5A99-4DF6-A440-5C5BFE6B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92870-A53B-4456-9B4A-A1C50FE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D658F-B9A9-42F6-AF05-45EE15DA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1D297-9D4D-4B89-8C8A-A822B440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3CF64-9B9F-4EC7-B25E-40C29040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A50E-0843-402A-92A8-562074EA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CE4C3-926D-4C93-B86A-71CD9E1C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298B-955A-4409-8613-0075CA2F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CA6-B858-41D8-A300-CEEC687C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5C679-5069-43A1-BBD7-88AFE0D8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114D-2983-4DA4-9887-0A7E22BF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BD913-010A-412D-A2A8-5AB888A8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ED52-3BF7-456D-897A-817CD2CB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9668-9F5B-43D2-8F0E-2D96E71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DC61-FB8B-4532-B5C5-3CD58C7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5A2C-C847-4839-BA9A-96B2826C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E93D-4331-45E3-9CD2-298E48C2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2C32-1F3E-4642-A2FA-5F826C45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191DF-C79D-477F-8222-8103F99F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4B1-9F56-4213-ADCA-5936FB4C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81AAE-CE86-4669-95BD-31DB40D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CE628-633C-4CC3-BC02-63BDC05F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CAF4A-5B48-461B-839E-C23C663B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E006-9F50-4D07-84FE-179C4AAA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D9473-0054-483A-8551-387C7C1D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3543-F00B-440B-9AAA-01F22578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7CD7D-A2FC-4330-BE1B-4262C306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0780D-A1ED-47A4-A5B9-3B4826A4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7037D-5906-4019-90D9-3DC8098F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8D414-5D13-4DCE-BC42-6EBC2BEA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F2A-3991-420E-9FAD-929AC3E7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3A594-1737-458A-A92B-74049197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CCE6D-A062-4279-BD9B-23B4DE22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9680-A0C7-43F9-80BC-DAE260B0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277CB-52C8-47BE-ABFE-EA8DF2F0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36F7E-D26E-40C8-9882-98A208A4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6D4E-CD1E-458C-83F3-DDB16EFE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EA21B-9219-477B-A7BE-F6859E1F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5367-0754-4906-9CE0-0ECE078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D750-92A9-4063-A15A-C367D114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A432-2845-446E-9C5B-CD5D69C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F06-CDFC-4F68-8735-7F929D8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330C5-D141-4858-A496-C2228732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7AA9-B77C-442A-86FF-293909C4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36D7-AF5F-4D2E-BDB0-19178F5D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02B9F-2201-482E-A807-F8474618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A9F43-601F-44B1-BD90-A6E62A23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957BF-039E-4142-A2EB-0F71613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3127-6948-4A16-9CDD-D310872E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4A3DE-D4A4-47E2-86A7-D7468A91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C2A8D-DC4B-4DB6-A49A-681827A1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2B79-2B66-472D-AAA2-3DC11D1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265-1308-466A-874B-4D120FC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167A8-ED9C-4301-81D7-D6A6B652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12AF3-97FF-45FF-B480-C6F09C04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2971E-CAA8-4DDF-B27A-497EE67B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0F604-900B-4CB1-9B84-BD8FA1B3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79F24-7552-4650-9DD6-9600DBC2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83CE-7B49-49C4-94F2-728E0682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C5280-7D32-40F5-B863-87578A0F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B0542-2919-4CCA-AF3D-E57C1191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DD9FD-7534-4CAE-8F2D-E5A590ED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C3CB5-2B5C-4FA6-BD9C-8F9F4154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225-64BB-49DB-B8F5-141BFD6E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A3F01-92FD-4FA1-BC94-20CE53E4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DE675-EDDC-4D2D-ADBC-340B4CD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95BBE-CAD9-4D45-8F2B-056A06A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23D0E-19F5-450F-938D-2FC7BA83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26B1D-DF0C-42BC-BDE7-0D0E46C0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FB664-C69F-4EAD-AE62-A101F92A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4FBC1-8FFF-4433-BAA4-C0657EED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57E47-9296-4878-A95A-1CA5E726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B1A49-5CF6-4D15-B279-DDC286F5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A35A9-4428-49AD-A091-57A30F8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439-E24A-443D-8215-9AF72C61E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43CD-1A7D-494B-8C7E-4E279D5BB9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23BE-2178-44D6-A8DA-7642EFD733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8ECC-1281-47A3-814B-868655219681}" type="slidenum"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E0D7-6830-4331-AF7F-F3263EBA6345}" type="slidenum"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74B6-9C1D-49C6-819C-CB81D4B9F7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2AE1-F059-4851-8981-3474590DC5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7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FA4-CA4B-41B8-89F4-64BE5B1D92FD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90EC-F044-4D79-8D23-E955F81F512A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971640" y="1197000"/>
            <a:ext cx="37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sea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637360" y="134136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宋体"/>
              </a:rPr>
              <a:t>生命   生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106960" y="40766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宋体"/>
              </a:rPr>
              <a:t>杏林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1997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年台湾发生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白晓燕事件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后，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</a:rPr>
              <a:t>台湾民间发动“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504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为台湾而走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  <a:ea typeface="宋体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大游</a:t>
            </a:r>
            <a:r>
              <a:rPr b="0" lang="zh-CN" sz="4000" spc="-1" strike="noStrike">
                <a:solidFill>
                  <a:srgbClr val="ffffff"/>
                </a:solidFill>
                <a:latin typeface="標楷體"/>
              </a:rPr>
              <a:t>行，十万人游行队伍的领头人是坐在轮椅上的杏林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宋体"/>
                <a:ea typeface="宋体"/>
              </a:rPr>
              <a:t>我们一群同事联名声援她，并称赞她说，像她这样的残疾人，本应受别人的照顾，可她却不断为别人发出热和光。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56000" y="494172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她回信说：“我没你们想象的那么了不起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plit dir="in" orient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宋体"/>
                <a:ea typeface="宋体"/>
              </a:rPr>
              <a:t>讲个笑话给你听：有人溺水，岸边围了一大堆人，却无人下去救他，正在危急时，突然有一个人跳下去把那个人救上来，大家对此人的英勇均十分敬佩，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67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有人问他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‘</a:t>
            </a:r>
            <a:r>
              <a:rPr b="0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真伟大，你怎么有气跳下水的？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’</a:t>
            </a:r>
            <a:r>
              <a:rPr b="0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这人很无辜的回答说：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‘</a:t>
            </a:r>
            <a:r>
              <a:rPr b="0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我本来是看热闹的，因为人太挤，不小心被下水，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3429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宋体"/>
                <a:ea typeface="宋体"/>
              </a:rPr>
              <a:t>结果……</a:t>
            </a:r>
            <a:r>
              <a:rPr b="0" lang="zh-CN" sz="3600" spc="-1" strike="noStrike">
                <a:solidFill>
                  <a:srgbClr val="993300"/>
                </a:solidFill>
                <a:latin typeface="Arial"/>
                <a:ea typeface="宋体"/>
              </a:rPr>
              <a:t>’</a:t>
            </a:r>
            <a:r>
              <a:rPr b="0" lang="zh-CN" sz="3600" spc="-1" strike="noStrike">
                <a:solidFill>
                  <a:srgbClr val="9933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104280" y="43927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明白我的意思了吗？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93640" y="530064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我就是个不小心被下水的人，哈哈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5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六十一岁的杏林子，虽然从十二岁起就忍受着关节无止尽的疼痛，进进出出医院无数次，但……</a:t>
            </a:r>
            <a:r>
              <a:rPr b="1" lang="zh-CN" sz="3600" spc="-1" strike="noStrike">
                <a:solidFill>
                  <a:srgbClr val="ff0000"/>
                </a:solidFill>
                <a:latin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932920" y="28526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她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从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沒有否定生命的芬芳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甜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384000" y="393372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更不敢否定生命的意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义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標楷體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wipe dir="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8343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想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着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，想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着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，我心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里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的哀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伤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872800" y="3429000"/>
            <a:ext cx="73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  <a:ea typeface="宋体"/>
              </a:rPr>
              <a:t>渐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  <a:ea typeface="標楷體"/>
              </a:rPr>
              <a:t>被敬仰所取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怀着肃穆的心情，重读故友赠我的《美丽人生的</a:t>
            </a:r>
            <a:r>
              <a:rPr b="1" lang="zh-CN" sz="3600" spc="-1" strike="noStrike">
                <a:solidFill>
                  <a:srgbClr val="ffff66"/>
                </a:solidFill>
                <a:latin typeface="標楷體"/>
                <a:ea typeface="宋体"/>
              </a:rPr>
              <a:t>22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种宝典》。</a:t>
            </a:r>
            <a:r>
              <a:rPr b="1" lang="zh-CN" sz="3600" spc="-1" strike="noStrike">
                <a:solidFill>
                  <a:srgbClr val="ffff66"/>
                </a:solidFill>
                <a:latin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800800" y="3967200"/>
            <a:ext cx="34725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在经历了那些欢笑或眼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甜蜜或辛酸，种种磨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心房的碎裂，长夜孤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481480" y="2162160"/>
            <a:ext cx="3277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书中的最后一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宋体"/>
              </a:rPr>
              <a:t>彷佛是她的诀别书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hecker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我们跌跌撞撞、恓恓惶惶走过一生，面对生命大限，</a:t>
            </a:r>
            <a:r>
              <a:rPr b="1" lang="zh-CN" sz="36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48440" y="2233440"/>
            <a:ext cx="3472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或不甘不舍，或厌烦唾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总有太多的人事瓜葛不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牵扯不断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357280" y="4610160"/>
            <a:ext cx="47217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又有几人能豁达、潇洒从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‘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我轻轻的招手，作别西天的云彩’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3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24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回顾一生，不论这回顾有多少的不堪，既然这是必然的结局，无从逃避，也无人可以豁免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59280" y="3645000"/>
            <a:ext cx="57243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57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宋体"/>
                <a:ea typeface="宋体"/>
              </a:rPr>
              <a:t>就放下劳顿的身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57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宋体"/>
                <a:ea typeface="宋体"/>
              </a:rPr>
              <a:t>放下一切的是非恩怨，</a:t>
            </a:r>
            <a:br>
              <a:rPr sz="4000"/>
            </a:br>
            <a:r>
              <a:rPr b="0" lang="zh-CN" sz="4000" spc="-1" strike="noStrike">
                <a:solidFill>
                  <a:srgbClr val="333300"/>
                </a:solidFill>
                <a:latin typeface="Arial"/>
                <a:ea typeface="宋体"/>
              </a:rPr>
              <a:t>只有感谢和赞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57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宋体"/>
                <a:ea typeface="宋体"/>
              </a:rPr>
              <a:t>怀念和祝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40520" y="2565360"/>
            <a:ext cx="10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那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500"/>
                            </p:stCondLst>
                            <p:childTnLst>
                              <p:par>
                                <p:cTn id="270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文鼎粗隸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对生命敬虔的一鞠躬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51160" y="2787480"/>
            <a:ext cx="1399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谢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16600" y="2852640"/>
            <a:ext cx="1399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谢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73040" y="4322880"/>
            <a:ext cx="38386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谢谢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所有曾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与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我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们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相</a:t>
            </a:r>
            <a:r>
              <a:rPr b="1" lang="zh-CN" sz="4000" spc="-1" strike="noStrike">
                <a:solidFill>
                  <a:srgbClr val="993300"/>
                </a:solidFill>
                <a:latin typeface="宋体"/>
                <a:ea typeface="宋体"/>
              </a:rPr>
              <a:t>伴偕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宋体"/>
                <a:ea typeface="宋体"/>
              </a:rPr>
              <a:t>或交错而错过的朋友 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標楷體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杏林子简洁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-252720" y="141300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杏林子，本名刘侠，一九四二年生。十二岁患类风湿关节炎，至今与病魔纠缠未休，她写作不辍，先后出版多部文集。一九八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年当选台湾十大杰出女青年，一九八三年获得国家文艺基金散文奖。更创办伊甸残障基金，身体力行，为残障朋友服务。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年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月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日不幸去世，享年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61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岁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　　杏林子在作品中处处流露对人、对社会的关爱之情，讴歌天地间种种的美，抒发她对生命的欣赏与喜悦，以过人的毅力和爱心，在繁杂晦暗的社会中透出温暖的亮光。著有《杏林小记》、《生之歌》、《心灵品管》、《行到水穷处》、《真情是一生的承诺》等多部作品。 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851280" y="-5638680"/>
          <a:ext cx="182520" cy="1813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杏林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2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                                  </a:t>
                      </a:r>
                      <a:r>
                        <a:rPr b="0" lang="en-US" sz="115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7" name="xinglinzi" descr=""/>
          <p:cNvPicPr/>
          <p:nvPr/>
        </p:nvPicPr>
        <p:blipFill>
          <a:blip r:embed="rId1"/>
          <a:stretch/>
        </p:blipFill>
        <p:spPr>
          <a:xfrm>
            <a:off x="6227640" y="2349360"/>
            <a:ext cx="248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323640" y="541080"/>
            <a:ext cx="226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那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35440" y="533520"/>
            <a:ext cx="10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爱过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標楷體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95600" y="40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人欠我或我欠人．．．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916520" y="514440"/>
            <a:ext cx="10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恋过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標楷體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052880" y="1387440"/>
            <a:ext cx="10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標楷體"/>
              </a:rPr>
              <a:t>恨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过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標楷體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96000" y="138744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標楷體"/>
              </a:rPr>
              <a:t>怨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过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標楷體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39640" y="5013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宋体"/>
                <a:ea typeface="宋体"/>
              </a:rPr>
              <a:t>因为他们，丰富了我们的生命；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trips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7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538360" y="836640"/>
            <a:ext cx="40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谢谢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上帝，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让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我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们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走了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这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一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864160" y="2060640"/>
            <a:ext cx="28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也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谢谢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自己，不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虚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標楷體"/>
              </a:rPr>
              <a:t>此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mph" presetID="20">
                                  <p:stCondLst>
                                    <p:cond delay="1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7" dur="1500" autoRev="1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8" dur="1500" autoRev="1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9" dur="1500" autoRev="1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042920" y="620280"/>
            <a:ext cx="65008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杏林子来人世一趟，确实不虚此行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571560" y="5013360"/>
            <a:ext cx="31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標楷體"/>
              </a:rPr>
              <a:t>她，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将永远活在我们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標楷體"/>
              </a:rPr>
              <a:t>的心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30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95280" y="260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读一读   想一想   说一说  写一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26920" y="1773360"/>
            <a:ext cx="792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骚扰    小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   茁壮    糟蹋    庸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负    昂然挺立      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擎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天</a:t>
            </a:r>
            <a:r>
              <a:rPr b="1" lang="zh-CN" sz="6000" spc="-1" strike="noStrike">
                <a:solidFill>
                  <a:srgbClr val="6699ff"/>
                </a:solidFill>
                <a:latin typeface="Arial"/>
                <a:ea typeface="宋体"/>
              </a:rPr>
              <a:t>撼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地   肃然起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自主探究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这篇文章共写了几个事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找出自己感触最深的事例，反复品读，体悟文章的内涵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划出自己认为写得最好、最精彩、最能表达作者感情的语句，并体会其作用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赏析语段中好词语的运用，比较分析看看，为什么用得好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补成一句话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0071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只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不停地在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飞来旋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骚扰着我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小憩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令我震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令我肃然起敬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昂然挺立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以擎天撼地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可以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也可以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庸碌一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应许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遭遇祸福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喜或忧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838520" y="1557000"/>
            <a:ext cx="590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．本文写的是什么内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作者是从哪几个方面来写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21760" y="2708280"/>
            <a:ext cx="9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文章表达了作者怎样的感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24000" y="260280"/>
            <a:ext cx="30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整体感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68360" y="5493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合作 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907280" y="1236600"/>
            <a:ext cx="5852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三个事例为什么这样排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为什么前两个事例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小虫子和小瓜苗这样的小生命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三个事例蕴涵的意思侧重点有什么不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小瓜苗仅仅活了几天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说得上”擎天撼地的生命力”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標楷體"/>
              </a:rPr>
              <a:t>杏林子永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远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標楷體"/>
              </a:rPr>
              <a:t>活在我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们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標楷體"/>
              </a:rPr>
              <a:t>心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83640" y="6013440"/>
            <a:ext cx="2672280" cy="764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勇者刘侠的画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6281640"/>
            <a:ext cx="2808360" cy="576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松月书室敬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家居照" descr=""/>
          <p:cNvPicPr/>
          <p:nvPr/>
        </p:nvPicPr>
        <p:blipFill>
          <a:blip r:embed="rId2"/>
          <a:stretch/>
        </p:blipFill>
        <p:spPr>
          <a:xfrm>
            <a:off x="4356000" y="1413000"/>
            <a:ext cx="4248360" cy="41050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738036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18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3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53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文鼎粗隸"/>
                <a:ea typeface="文鼎粗隸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杏林子去世了</a:t>
            </a: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908000" y="1413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宋体"/>
                <a:ea typeface="宋体"/>
              </a:rPr>
              <a:t>早上刚起床就听到这个消息，心胸像被重锤敲了一下，</a:t>
            </a:r>
            <a:r>
              <a:rPr b="1" lang="zh-CN" sz="4000" spc="-1" strike="noStrike">
                <a:solidFill>
                  <a:srgbClr val="ff7c8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69000" y="331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令我脚步踉跄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mph" presetID="36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15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971640" y="2923920"/>
            <a:ext cx="6983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她在几天前还通过电邮跟我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约好，等她身体比较健壮了，就到马来西亚来跟读者见面。</a:t>
            </a:r>
            <a:r>
              <a:rPr b="0" lang="zh-CN" sz="4000" spc="-1" strike="noStrike">
                <a:solidFill>
                  <a:srgbClr val="ffff00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700360" y="54936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8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我跌坐在客厅一隅，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默默缅怀她的一切；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511280" y="2205000"/>
            <a:ext cx="76327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她以残弱的身子扛起的重负，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她对亲友、残障孩子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自然山水、世间万物的热爱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80240" y="4467240"/>
            <a:ext cx="41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她那些激励人心的文章……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2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5940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00"/>
                </a:solidFill>
                <a:latin typeface="宋体"/>
                <a:ea typeface="宋体"/>
              </a:rPr>
              <a:t>前年我到台北县新店市杏林子的家探望她，告别时很自然的就伸手要跟她握别，</a:t>
            </a:r>
            <a:r>
              <a:rPr b="0" lang="zh-CN" sz="4000" spc="-1" strike="noStrike">
                <a:solidFill>
                  <a:srgbClr val="336600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00000" y="5261040"/>
            <a:ext cx="59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可是，她却无力伸手。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4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826920" y="836640"/>
            <a:ext cx="777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她教我摸她的肩膀，我只触摸到软绵绵的肤肌，骨骼都被病菌蚀掉了，双手仅赖着肤肌吊在身上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03280" y="3429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刹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那间，我的热泪夺眶而出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83040" y="489600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可是杏林子却以爽朗的笑声送别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9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752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这几年来，杏林子都把她的新作交给《星洲日报》刊载，因此和我、艈林、颂勤同事常有书信往来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20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01:51:41Z</dcterms:created>
  <dc:creator>wutao</dc:creator>
  <dc:description/>
  <dc:language>en-US</dc:language>
  <cp:lastModifiedBy>zj</cp:lastModifiedBy>
  <dcterms:modified xsi:type="dcterms:W3CDTF">2004-07-19T07:37:03Z</dcterms:modified>
  <cp:revision>100</cp:revision>
  <dc:subject/>
  <dc:title>投影片 1</dc:title>
</cp:coreProperties>
</file>