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4.jpeg" ContentType="image/jpeg"/>
  <Override PartName="/ppt/media/image1.jpeg" ContentType="image/jpeg"/>
  <Override PartName="/ppt/media/image2.png" ContentType="image/png"/>
  <Override PartName="/ppt/media/image4.jpeg" ContentType="image/jpeg"/>
  <Override PartName="/ppt/media/image8.gif" ContentType="image/gif"/>
  <Override PartName="/ppt/media/image13.gif" ContentType="image/gif"/>
  <Override PartName="/ppt/media/image5.jpeg" ContentType="image/jpeg"/>
  <Override PartName="/ppt/media/image6.gif" ContentType="image/gif"/>
  <Override PartName="/ppt/media/image15.gif" ContentType="image/gif"/>
  <Override PartName="/ppt/media/image7.jpeg" ContentType="image/jpeg"/>
  <Override PartName="/ppt/media/image11.png" ContentType="image/png"/>
  <Override PartName="/ppt/media/image9.gif" ContentType="image/gif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74C8-9423-4A45-9765-D24B12039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A5E8-57B1-4551-AC43-53ECA5594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3A8E-C948-4B11-B4E4-366FF8AD7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C1D5-5906-4F25-90CD-138FE9342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121D-7B9A-4BD9-A6C9-CA361F9E8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3EF0-0B3B-49BF-8F74-300157E67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BDCB-6B45-4D90-9F0E-94909ADF4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B4DF-DDDA-42BD-B675-A211B60AB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A779-3ADA-477E-90E6-8C61F5D4C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4426-202C-4069-A58C-8FFFAAB6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B107-6D8C-4DE8-AFBC-3BF8355E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4E09-AD90-4750-8331-A0BB48F3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659A3-762F-41D6-BCEB-2053E9BD40B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audio" Target="file:///tmp/home/.config/libreoffice/4/user/gallery/type.wav" TargetMode="External"/><Relationship Id="rId3" Type="http://schemas.microsoft.com/office/2007/relationships/media" Target="file:///tmp/home/.config/libreoffice/4/user/gallery/type.wav" TargetMode="Externa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81320" y="2209680"/>
            <a:ext cx="2882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Times New Roman"/>
              </a:rPr>
              <a:t>生命 生命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754800" y="37260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作者：杏林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09480" y="6019920"/>
            <a:ext cx="22860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94344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liuxia1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2214360" cy="3171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743200" y="0"/>
            <a:ext cx="59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18181"/>
                </a:solidFill>
                <a:latin typeface="Times New Roman"/>
              </a:rPr>
              <a:t>杏林子，这一位长期处于痛楚的人，这一位只有小学程度，因类风湿性关节炎而全身关节百分之八十损坏的残障者，不单没有诅咒生命，反而洋溢了对生命的歌颂和热爱。她写作不辍，出版的书深受读者们的喜爱，为引发社会对残障者的关注，不惜冒着生命危险上街请愿，成立了「伊甸残障社会福利基金会」，为台湾的弱势群体谋福利。她一生积极开朗，淡泊名利，她有一句名言：「除了爱我一无所有」，她的一生就是基督的爱的见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9080" y="3549600"/>
            <a:ext cx="2199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杏林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1942—200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原名 ：刘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81800" y="6015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字词学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0000" descr=""/>
          <p:cNvPicPr/>
          <p:nvPr/>
        </p:nvPicPr>
        <p:blipFill>
          <a:blip r:embed="rId2"/>
          <a:stretch/>
        </p:blipFill>
        <p:spPr>
          <a:xfrm>
            <a:off x="-304920" y="3828960"/>
            <a:ext cx="4038840" cy="30290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51520" y="1692360"/>
            <a:ext cx="16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小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66280" y="1676520"/>
            <a:ext cx="21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天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撼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09480" y="1600200"/>
            <a:ext cx="21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肃然起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84680" y="29113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糟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386520" y="28954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庸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48840" y="28195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应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5520" y="1241280"/>
            <a:ext cx="85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29360" y="1209600"/>
            <a:ext cx="75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79440" y="1295280"/>
            <a:ext cx="4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0001" descr=""/>
          <p:cNvPicPr/>
          <p:nvPr/>
        </p:nvPicPr>
        <p:blipFill>
          <a:blip r:embed="rId2"/>
          <a:stretch/>
        </p:blipFill>
        <p:spPr>
          <a:xfrm>
            <a:off x="685800" y="5334120"/>
            <a:ext cx="78487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0026" descr=""/>
          <p:cNvPicPr/>
          <p:nvPr/>
        </p:nvPicPr>
        <p:blipFill>
          <a:blip r:embed="rId3"/>
          <a:stretch/>
        </p:blipFill>
        <p:spPr>
          <a:xfrm>
            <a:off x="762120" y="1905120"/>
            <a:ext cx="503280" cy="457200"/>
          </a:xfrm>
          <a:prstGeom prst="rect">
            <a:avLst/>
          </a:prstGeom>
          <a:ln w="0">
            <a:noFill/>
          </a:ln>
        </p:spPr>
      </p:pic>
      <p:pic>
        <p:nvPicPr>
          <p:cNvPr id="61" name="0026" descr=""/>
          <p:cNvPicPr/>
          <p:nvPr/>
        </p:nvPicPr>
        <p:blipFill>
          <a:blip r:embed="rId4"/>
          <a:stretch/>
        </p:blipFill>
        <p:spPr>
          <a:xfrm>
            <a:off x="762120" y="3124080"/>
            <a:ext cx="503280" cy="457200"/>
          </a:xfrm>
          <a:prstGeom prst="rect">
            <a:avLst/>
          </a:prstGeom>
          <a:ln w="0">
            <a:noFill/>
          </a:ln>
        </p:spPr>
      </p:pic>
      <p:pic>
        <p:nvPicPr>
          <p:cNvPr id="62" name="0026" descr=""/>
          <p:cNvPicPr/>
          <p:nvPr/>
        </p:nvPicPr>
        <p:blipFill>
          <a:blip r:embed="rId5"/>
          <a:stretch/>
        </p:blipFill>
        <p:spPr>
          <a:xfrm>
            <a:off x="762120" y="4419720"/>
            <a:ext cx="503280" cy="4572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241440" y="1771560"/>
            <a:ext cx="4364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题目中“生命”一词，为什么连续用两次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去掉一个行不行？为什么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926600" y="2963880"/>
            <a:ext cx="587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作者列举了哪三个事例，用一句话概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每个事例的内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951720" y="4259160"/>
            <a:ext cx="309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三个事例蕴含的意思分别侧重哪一方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对人生的三点思考 分别侧重哪 一方面 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514600" y="228600"/>
            <a:ext cx="4038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想一想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523240" y="1143000"/>
            <a:ext cx="4557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说一说：文中哪些用词让你觉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特别独具匠心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609480" y="6019920"/>
            <a:ext cx="22860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632960" y="711360"/>
            <a:ext cx="5404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我感到一股生命的力量在我手中</a:t>
            </a:r>
            <a:r>
              <a:rPr b="1" i="1" lang="zh-CN" sz="3600" spc="-1" strike="noStrike" u="sng">
                <a:solidFill>
                  <a:srgbClr val="009900"/>
                </a:solidFill>
                <a:uFillTx/>
                <a:latin typeface="Times New Roman"/>
              </a:rPr>
              <a:t>跃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隔了几天，</a:t>
            </a:r>
            <a:r>
              <a:rPr b="1" i="1" lang="zh-CN" sz="3600" spc="-1" strike="noStrike" u="sng">
                <a:solidFill>
                  <a:srgbClr val="009900"/>
                </a:solidFill>
                <a:uFillTx/>
                <a:latin typeface="Times New Roman"/>
              </a:rPr>
              <a:t>竟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冒出了一截小瓜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那一股足以</a:t>
            </a:r>
            <a:r>
              <a:rPr b="1" i="1" lang="zh-CN" sz="3600" spc="-1" strike="noStrike" u="sng">
                <a:solidFill>
                  <a:srgbClr val="009900"/>
                </a:solidFill>
                <a:uFillTx/>
                <a:latin typeface="Times New Roman"/>
              </a:rPr>
              <a:t>擎天撼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生命力，令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zh-CN" sz="3600" spc="-1" strike="noStrike" u="sng">
                <a:solidFill>
                  <a:srgbClr val="009900"/>
                </a:solidFill>
                <a:uFillTx/>
                <a:latin typeface="Times New Roman"/>
              </a:rPr>
              <a:t>肃然起敬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我都愿意为它奋斗，</a:t>
            </a:r>
            <a:r>
              <a:rPr b="1" i="1" lang="zh-CN" sz="3600" spc="-1" strike="noStrike" u="sng">
                <a:solidFill>
                  <a:srgbClr val="009900"/>
                </a:solidFill>
                <a:uFillTx/>
                <a:latin typeface="Times New Roman"/>
              </a:rPr>
              <a:t>勇敢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活下去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BPFAQ" descr=""/>
          <p:cNvPicPr/>
          <p:nvPr/>
        </p:nvPicPr>
        <p:blipFill>
          <a:blip r:embed="rId2"/>
          <a:stretch/>
        </p:blipFill>
        <p:spPr>
          <a:xfrm>
            <a:off x="7772400" y="5257800"/>
            <a:ext cx="100656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80880" y="2362320"/>
            <a:ext cx="844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阅读本文后，结合自己的生活，说说你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感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80880" y="304920"/>
            <a:ext cx="4800600" cy="13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体验与反思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3" name="GOOGOO" descr=""/>
          <p:cNvPicPr/>
          <p:nvPr/>
        </p:nvPicPr>
        <p:blipFill>
          <a:blip r:embed="rId2"/>
          <a:stretch/>
        </p:blipFill>
        <p:spPr>
          <a:xfrm>
            <a:off x="7315200" y="3809880"/>
            <a:ext cx="1257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02:09:20Z</dcterms:created>
  <dc:creator>wutao</dc:creator>
  <dc:description/>
  <dc:language>en-US</dc:language>
  <cp:lastModifiedBy>zj</cp:lastModifiedBy>
  <dcterms:modified xsi:type="dcterms:W3CDTF">2004-07-19T06:58:15Z</dcterms:modified>
  <cp:revision>100</cp:revision>
  <dc:subject/>
  <dc:title>PowerPoint 演示文稿</dc:title>
</cp:coreProperties>
</file>