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BAF-72DF-4CD8-96B7-600125C3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525-D989-4C29-A84F-02FD57C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8B8-B6D5-4F33-BCB3-96AC2A8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322-CF1A-44D4-80A7-77BDA028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3CF-02A0-4BA7-BE9B-CA1BD727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381-FE96-4162-BE0D-147F061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827-528D-436A-BA99-E3297CB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AA9-8DD9-4D15-AF92-1064F06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742-36DB-4545-91F1-CEC985C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CFE-420F-4276-B76A-0429E35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16A-1DC3-45A7-A93C-3D8E2CB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B34-CF13-4C31-A0BE-D248616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BB69-C9BF-4EE5-8879-ACE14B9B39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447920"/>
            <a:ext cx="70106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生命，生命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47920"/>
            <a:ext cx="79246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最宝贵的是生命。生命对每个人只有一次。这仅有的一次生命应当怎样度过呢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当回忆往事的时候，能够不为虚度年华而悔恨，不因碌碌无为而羞耻；在临死的时候，他能够说：‘我的整个生命和全部精力，都已经献给了世界上最壮丽的事业——为人类解放而进行的斗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奥斯特洛夫斯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67000" y="6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教师寄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06768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imes New Roman"/>
              </a:rPr>
              <a:t>教学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理解内容，感悟中心，揣摩词语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学习并运用正确的朗读方法，诵读课文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联系生活实际，谈谈对人生的感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0"/>
            <a:ext cx="48006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74800" y="2286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0280" y="2209680"/>
            <a:ext cx="585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骚扰    小憩    茁壮    糟蹋    庸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2760" y="3733920"/>
            <a:ext cx="57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辜负  昂然挺立  擎天撼地  肃然起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20" y="4876920"/>
            <a:ext cx="598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挣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hē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挣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hèng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应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ī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反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ì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240" y="1692360"/>
            <a:ext cx="735156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āorǎo    xiǎoqì  zhuózhu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zāot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yō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l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3000" y="3200400"/>
            <a:ext cx="88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ūfù    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tǐ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ì    qí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iānh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dì sùr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qǐjì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228600"/>
            <a:ext cx="38098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67652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一、本文作者写了哪三个事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二、你能找出每个事例中的关键词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152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0"/>
            <a:ext cx="4343400" cy="685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2200" y="19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你答对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160" y="914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事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47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叙述小飞蛾的事例，说明一切事物都有强烈的求生欲望，正因如此，我才放了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276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叙述香瓜子的事例，从生命诞生的角度去说明生命是强大的，不可压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412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叙述听心跳的事例，说明生命是宝贵的，应该好好珍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9240" y="16765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之欲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34120" y="32767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4724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0772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关键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6775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自主探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篇文章共写了几个事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自己感触最深的事例，反复品读，体悟文章的内涵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划出自己认为写得最好、最精彩、最能表达作者感情的语句，并体会其作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赏析语段中的好词语运用，比较分析看看，为什么用得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143000"/>
            <a:ext cx="8076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3300"/>
                </a:solidFill>
                <a:uFillTx/>
                <a:latin typeface="Times New Roman"/>
              </a:rPr>
              <a:t>朗读方法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朗读时注意语气、语速、语调及重音的把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理解文章内容，揣摩写作意图，有感情的朗读，从朗读中解决思考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04812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点思考，是必须对自己负责，好好地使用生命，让人生更有意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点思考，是怎样对待生命的短暂，怎样对待生老病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点思考，珍惜生命，珍惜时间，不懈努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09480"/>
            <a:ext cx="830592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imes New Roman"/>
              </a:rPr>
              <a:t>合作探究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从文中找出作者对生命的三点思考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87631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体验反思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阅读本文后，自己的感受是什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日常生活和学习中，自己对生命有哪些认 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应当怎样去生活，对生命或人生是否有不同的见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4:05:32Z</dcterms:created>
  <dc:creator>wutao</dc:creator>
  <dc:description/>
  <dc:language>en-US</dc:language>
  <cp:lastModifiedBy>周璟</cp:lastModifiedBy>
  <dcterms:modified xsi:type="dcterms:W3CDTF">2004-09-08T08:46:02Z</dcterms:modified>
  <cp:revision>100</cp:revision>
  <dc:subject/>
  <dc:title>PowerPoint 演示文稿</dc:title>
</cp:coreProperties>
</file>