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chimes.wav" ContentType="audio/x-wav"/>
  <Override PartName="/ppt/media/image11.jpeg" ContentType="image/jpeg"/>
  <Override PartName="/ppt/media/image12.wmf" ContentType="image/x-wmf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77A5-CD51-4341-BA39-8F9D17ECE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3F66-730B-4F99-8DE0-667DFA9E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8318-D9DA-4B05-93B0-A01AC219C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5665-655B-47F7-902D-314852DBC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B741-7283-4C87-90AC-9D694056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91D6-ED5B-4777-8E7F-FAE4C639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ED4D-5FA3-4052-876E-CEFFB641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77A0-E13F-4F6F-A0E2-F9874BA5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D7FE-C2CB-4419-BFDC-79F5D12C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2B24-8494-4300-AF19-1594DF73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1765-829A-4F75-A9C7-E7327FE0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8D61-00F4-4DBC-99D3-BE725706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AA74-0402-4F29-9755-9C1876040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fo" descr=""/>
          <p:cNvPicPr/>
          <p:nvPr/>
        </p:nvPicPr>
        <p:blipFill>
          <a:blip r:embed="rId1"/>
          <a:stretch/>
        </p:blipFill>
        <p:spPr>
          <a:xfrm>
            <a:off x="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957560" y="3943440"/>
            <a:ext cx="72900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杏林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948360" y="-77760"/>
            <a:ext cx="1185840" cy="57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Times New Roman"/>
                <a:ea typeface="华文彩云"/>
              </a:rPr>
              <a:t>生命     生命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坐轮椅的战时总统罗斯福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144480" y="-834480"/>
            <a:ext cx="2069280" cy="84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坐在轮椅上的总统</a:t>
            </a:r>
            <a:r>
              <a:rPr b="1" lang="en-US" sz="48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罗斯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为反法西斯战争作出了卓著的贡献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hxm" descr=""/>
          <p:cNvPicPr/>
          <p:nvPr/>
        </p:nvPicPr>
        <p:blipFill>
          <a:blip r:embed="rId1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473880" y="-288360"/>
            <a:ext cx="2130480" cy="72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断臂</a:t>
            </a:r>
            <a:r>
              <a:rPr b="1" lang="en-US" sz="48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何雪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           </a:t>
            </a: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书写灿烂的人生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459400" y="228600"/>
            <a:ext cx="301464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Times New Roman"/>
              </a:rPr>
              <a:t>让</a:t>
            </a:r>
            <a:r>
              <a:rPr b="1" lang="en-US" sz="6600" spc="-1" strike="noStrike">
                <a:solidFill>
                  <a:srgbClr val="008000"/>
                </a:solidFill>
                <a:latin typeface="Times New Roman"/>
                <a:ea typeface="华文彩云"/>
              </a:rPr>
              <a:t>生命</a:t>
            </a:r>
            <a:r>
              <a:rPr b="1" lang="en-US" sz="6000" spc="-1" strike="noStrike">
                <a:solidFill>
                  <a:srgbClr val="cc0000"/>
                </a:solidFill>
                <a:latin typeface="Times New Roman"/>
              </a:rPr>
              <a:t>大放异彩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e994b9ca7281a625549cd47a3d6b6960" descr=""/>
          <p:cNvPicPr/>
          <p:nvPr/>
        </p:nvPicPr>
        <p:blipFill>
          <a:blip r:embed="rId1"/>
          <a:stretch/>
        </p:blipFill>
        <p:spPr>
          <a:xfrm>
            <a:off x="0" y="0"/>
            <a:ext cx="7238880" cy="746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E01561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105520" y="4267080"/>
            <a:ext cx="4038480" cy="259092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121" name=""/>
            <p:cNvGrpSpPr/>
            <p:nvPr/>
          </p:nvGrpSpPr>
          <p:grpSpPr>
            <a:xfrm>
              <a:off x="425520" y="565200"/>
              <a:ext cx="711360" cy="474840"/>
              <a:chOff x="425520" y="565200"/>
              <a:chExt cx="711360" cy="474840"/>
            </a:xfrm>
          </p:grpSpPr>
          <p:sp>
            <p:nvSpPr>
              <p:cNvPr id="122" name=""/>
              <p:cNvSpPr/>
              <p:nvPr/>
            </p:nvSpPr>
            <p:spPr>
              <a:xfrm>
                <a:off x="425520" y="565200"/>
                <a:ext cx="437400" cy="474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08560" y="5652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549360" y="987480"/>
              <a:ext cx="737640" cy="474840"/>
              <a:chOff x="549360" y="987480"/>
              <a:chExt cx="737640" cy="474840"/>
            </a:xfrm>
          </p:grpSpPr>
          <p:sp>
            <p:nvSpPr>
              <p:cNvPr id="125" name=""/>
              <p:cNvSpPr/>
              <p:nvPr/>
            </p:nvSpPr>
            <p:spPr>
              <a:xfrm>
                <a:off x="549360" y="987480"/>
                <a:ext cx="4215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918000" y="9874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51080" y="12794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531440" y="441360"/>
            <a:ext cx="117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作业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45440" y="1655640"/>
            <a:ext cx="513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写一则读后感，题目自拟，字数不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如：   人生的启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----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读《生命 生命》有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696080" y="571500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45" name="f3" descr=""/>
          <p:cNvPicPr/>
          <p:nvPr/>
        </p:nvPicPr>
        <p:blipFill>
          <a:blip r:embed="rId5"/>
          <a:stretch/>
        </p:blipFill>
        <p:spPr>
          <a:xfrm>
            <a:off x="152280" y="457200"/>
            <a:ext cx="1371600" cy="1295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022840" y="457200"/>
            <a:ext cx="2672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学习目标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880" y="2421000"/>
            <a:ext cx="183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揣摩词语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感受作者强烈的思想感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学习夹叙夹议的写作手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ball010" descr=""/>
          <p:cNvPicPr/>
          <p:nvPr/>
        </p:nvPicPr>
        <p:blipFill>
          <a:blip r:embed="rId6"/>
          <a:stretch/>
        </p:blipFill>
        <p:spPr>
          <a:xfrm>
            <a:off x="755640" y="2565360"/>
            <a:ext cx="320760" cy="263520"/>
          </a:xfrm>
          <a:prstGeom prst="rect">
            <a:avLst/>
          </a:prstGeom>
          <a:ln w="0">
            <a:noFill/>
          </a:ln>
        </p:spPr>
      </p:pic>
      <p:pic>
        <p:nvPicPr>
          <p:cNvPr id="49" name="ball010" descr=""/>
          <p:cNvPicPr/>
          <p:nvPr/>
        </p:nvPicPr>
        <p:blipFill>
          <a:blip r:embed="rId7"/>
          <a:stretch/>
        </p:blipFill>
        <p:spPr>
          <a:xfrm>
            <a:off x="755640" y="4292640"/>
            <a:ext cx="32076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82749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48520" y="1052640"/>
            <a:ext cx="75103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看清字形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读准字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并解释下列词语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搔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            )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憩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然挺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      )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惊天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庸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             )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糟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    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捉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             )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23200" y="2209680"/>
            <a:ext cx="15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cc0000"/>
                </a:solidFill>
                <a:latin typeface="zypyyb"/>
                <a:ea typeface="zypyyb"/>
              </a:rPr>
              <a:t>ā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 r</a:t>
            </a:r>
            <a:r>
              <a:rPr b="1" lang="en-US" sz="3200" spc="-1" strike="noStrike">
                <a:solidFill>
                  <a:srgbClr val="cc0000"/>
                </a:solidFill>
                <a:latin typeface="zypyyb"/>
                <a:ea typeface="zypyyb"/>
              </a:rPr>
              <a:t>3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30840" y="213372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45400" y="3200400"/>
            <a:ext cx="8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cc0000"/>
                </a:solidFill>
                <a:latin typeface="zypyyb"/>
                <a:ea typeface="zypyyb"/>
              </a:rPr>
              <a:t>4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07800" y="4114800"/>
            <a:ext cx="15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ōn</a:t>
            </a:r>
            <a:r>
              <a:rPr b="1" lang="en-US" sz="3200" spc="-1" strike="noStrike">
                <a:solidFill>
                  <a:srgbClr val="cc0000"/>
                </a:solidFill>
                <a:latin typeface="zypyyb"/>
                <a:ea typeface="zypyyb"/>
              </a:rPr>
              <a:t>g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l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42920" y="4114800"/>
            <a:ext cx="128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cc0000"/>
                </a:solidFill>
                <a:latin typeface="zypyyb"/>
                <a:ea typeface="zypyyb"/>
              </a:rPr>
              <a:t>ā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 t</a:t>
            </a:r>
            <a:r>
              <a:rPr b="1" lang="en-US" sz="3200" spc="-1" strike="noStrike">
                <a:solidFill>
                  <a:srgbClr val="cc0000"/>
                </a:solidFill>
                <a:latin typeface="zypyyb"/>
                <a:ea typeface="zypyyb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41560" y="512460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zhu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ō m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03840" y="5105520"/>
            <a:ext cx="8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ín</a:t>
            </a:r>
            <a:r>
              <a:rPr b="1" lang="en-US" sz="3200" spc="-1" strike="noStrike">
                <a:solidFill>
                  <a:srgbClr val="cc0000"/>
                </a:solidFill>
                <a:latin typeface="zypyyb"/>
                <a:ea typeface="zypyyb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03600" y="3124080"/>
            <a:ext cx="8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zypyyb"/>
                <a:ea typeface="zypyyb"/>
              </a:rPr>
              <a:t>2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</a:t>
            </a:r>
            <a:r>
              <a:rPr b="1" lang="en-US" sz="3200" spc="-1" strike="noStrike">
                <a:solidFill>
                  <a:srgbClr val="cc0000"/>
                </a:solidFill>
                <a:latin typeface="zypyyb"/>
                <a:ea typeface="zypyyb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35000" y="304920"/>
            <a:ext cx="9009000" cy="1052280"/>
            <a:chOff x="135000" y="304920"/>
            <a:chExt cx="9009000" cy="1052280"/>
          </a:xfrm>
        </p:grpSpPr>
        <p:grpSp>
          <p:nvGrpSpPr>
            <p:cNvPr id="60" name=""/>
            <p:cNvGrpSpPr/>
            <p:nvPr/>
          </p:nvGrpSpPr>
          <p:grpSpPr>
            <a:xfrm>
              <a:off x="425520" y="412560"/>
              <a:ext cx="711360" cy="474480"/>
              <a:chOff x="425520" y="412560"/>
              <a:chExt cx="711360" cy="474480"/>
            </a:xfrm>
          </p:grpSpPr>
          <p:sp>
            <p:nvSpPr>
              <p:cNvPr id="61" name=""/>
              <p:cNvSpPr/>
              <p:nvPr/>
            </p:nvSpPr>
            <p:spPr>
              <a:xfrm>
                <a:off x="425520" y="412560"/>
                <a:ext cx="437400" cy="474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08560" y="4125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49360" y="834840"/>
              <a:ext cx="737640" cy="474480"/>
              <a:chOff x="549360" y="834840"/>
              <a:chExt cx="737640" cy="474480"/>
            </a:xfrm>
          </p:grpSpPr>
          <p:sp>
            <p:nvSpPr>
              <p:cNvPr id="64" name=""/>
              <p:cNvSpPr/>
              <p:nvPr/>
            </p:nvSpPr>
            <p:spPr>
              <a:xfrm>
                <a:off x="549360" y="834840"/>
                <a:ext cx="42156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18000" y="8348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135000" y="7617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70040" y="3049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451080" y="11260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1383840" y="30492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思考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14080" y="1752480"/>
            <a:ext cx="318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文章记叙了哪几件事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?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分别用一句话概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每一件事的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7400" y="36576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这三件事分别从哪三个方面选材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40" y="8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447920" y="820800"/>
            <a:ext cx="6251400" cy="4394160"/>
            <a:chOff x="1447920" y="820800"/>
            <a:chExt cx="6251400" cy="4394160"/>
          </a:xfrm>
        </p:grpSpPr>
        <p:sp>
          <p:nvSpPr>
            <p:cNvPr id="74" name=""/>
            <p:cNvSpPr/>
            <p:nvPr/>
          </p:nvSpPr>
          <p:spPr>
            <a:xfrm>
              <a:off x="1447920" y="820800"/>
              <a:ext cx="6251400" cy="439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47920" y="820800"/>
              <a:ext cx="6251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80880" y="1219320"/>
            <a:ext cx="8047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可以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好好地使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或是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白白糟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可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使它过一个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更有意义的人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或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任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荒废虚度，庸碌一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全在我一念之间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必须对自己负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27920" y="45720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揣摩品味文中富有表现力的词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0" y="91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447920" y="912960"/>
            <a:ext cx="6251400" cy="4394160"/>
            <a:chOff x="1447920" y="912960"/>
            <a:chExt cx="6251400" cy="4394160"/>
          </a:xfrm>
        </p:grpSpPr>
        <p:sp>
          <p:nvSpPr>
            <p:cNvPr id="80" name=""/>
            <p:cNvSpPr/>
            <p:nvPr/>
          </p:nvSpPr>
          <p:spPr>
            <a:xfrm>
              <a:off x="1447920" y="912960"/>
              <a:ext cx="6251400" cy="439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47920" y="912960"/>
              <a:ext cx="6251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57200" y="1447920"/>
            <a:ext cx="8047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我原想弄死它，但它鼓动着双翅，极力地挣扎，我感到一股生命的力量在我手中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跃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，那样强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!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那样鲜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0" y="91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447920" y="912960"/>
            <a:ext cx="6251400" cy="4394160"/>
            <a:chOff x="1447920" y="912960"/>
            <a:chExt cx="6251400" cy="4394160"/>
          </a:xfrm>
        </p:grpSpPr>
        <p:sp>
          <p:nvSpPr>
            <p:cNvPr id="85" name=""/>
            <p:cNvSpPr/>
            <p:nvPr/>
          </p:nvSpPr>
          <p:spPr>
            <a:xfrm>
              <a:off x="1447920" y="912960"/>
              <a:ext cx="6251400" cy="439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447920" y="912960"/>
              <a:ext cx="6251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533520" y="3124080"/>
            <a:ext cx="804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在没有阳光、没有泥土的水泥地上，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不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地向上茁长，昂然挺立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0" y="8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447920" y="820800"/>
            <a:ext cx="6251400" cy="4394160"/>
            <a:chOff x="1447920" y="820800"/>
            <a:chExt cx="6251400" cy="4394160"/>
          </a:xfrm>
        </p:grpSpPr>
        <p:sp>
          <p:nvSpPr>
            <p:cNvPr id="90" name=""/>
            <p:cNvSpPr/>
            <p:nvPr/>
          </p:nvSpPr>
          <p:spPr>
            <a:xfrm>
              <a:off x="1447920" y="820800"/>
              <a:ext cx="6251400" cy="439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47920" y="820800"/>
              <a:ext cx="6251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609480" y="4495680"/>
            <a:ext cx="80470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我借来医生的听诊器，聆听自己的心跳，那一声声沉稳而有规律的跳动，给我极深的憾动，这就是我的生命，单单属于我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5880" y="2306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（跳动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84200" y="3557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（倔强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35000" y="304920"/>
            <a:ext cx="9009000" cy="1052280"/>
            <a:chOff x="135000" y="304920"/>
            <a:chExt cx="9009000" cy="1052280"/>
          </a:xfrm>
        </p:grpSpPr>
        <p:grpSp>
          <p:nvGrpSpPr>
            <p:cNvPr id="96" name=""/>
            <p:cNvGrpSpPr/>
            <p:nvPr/>
          </p:nvGrpSpPr>
          <p:grpSpPr>
            <a:xfrm>
              <a:off x="425520" y="412560"/>
              <a:ext cx="711360" cy="474480"/>
              <a:chOff x="425520" y="412560"/>
              <a:chExt cx="711360" cy="474480"/>
            </a:xfrm>
          </p:grpSpPr>
          <p:sp>
            <p:nvSpPr>
              <p:cNvPr id="97" name=""/>
              <p:cNvSpPr/>
              <p:nvPr/>
            </p:nvSpPr>
            <p:spPr>
              <a:xfrm>
                <a:off x="425520" y="412560"/>
                <a:ext cx="437400" cy="474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8560" y="4125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549360" y="834840"/>
              <a:ext cx="737640" cy="474480"/>
              <a:chOff x="549360" y="834840"/>
              <a:chExt cx="737640" cy="474480"/>
            </a:xfrm>
          </p:grpSpPr>
          <p:sp>
            <p:nvSpPr>
              <p:cNvPr id="100" name=""/>
              <p:cNvSpPr/>
              <p:nvPr/>
            </p:nvSpPr>
            <p:spPr>
              <a:xfrm>
                <a:off x="549360" y="834840"/>
                <a:ext cx="42156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918000" y="8348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135000" y="7617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0040" y="3049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451080" y="11260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e994b9ca7281a625549cd47a3d6b6960" descr=""/>
          <p:cNvPicPr/>
          <p:nvPr/>
        </p:nvPicPr>
        <p:blipFill>
          <a:blip r:embed="rId1"/>
          <a:stretch/>
        </p:blipFill>
        <p:spPr>
          <a:xfrm>
            <a:off x="6019920" y="5105520"/>
            <a:ext cx="3504960" cy="2286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7" name="info" descr=""/>
          <p:cNvPicPr/>
          <p:nvPr/>
        </p:nvPicPr>
        <p:blipFill>
          <a:blip r:embed="rId3"/>
          <a:stretch/>
        </p:blipFill>
        <p:spPr>
          <a:xfrm>
            <a:off x="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957560" y="3943440"/>
            <a:ext cx="72900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杏林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39000" y="-336600"/>
            <a:ext cx="1185840" cy="57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Times New Roman"/>
                <a:ea typeface="华文彩云"/>
              </a:rPr>
              <a:t>生命     生命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765000"/>
            <a:ext cx="813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人，最宝贵的是生命。生命对每个人只有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次。这仅有的一次生命应当怎样度过呢？每当回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往事的时候，能够不为虚度年华而悔恨，不因碌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无为而羞耻；在临死的时候，他能够说：“我的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个生命和全部精力，都已经献给了世界上最壮丽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事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─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为人类解放而进行的斗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sanglan" descr=""/>
          <p:cNvPicPr/>
          <p:nvPr/>
        </p:nvPicPr>
        <p:blipFill>
          <a:blip r:embed="rId2"/>
          <a:stretch/>
        </p:blipFill>
        <p:spPr>
          <a:xfrm>
            <a:off x="0" y="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063040" y="152280"/>
            <a:ext cx="3563280" cy="62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Times New Roman"/>
              </a:rPr>
              <a:t>高位截瘫的</a:t>
            </a:r>
            <a:r>
              <a:rPr b="1" lang="en-US" sz="60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桑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Times New Roman"/>
              </a:rPr>
              <a:t>                 </a:t>
            </a:r>
            <a:r>
              <a:rPr b="1" lang="en-US" sz="4800" spc="-1" strike="noStrike">
                <a:solidFill>
                  <a:srgbClr val="ff9900"/>
                </a:solidFill>
                <a:latin typeface="Times New Roman"/>
              </a:rPr>
              <a:t>笑对人生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10:43:44Z</dcterms:created>
  <dc:creator>wutao</dc:creator>
  <dc:description/>
  <dc:language>en-US</dc:language>
  <cp:lastModifiedBy>周璟</cp:lastModifiedBy>
  <dcterms:modified xsi:type="dcterms:W3CDTF">2004-09-08T08:43:36Z</dcterms:modified>
  <cp:revision>100</cp:revision>
  <dc:subject/>
  <dc:title>PowerPoint 演示文稿</dc:title>
</cp:coreProperties>
</file>