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1B3-E407-448E-BAB1-B4D65E4E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C6D-6FCA-4A36-89AE-0AE0B59A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D38-916C-4720-A4E6-0C4C5B65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746-EACD-4AA0-877E-9D2F5A53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7C4-11F6-4831-84CF-33C71CED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234-752C-4A16-A872-DA8A78EF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F68-B80D-4348-A70E-0D50A306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F51-8D07-4C66-8210-11D20460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874-9E34-454C-B3CE-101D21E5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66C-64DB-4ACB-8FE1-56046853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AD8-414A-4B5C-8A66-6380EAEC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079-1910-42FE-86C2-E21ED65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30A2-986B-45ED-AEB0-508A1B7840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otai0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0773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62120" y="1371600"/>
            <a:ext cx="73911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命运交响曲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1371600"/>
            <a:ext cx="7238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延伸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写在作文本上，命题日记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写一则读后感，题目自拟，字数不限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  如：人生的启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13372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理解内容，感悟中心，揣摩词语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．学习并运用正确的朗读方法，诵读课文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．联系生活实际，谈谈对人生的感悟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23880" y="685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60120" y="504720"/>
            <a:ext cx="99468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一读，写一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49320"/>
            <a:ext cx="76960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扰　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壮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糟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庸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负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然挺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地　肃然起敬　应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828800"/>
            <a:ext cx="7531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文写的是什么内容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者是从哪几个方面来写的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章表达了作者怎样的感情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13200" y="457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边听边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8288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篇文章共写了几个事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找出自己感触最深的事例，反复品读，体悟文章的内涵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③划出自己认为写得最好、最精彩、最能表达作者感情的语句，并体会其作用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④赏析语段中的好词语运用，比较分析看看，为什么用得好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60560" y="68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主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2209680"/>
            <a:ext cx="69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  ①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朗读时注意语气、语速、语调及重音的把握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  ②理解文章内容，揣摩写作意图，有感情的朗读，从朗读中解决思考题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3000" y="838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朗读指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0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文中找出作者对生命的三点思考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5909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第一点思考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必须对自己负责，好好地使用生命，让人生更有意义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二点思考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怎样对待生命的短暂，怎样对待生老病死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三点思考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珍惜生命，珍惜时间，不懈努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9144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质疑交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本文后，自己的感受是什么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日常生活和学习中，自己对生命有哪些认识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应当怎样去生活，对生命或人生是否有不同的见解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12952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拓展延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  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速读美国克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沃森的《生命，生命》，并与本文进行比较，通过比较阅读，思考：两篇文章比较，自己更喜欢哪一篇，为什么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2:33:24Z</dcterms:created>
  <dc:creator>wutao</dc:creator>
  <dc:description/>
  <dc:language>en-US</dc:language>
  <cp:lastModifiedBy>abc</cp:lastModifiedBy>
  <dcterms:modified xsi:type="dcterms:W3CDTF">2004-09-04T23:11:26Z</dcterms:modified>
  <cp:revision>100</cp:revision>
  <dc:subject/>
  <dc:title>PowerPoint 演示文稿</dc:title>
</cp:coreProperties>
</file>