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300-ECAD-4B36-B74D-D60297B4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1EE-58F4-4F59-AA25-BB227E00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AF0-E526-40C1-9151-7CCDD45E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033-7A9C-41E6-9EDD-00B23E4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76F3-B769-4A3C-B292-71FA6F88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2F9-E738-4080-A978-DC808BF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6EA-DBFA-4801-A369-7C3EAD2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C849-39ED-42F3-86D9-D5C08BFC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2A5-AD81-4F67-A04F-30EBBE3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F7C-6E9D-49AE-AADA-FCAEC66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ECBC-D829-452B-BE77-2AA5FE4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767-23E4-48D4-BA34-1BC6518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430-B723-4B90-A454-4F8D411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EDF-A02D-401D-8AC9-5BC150A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FC43-79C3-4041-81AD-459EBA9D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BD54-0722-44BA-A4AA-8B84B58A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68F4-FBD4-45AB-8ACA-B80892CF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022-E00E-4B9A-9AC7-ED07D6C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D15-B94F-47C9-B4FF-04B30EB4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B08-6A63-42B1-A022-A8653B4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76E-15A4-4ACA-B311-603547DF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3C5-E962-4652-AFFD-F809420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B53-6F98-4A5B-AAF3-78E8EBF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C89-295D-4550-864D-BA8096B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FB5-FFCF-41B8-9C55-109F9EECA99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CA8-63FC-4D30-88C5-D925FE510F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生命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6760" y="1897200"/>
            <a:ext cx="549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546120" y="152280"/>
            <a:ext cx="23749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生    命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2286000"/>
            <a:ext cx="2374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生    命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4267080"/>
            <a:ext cx="1521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杏 林 子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生命的力量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17240" y="601560"/>
            <a:ext cx="164268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b00b"/>
                </a:solidFill>
                <a:latin typeface="隶书"/>
                <a:ea typeface="隶书"/>
              </a:rPr>
              <a:t>钻 缝 而 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</a:rPr>
              <a:t>重点突破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828800"/>
            <a:ext cx="253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0666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讨论一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三个事例蕴含的意思分别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侧重于哪一方面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5760" y="3745080"/>
            <a:ext cx="7635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讨论二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对人生的三点思考进行了怎样的安排？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89280" y="0"/>
            <a:ext cx="458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ffcc"/>
                </a:solidFill>
                <a:uFillTx/>
                <a:latin typeface="Times New Roman"/>
                <a:ea typeface="华文隶书"/>
              </a:rPr>
              <a:t>疑难研讨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066680"/>
            <a:ext cx="77119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华文新魏"/>
              </a:rPr>
              <a:t>问题一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文章中三个事例为什么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这样排列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3480" y="3581280"/>
            <a:ext cx="77691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华文新魏"/>
              </a:rPr>
              <a:t>问题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说小瓜苗“擎天撼地的生命力”，又说“它仅仅活了几天”，是不是自相矛盾？为什么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912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名言警句：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0666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生命如逝水，流去的日子是不会回来的。为了不让生命毫无痕迹地消失，我们一定要好好地把握它，利用它，填满它，至低限度，让它留下一点对得起自己的痕迹。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                 —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罗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的生命是短暂的，但我要把     有限的生命投入到无限的为人民服务之中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                 —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雷锋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44040" y="-1522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名言警句：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7462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，最宝贵的是生命，生命对每个人只有一次。这仅有的一次生命应当怎样度过呢？每当回忆往事的时候，能够不为虚度年华而悔恨，不因碌碌无为而羞耻。在临死的时候，他能够说：“我的整个生命和全部精力，都已经献给了世界上最壮丽的事业——为人类解放而斗争。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——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奥斯特洛夫斯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76720" y="152280"/>
            <a:ext cx="556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生命是张没有价值的白纸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自从绿给了我发展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红给了我热情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黄教我以忠义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蓝教我以高洁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粉红赐我以希望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灰白赠我以悲哀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再完成这帧彩图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黑还要加我以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从此以后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我便溺爱于我的生命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因为我爱她的色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 rot="5400000">
            <a:off x="1019160" y="1724040"/>
            <a:ext cx="2124000" cy="96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色彩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36640" y="24912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9200" y="303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者简介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207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楷体ＣＳ"/>
              </a:rPr>
              <a:t>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杏林子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名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刘侠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杏林子只是笔名。她生前饱受病痛煎熬，但在病榻上阅读了大量文学作品，因而培养出创作兴趣与文学底子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第一部创作《生之歌》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最后一本散文集《打破的古董》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她去世后，身体捐赠给医院做病理解剖。她留下的爱永远在大家心中，她的一生和她的著作成为千万人的精神食粮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9520" y="297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掌握下列红颜色字的读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219320"/>
            <a:ext cx="90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骚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扰（   ）      小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憩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茁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壮（     ）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糟蹋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 ）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庸碌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（     ）（   ）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辜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负（  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昂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然挺立（   ）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擎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撼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地（      ）（    ）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肃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然起敬（   ）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55160" y="144792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295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1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zh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ó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9652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1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19652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666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ō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6920" y="2727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2666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429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1911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4419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48920" y="4876920"/>
            <a:ext cx="10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book3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1523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304920"/>
            <a:ext cx="29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ff33"/>
                </a:solidFill>
                <a:uFillTx/>
                <a:latin typeface="Times New Roman"/>
                <a:ea typeface="华文行楷"/>
              </a:rPr>
              <a:t>词语释义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295280"/>
            <a:ext cx="2438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骚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憩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茁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糟蹋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庸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2440" y="129528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使人不安宁；干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236232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休息一会。憩：休息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4290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强壮、健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49568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浪费或损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638680"/>
            <a:ext cx="702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形容人平庸，没有作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0"/>
            <a:ext cx="3597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昂然挺立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擎天撼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肃然起敬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辜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8080" y="0"/>
            <a:ext cx="542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挺胸抬头，无所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畏惧地直立着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38360" y="1449360"/>
            <a:ext cx="305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形容力量巨大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擎，举起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撼，摇动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41760" y="365760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由于受感动而产生恭敬和钦佩之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5867280"/>
            <a:ext cx="70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对不起别人好心或期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84360" y="15228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整体感知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905120"/>
            <a:ext cx="3124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感知</a:t>
            </a:r>
            <a:r>
              <a:rPr b="1" lang="en-US" sz="48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03848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作者的思路是怎样的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217520"/>
            <a:ext cx="908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文章举了哪三个关于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生命的事例？引发了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怎样的思考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18148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Times New Roman"/>
                <a:ea typeface="华文新魏"/>
              </a:rPr>
              <a:t>如何理解文章的中心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花朵" descr=""/>
          <p:cNvPicPr/>
          <p:nvPr/>
        </p:nvPicPr>
        <p:blipFill>
          <a:blip r:embed="rId1"/>
          <a:stretch/>
        </p:blipFill>
        <p:spPr>
          <a:xfrm>
            <a:off x="0" y="5257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3276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生命  生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1905120"/>
            <a:ext cx="533520" cy="3429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三件关于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命的小故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94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3480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小飞蛾挣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170640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香瓜子萌芽生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07800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心脏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6360" y="91440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生之欲望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23162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生命力强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6878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感受生命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0360" y="49831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引发思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花朵" descr=""/>
          <p:cNvPicPr/>
          <p:nvPr/>
        </p:nvPicPr>
        <p:blipFill>
          <a:blip r:embed="rId1"/>
          <a:stretch/>
        </p:blipFill>
        <p:spPr>
          <a:xfrm>
            <a:off x="1219320" y="51814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5400000">
            <a:off x="5867280" y="1218960"/>
            <a:ext cx="3810240" cy="21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小  飞  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生命的力量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437040" y="609480"/>
            <a:ext cx="2191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方正舒体"/>
                <a:ea typeface="方正舒体"/>
              </a:rPr>
              <a:t> </a:t>
            </a:r>
            <a:r>
              <a:rPr b="1" lang="en-US" sz="6600" spc="-1" strike="noStrike">
                <a:solidFill>
                  <a:srgbClr val="7358a8"/>
                </a:solidFill>
                <a:latin typeface="方正舒体"/>
                <a:ea typeface="方正舒体"/>
              </a:rPr>
              <a:t>茁 壮 生  长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2:41:07Z</dcterms:created>
  <dc:creator>wutao</dc:creator>
  <dc:description/>
  <dc:language>en-US</dc:language>
  <cp:lastModifiedBy>周璟</cp:lastModifiedBy>
  <dcterms:modified xsi:type="dcterms:W3CDTF">2004-09-13T02:17:08Z</dcterms:modified>
  <cp:revision>100</cp:revision>
  <dc:subject/>
  <dc:title>PowerPoint 演示文稿</dc:title>
</cp:coreProperties>
</file>