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  <p:custShowLst>
    <p:custShow name="自定义放映1" id="0">
      <p:sldLst>
        <p:sld r:id="rId6"/>
        <p:sld r:id="rId7"/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441-78E2-4B50-B824-C1388063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404-5920-423B-8A2B-2E71A7B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D3D-9CB1-4A9D-9857-68E4E640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D66-6621-48E9-9618-6417207D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C85-0A13-4C1F-8627-9CE4F249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1CD3-0423-4A3D-B44A-D500877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4B9-EF55-4596-9854-13BD4CD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BDE-B603-40FE-A71D-E77DEA27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1E2-26F9-41AE-B28F-370740C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2C8-4792-4922-99EC-5144BEB5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8CF-17F1-43EC-A2DF-0EDF79F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E19-602B-48BB-B5B6-F2C255C0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261A-EA03-4F92-9A03-6E6492B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15CF-DAA5-471E-835F-B8DCBEA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83B-51B4-4B34-8AC2-BF205A7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FDC-37BB-4A81-AE93-3A372BC6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C8F4-763F-430B-97AE-61D57A1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746-BD8B-417C-AC93-8BC8610F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1CB-2860-4F52-B8DC-AB3DEA02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597-EFCC-48C9-A090-5B591D1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8B3-85F4-4A67-9597-00BB504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B7B-9AF9-4D51-A470-B62743D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FB0-75F9-4A39-B28B-A4A2988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C92-F71E-4246-8C0E-2DA0826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A354-2523-4B47-9E10-E2002554CF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FFF-E4CA-4EAA-B787-D4AE3A91C0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2096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3710"/>
                </a:solidFill>
                <a:latin typeface="Times New Roman"/>
                <a:ea typeface="楷体_GB2312"/>
              </a:rPr>
              <a:t>生命，生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6002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杏林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271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AWT27WP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4016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笔名：杏林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杏林子，这一位长期处于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楚的人，这位只有小学程度，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类风湿性关节炎而全身关节百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之八十损坏的残障者，不但没有诅咒生命，反而洋溢了对生命的歌颂和热爱。她写作不辍，出版的书深受读者们的喜爱，为引发社会对残障者的关注，不惜冒着生命危险上街请愿，成立了“伊甸残障社会福利基金会”，为台湾的弱势群体谋福利。她一生积极开朗，淡泊名利，她有一句名言：“除了爱我一无所有”，她的一生就是基督的爱的见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43280" y="762120"/>
            <a:ext cx="525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章写了哪几个事例？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提示：可抓住文中的词语概括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43280" y="3429000"/>
            <a:ext cx="525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请从以上三个事例中，选出你感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最深的事例，说说为什么喜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54480" y="1160640"/>
            <a:ext cx="4874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第二段为例，请寻找课文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得非常好的词语， 用圆圈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来， 想一想为什么用得好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018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这些富有表现力、生命力的词句是很能表达作者的情感的，也才使文章显得更为生动，朗读时特别应注意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朗读指导：注意把握朗读技巧（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）注意语速、语调、停顿、重音。（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）理解内容，有表情地加以朗读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90720"/>
            <a:ext cx="91440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无论怎样微弱的生命，都具有不可思议的生命力，作者从小现象悟出大道理是 很能启发人的，同时，她对生命的思考也由此展开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从文中找出作者对生命的三点思考 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一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必须对自己负责，好好地使用生命，让人生更有意义。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二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回答怎样对待生命的短暂，怎样对待生老病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098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三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将目标、信念付诸于行动。要珍惜生命、珍惜时间、不懈努力，为生命奋斗，“勇敢地活下去”。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0800" y="703440"/>
            <a:ext cx="5880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读罢全文，你感受到什么？请联系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生活实际谈谈你对生命的认识。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808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请用下列格式说话：“我感受到，生命因为……而美丽”，再联系到生活实际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示范：我感受到生命因为自强不息而美丽，著名作曲家贝多芬又瞎又聋，但他自强不息与命运抗争，终于“扼住了命运的咽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12040" y="144792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由生命你还联想到什么？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5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文章可以结束，但生命的长河永无止境。每当夜深时，我合上眼睛，眼前总会浮现这样一幅幅图景：鲁迅在夜里一边咳嗽，一边写文章，昏暗的灯光下，发出内心的《呐喊》；卡夫卡彻夜写完自传体小说《判决》，完成与自己灵魂的对话；普鲁斯特从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岁到死，生活在暗室中，门窗紧闭，房间里点着蜡烛，《追忆似水年华》成为他唯一的安慰。这是一群孤独的人，这又是一群灵魂饱满的人。对于我们来说，我们的青春的生命不必像他们那样有太重的负荷。我想说的只是，哪怕我们的世界变得越来越小，越来越平庸，也别让我们的生命之花枯萎，别让我们的精神之花凋谢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8328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10520" y="609480"/>
            <a:ext cx="566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以“由生命联想到……”为范围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结合实际谈谈你对生命的感受</a:t>
            </a: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-311040"/>
          <a:ext cx="9144000" cy="74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11040"/>
                    <a:ext cx="9144000" cy="74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02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4833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03" descr=""/>
          <p:cNvPicPr/>
          <p:nvPr/>
        </p:nvPicPr>
        <p:blipFill>
          <a:blip r:embed="rId1"/>
          <a:stretch/>
        </p:blipFill>
        <p:spPr>
          <a:xfrm>
            <a:off x="0" y="-312840"/>
            <a:ext cx="9144000" cy="7483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04" descr=""/>
          <p:cNvPicPr/>
          <p:nvPr/>
        </p:nvPicPr>
        <p:blipFill>
          <a:blip r:embed="rId1"/>
          <a:stretch/>
        </p:blipFill>
        <p:spPr>
          <a:xfrm>
            <a:off x="-304920" y="-561960"/>
            <a:ext cx="9448920" cy="7732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33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06" descr=""/>
          <p:cNvPicPr/>
          <p:nvPr/>
        </p:nvPicPr>
        <p:blipFill>
          <a:blip r:embed="rId1"/>
          <a:stretch/>
        </p:blipFill>
        <p:spPr>
          <a:xfrm>
            <a:off x="0" y="-312840"/>
            <a:ext cx="9144000" cy="7483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8088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但人的生命却只有两万多天，我们不禁深深叹息：人生是如此短暂！但是在如此短暂的人生中，我们可以面临许多选择，我们可以选择坚强、勇敢和快乐，也可以选择脆弱、逃避悲伤，甚至是死亡。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09-13T02:20:54Z</dcterms:modified>
  <cp:revision>100</cp:revision>
  <dc:subject/>
  <dc:title>PowerPoint Presentation</dc:title>
</cp:coreProperties>
</file>