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jpeg" ContentType="image/jpeg"/>
  <Override PartName="/ppt/media/image15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6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947-0F8A-4090-9D52-D51933B1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931-3DFE-4301-A861-C818A931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8A7-E112-495D-BFA8-63C0C13E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298-FB90-42C1-8DFD-E85AFEAE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1BB-967A-4EBB-9CC0-FB5A2F5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374-7A9F-45C6-933C-1034D50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B81-62DF-4D17-8CFA-3EA51766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570-CAA3-447E-9114-9EBBCBF5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9C3-DF9F-4022-91C8-CD4964E9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8E7-6FBF-47F1-8E1C-7924029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017-3B10-4EE1-B4E9-3DAEDC7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516-FB2F-4BCD-96D3-47CDF9B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CFA7-5C0C-41E2-BA19-8DBA642830B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b.khgs.tn.edu.tw/" TargetMode="External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介紹一位名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她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一是一位傷殘著，但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她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不會自暴自棄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，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放棄自己反而造福了身旁的人，也是一位著名的文學創作家！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           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你知道他是誰了嗎？如果不知到就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与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我一同揭曉答案吧！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-18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42720"/>
          </a:xfrm>
          <a:prstGeom prst="rect">
            <a:avLst/>
          </a:prstGeom>
          <a:ln w="0">
            <a:noFill/>
          </a:ln>
        </p:spPr>
      </p:pic>
      <p:pic>
        <p:nvPicPr>
          <p:cNvPr id="44" name="num-3-3" descr=""/>
          <p:cNvPicPr/>
          <p:nvPr/>
        </p:nvPicPr>
        <p:blipFill>
          <a:blip r:embed="rId3"/>
          <a:stretch/>
        </p:blipFill>
        <p:spPr>
          <a:xfrm>
            <a:off x="1600200" y="609480"/>
            <a:ext cx="990720" cy="1009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杏林子的小檔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Times New Roman"/>
                <a:ea typeface="文鼎粗行楷"/>
              </a:rPr>
              <a:t>姓名：</a:t>
            </a:r>
            <a:r>
              <a:rPr b="0" lang="zh-TW" sz="2000" spc="-1" strike="noStrike">
                <a:solidFill>
                  <a:srgbClr val="ff6600"/>
                </a:solidFill>
                <a:latin typeface="Times New Roman"/>
                <a:ea typeface="文鼎粗行楷"/>
              </a:rPr>
              <a:t>劉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筆名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杏林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生於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民國三十三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卒於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民國九十二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籍貫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陜西省扶風縣杏林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經歷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12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歲罹患罕見的類風濕性關節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曾任內政部傷殘服務中心顧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任伊甸殘障殘障福利基金會負責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教育部特殊教育委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中華民國聯盟理事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著作有劇本、散文、小說、傳記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69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當選十大傑出女青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72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獲頒國家文藝獎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79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獲吳三連基金會社會服務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學歷：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北市北投國小畢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-18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num-3-4" descr=""/>
          <p:cNvPicPr/>
          <p:nvPr/>
        </p:nvPicPr>
        <p:blipFill>
          <a:blip r:embed="rId3"/>
          <a:stretch/>
        </p:blipFill>
        <p:spPr>
          <a:xfrm>
            <a:off x="1066680" y="304920"/>
            <a:ext cx="838440" cy="10666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堅強的杏林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00ff"/>
                </a:solidFill>
                <a:latin typeface="Times New Roman"/>
                <a:ea typeface="文鼎粗行楷"/>
              </a:rPr>
              <a:t>這一位堅強的女子雖然身體上有殘缺，生命的路上也是很不平穩，但卻使他創造不平凡的一生，也使他造福了那些在黑暗角落的弱勢團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iuxia1" descr=""/>
          <p:cNvPicPr/>
          <p:nvPr/>
        </p:nvPicPr>
        <p:blipFill>
          <a:blip r:embed="rId2"/>
          <a:stretch/>
        </p:blipFill>
        <p:spPr>
          <a:xfrm>
            <a:off x="5114880" y="2590920"/>
            <a:ext cx="287496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5-03" descr=""/>
          <p:cNvPicPr/>
          <p:nvPr/>
        </p:nvPicPr>
        <p:blipFill>
          <a:blip r:embed="rId3"/>
          <a:stretch/>
        </p:blipFill>
        <p:spPr>
          <a:xfrm>
            <a:off x="0" y="1676520"/>
            <a:ext cx="89917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num-3-5" descr=""/>
          <p:cNvPicPr/>
          <p:nvPr/>
        </p:nvPicPr>
        <p:blipFill>
          <a:blip r:embed="rId4"/>
          <a:stretch/>
        </p:blipFill>
        <p:spPr>
          <a:xfrm>
            <a:off x="1447920" y="38088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杏林小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TW" sz="2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這本書裡的短文好比都是為灰心失望者，唱出來的安慰激動的長詩。讀了她的書以後，就向有股潺潺清泉流過心中，能撫平人焦躁的情緒，更能激發人向上的無線潛力。</a:t>
            </a:r>
            <a:r>
              <a:rPr b="0" lang="zh-TW" sz="2800" spc="-1" strike="noStrike">
                <a:solidFill>
                  <a:srgbClr val="ff0000"/>
                </a:solidFill>
                <a:latin typeface="文鼎粗行楷"/>
                <a:ea typeface="文鼎粗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6" descr=""/>
          <p:cNvPicPr/>
          <p:nvPr/>
        </p:nvPicPr>
        <p:blipFill>
          <a:blip r:embed="rId2"/>
          <a:stretch/>
        </p:blipFill>
        <p:spPr>
          <a:xfrm>
            <a:off x="1141560" y="2514600"/>
            <a:ext cx="289692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num-3-6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58" name="5-16" descr=""/>
          <p:cNvPicPr/>
          <p:nvPr/>
        </p:nvPicPr>
        <p:blipFill>
          <a:blip r:embed="rId4"/>
          <a:stretch/>
        </p:blipFill>
        <p:spPr>
          <a:xfrm>
            <a:off x="0" y="1828800"/>
            <a:ext cx="9144000" cy="5619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相關檔案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粗行楷"/>
              </a:rPr>
              <a:t>杏林老玩子：</a:t>
            </a:r>
            <a:r>
              <a:rPr b="0" lang="zh-TW" sz="3200" spc="-1" strike="noStrike">
                <a:solidFill>
                  <a:srgbClr val="ff00ff"/>
                </a:solidFill>
                <a:latin typeface="Verdana"/>
              </a:rPr>
              <a:t>http://www.119.eden.org.t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粗行楷"/>
              </a:rPr>
              <a:t>杏林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 </a:t>
            </a:r>
            <a:r>
              <a:rPr b="0" lang="zh-TW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lib.khgs.tn.edu.tw</a:t>
            </a: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文鼎粗行楷"/>
              </a:rPr>
              <a:t>杏林小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 </a:t>
            </a:r>
            <a:r>
              <a:rPr b="0" lang="zh-TW" sz="3200" spc="-1" strike="noStrike">
                <a:solidFill>
                  <a:srgbClr val="ff00ff"/>
                </a:solidFill>
                <a:latin typeface="Verdana"/>
              </a:rPr>
              <a:t>http://www.ksml.edu.t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1-14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915400" cy="392400"/>
          </a:xfrm>
          <a:prstGeom prst="rect">
            <a:avLst/>
          </a:prstGeom>
          <a:ln w="0">
            <a:noFill/>
          </a:ln>
        </p:spPr>
      </p:pic>
      <p:pic>
        <p:nvPicPr>
          <p:cNvPr id="62" name="num-3-7" descr=""/>
          <p:cNvPicPr/>
          <p:nvPr/>
        </p:nvPicPr>
        <p:blipFill>
          <a:blip r:embed="rId4"/>
          <a:stretch/>
        </p:blipFill>
        <p:spPr>
          <a:xfrm>
            <a:off x="1676520" y="380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3-12" descr=""/>
          <p:cNvPicPr/>
          <p:nvPr/>
        </p:nvPicPr>
        <p:blipFill>
          <a:blip r:embed="rId5"/>
          <a:stretch/>
        </p:blipFill>
        <p:spPr>
          <a:xfrm>
            <a:off x="7010280" y="3733920"/>
            <a:ext cx="112104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粗行楷"/>
              </a:rPr>
              <a:t>取材網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1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小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2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簡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3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老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4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子介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4-18" descr=""/>
          <p:cNvPicPr/>
          <p:nvPr/>
        </p:nvPicPr>
        <p:blipFill>
          <a:blip r:embed="rId2"/>
          <a:stretch/>
        </p:blipFill>
        <p:spPr>
          <a:xfrm>
            <a:off x="0" y="1905120"/>
            <a:ext cx="899172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num-3-8" descr=""/>
          <p:cNvPicPr/>
          <p:nvPr/>
        </p:nvPicPr>
        <p:blipFill>
          <a:blip r:embed="rId3"/>
          <a:stretch/>
        </p:blipFill>
        <p:spPr>
          <a:xfrm>
            <a:off x="1600200" y="3808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3-27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00:37Z</dcterms:created>
  <dc:creator>wutao</dc:creator>
  <dc:description/>
  <dc:language>en-US</dc:language>
  <cp:lastModifiedBy>周璟</cp:lastModifiedBy>
  <dcterms:modified xsi:type="dcterms:W3CDTF">2004-09-15T02:44:53Z</dcterms:modified>
  <cp:revision>100</cp:revision>
  <dc:subject/>
  <dc:title>介紹一位名人</dc:title>
</cp:coreProperties>
</file>