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B8F-BE8C-4D3F-A910-A301C62B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FAE-061C-469E-A88D-3AF8FD4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C64-1695-4047-9019-28CE4EB9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B27-F6D0-4CBD-A685-F354F40B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B31-EF45-41AF-8E60-3BED1C7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13D-CD15-4189-A9BA-4B8C4C07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E9A-3BAA-4D8A-B539-A2C2225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FE8-8FF6-4757-B175-FBDD1E1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A1E-0909-422D-B4F1-2E19865F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9A2-30C2-4110-978D-2A37C57E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AED-59DB-4904-B946-AEED502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F9E-C692-4904-A981-BB185177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4754-43E5-4ABE-B12F-87219F47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杏林子永遠活在我們心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17880" y="2852640"/>
            <a:ext cx="2527560" cy="76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標楷體"/>
              </a:rPr>
              <a:t>勇者劉俠的畫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家居照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2808000" cy="197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18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我們一群同事聯名聲援她，並稱讚她說，像她這樣的殘疾人，本應受別人的照顧，可她卻不斷為別人發出熱和光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494172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她回信說：“我沒你們想像的那麼了不起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plit dir="in" orient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講個笑話給你聽：有人溺水，岸邊圍了一大堆人，卻無人下去救他，正在危急時，突然有一個人跳下去把那個人救上來，大家對此人的英勇均十分敬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67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有人問他‘真偉大，你怎麼有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勇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氣跳下水的？’這人很無辜的回答說：‘我本來是看熱鬧的，因為人太擠，不小心被下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3429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標楷體"/>
              </a:rPr>
              <a:t>結果．．．．．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93120" y="4365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明白我的意思了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5300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我就是個不小心被下水的人，哈哈！”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標楷體"/>
              </a:rPr>
              <a:t>六十一歲的杏林子，雖然從十二歲起就忍受著關節無止盡的疼痛，進進出出醫院無數次，但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28526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她從沒有否定生命的芬芳與甜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46960" y="39337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更不敢否定生命的意義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ipe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標楷體"/>
              </a:rPr>
              <a:t>懷著肅穆的心情，重讀故友贈我的《美麗人生的</a:t>
            </a:r>
            <a:r>
              <a:rPr b="1" lang="en-US" sz="3600" spc="-1" strike="noStrike">
                <a:solidFill>
                  <a:srgbClr val="ffff66"/>
                </a:solidFill>
                <a:latin typeface="標楷體"/>
              </a:rPr>
              <a:t>22</a:t>
            </a:r>
            <a:r>
              <a:rPr b="1" lang="en-US" sz="3600" spc="-1" strike="noStrike">
                <a:solidFill>
                  <a:srgbClr val="ffff66"/>
                </a:solidFill>
                <a:latin typeface="標楷體"/>
              </a:rPr>
              <a:t>種寶典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1080" y="3933720"/>
            <a:ext cx="34725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在經歷了那些歡笑或眼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甜蜜或辛酸，種種磨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心房的碎裂，長夜孤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09440" y="2133720"/>
            <a:ext cx="3746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書中的最後一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彷彿是她的訣別書：．．．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hecke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我們跌跌撞撞、恓恓惶惶走過一生，面對生命大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38720" y="2205000"/>
            <a:ext cx="3472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標楷體"/>
              </a:rPr>
              <a:t>或不甘不捨，或厭煩唾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標楷體"/>
              </a:rPr>
              <a:t>總有太多的人事瓜葛不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標楷體"/>
              </a:rPr>
              <a:t>牽扯不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12480" y="4581360"/>
            <a:ext cx="495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又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有幾人能豁達、瀟灑從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‘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我輕輕的招手，作別西天的雲彩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checke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5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4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回顧一生，不論這回顧有多少的不堪，既然這是必然的結局，無從逃避，也無人可以豁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645000"/>
            <a:ext cx="57243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57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就放下勞頓的身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放下一切的是非恩怨，</a:t>
            </a:r>
            <a:br>
              <a:rPr sz="4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只有感謝和讚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懷念和祝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38360" y="256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那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文鼎粗隸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對生命敬虔的一鞠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50800" y="2787480"/>
            <a:ext cx="1400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謝謝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6240" y="2852640"/>
            <a:ext cx="1400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謝謝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3680" y="4292640"/>
            <a:ext cx="383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謝謝所有曾與我們相伴偕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或交錯而錯過的朋友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3640" y="541080"/>
            <a:ext cx="226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74280" y="512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愛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5600" y="40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人欠我或我欠人．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8920" y="514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標楷體"/>
              </a:rPr>
              <a:t>戀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5280" y="1387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標楷體"/>
              </a:rPr>
              <a:t>恨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387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標楷體"/>
              </a:rPr>
              <a:t>怨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因為他們，豐富了我們的生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3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24160" y="836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謝謝上帝，讓我們走了這一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22880" y="2060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也謝謝自己，不虛此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mph" presetID="20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3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4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5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53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文鼎粗隸"/>
                <a:ea typeface="文鼎粗隸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杏林子去世了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413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標楷體"/>
                <a:ea typeface="標楷體"/>
              </a:rPr>
              <a:t>早上剛起床就聽到這個消息，心胸像被重錘敲了一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8920" y="3284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令我腳步踉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15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42920" y="620280"/>
            <a:ext cx="6500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杏林子來人世一趟，確實不虛此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43160" y="501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她，將永遠活在我們的心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23920"/>
            <a:ext cx="6983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標楷體"/>
              </a:rPr>
              <a:t>她在幾天前還通過電郵跟我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標楷體"/>
              </a:rPr>
              <a:t>約好，等她身體比較健壯了，就到馬來西亞來跟讀者見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00360" y="54936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我跌坐在客廳一隅，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默默緬懷她的一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1280" y="2205000"/>
            <a:ext cx="76327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她以殘弱的身子扛起的重負，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她對親友、殘障孩子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自然山水、世間萬物的熱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73200" y="4437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她那些淚勵人心的文章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2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834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想著，想著，我心裡的哀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25440" y="3429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標楷體"/>
              </a:rPr>
              <a:t>漸被敬仰所取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594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標楷體"/>
              </a:rPr>
              <a:t>前年我到台北縣新店市杏林子的家探望她，告別時很自然的就伸手要跟她握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52293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標楷體"/>
              </a:rPr>
              <a:t>可是，她卻無力伸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l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4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836640"/>
            <a:ext cx="777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她教我摸她的肩膀，我只觸摸到軟綿綿的膚肌，骨骼都被病菌蝕掉了，雙手僅賴著膚肌吊在身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3429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Arial"/>
                <a:ea typeface="標楷體"/>
              </a:rPr>
              <a:t>刹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那間，我的熱淚奪眶而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67200" y="4869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可是杏林子卻以爽朗的笑聲送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752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這幾年來，杏林子都把她的新作交給《星洲日報》刊載，因此和我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林、頌勤同事常有書信往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997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年台灣發生“白曉燕事件”後，台灣民間發動“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0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為台灣而走”大遊行，十萬人遊行隊伍的領頭人是坐在輪椅上的杏林子。我們一群同事聯名聲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01:51:41Z</dcterms:created>
  <dc:creator>wutao</dc:creator>
  <dc:description/>
  <dc:language>en-US</dc:language>
  <cp:lastModifiedBy>周璟</cp:lastModifiedBy>
  <dcterms:modified xsi:type="dcterms:W3CDTF">2004-09-20T01:10:47Z</dcterms:modified>
  <cp:revision>100</cp:revision>
  <dc:subject/>
  <dc:title>投影片 1</dc:title>
</cp:coreProperties>
</file>