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AD1-3621-4B4E-9AC5-7B3F36C6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724-B543-4861-8657-40DA222C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B3C-665C-4EEC-8B44-8C485A6D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917-AF36-4177-B76C-304F960F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BE5-BEED-4BDF-9FAF-B191DBBC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273-7AD7-4CB8-8F37-F8AAD233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F1C-3E92-406F-9C6B-C82F5300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050-8C27-4160-A72E-1915FF51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16F-73B3-42F5-A21C-4393ADD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66D-8FBB-4176-B6D5-349F6C74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514-47C8-476B-A1B1-CB08DB0D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D47-A644-4063-9BD0-3AB4CFAC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8113-EA42-4D21-BC14-4FA74AAEF5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76360" y="1125360"/>
            <a:ext cx="6337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6600cc"/>
                </a:solidFill>
                <a:latin typeface="华文行楷"/>
              </a:rPr>
              <a:t>紫藤萝瀑布</a:t>
            </a:r>
            <a:endParaRPr b="1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6600cc"/>
              </a:solidFill>
              <a:latin typeface="华文行楷"/>
              <a:ea typeface="华文行楷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3645000"/>
            <a:ext cx="23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宗  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35280" y="6206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从哪几个方面描写盛开的紫藤萝树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5400" y="62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240" y="2133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240" y="3276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5600" y="4869000"/>
            <a:ext cx="12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47760" y="2060640"/>
            <a:ext cx="5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片辉煌淡紫色、深深浅浅的紫、紫色的大条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，泛着点点银光，就像迸溅的水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0560" y="3357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像一条瀑布，从空中垂下，不见其发端，也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终极。一树闪光的、盛开的藤萝。花朵儿一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挨着一串，一朵接着一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2560" y="501336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仿佛在流动，在欢笑，在不停地生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和阳光互相挑逗，彼此推着挤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60800" y="136440"/>
            <a:ext cx="426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怎样描写紫藤萝花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95280"/>
            <a:ext cx="3886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先写花穗的色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然后写花的形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最后写花的香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7960" y="836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先写每一穗花，再写每一朵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060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一穗花都是上面的盛开、下面的待放。颜色便上浅下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500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像张满了的小小的帆，帆下带着尖底的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船舱鼓鼓的，又像一个忍俊不禁的笑容，就要绽开似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66100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淡淡的芳香，香气似乎也是浅紫色的，梦幻一般轻轻地笼罩着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描写紫藤萝的树和花运用了哪些修辞手法，这样写有什么好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98108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见一片辉煌淡紫色，像一条瀑布，从空中垂下，不见其发端，也不见其终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色的大条幅上，泛着点点银光，就像迸溅的水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朵盛开的花像是一个小小的张满了的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6680" y="134136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7880" y="299736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象、生动、具体地写出紫藤萝生长的繁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3400" y="4508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象、生动地写出紫藤萝色彩上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72840" y="571500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象、生动、具体地写出盛开的紫藤萝花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38080"/>
            <a:ext cx="861048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深深浅浅的紫，仿佛在流动，在欢笑，在不停地生长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知那是每一朵紫花中的最浅淡的部分，在和阳光互相挑逗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朵儿一串挨着一串，一朵接着一朵，彼此推着挤着，好不活泼热闹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‘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开花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在笑。‘我在开花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嚷嚷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600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的神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52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色的耀眼与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24680" y="5105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动态写花的静态，生动地写出花开的繁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3840" y="6359400"/>
            <a:ext cx="354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动地写出花开之闹，突出花的勃勃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1040" y="20808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 rot="877800">
            <a:off x="6019920" y="53352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探究赏析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581280" cy="396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559320" cy="396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7621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57200"/>
            <a:ext cx="5105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观察下面两幅图片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这两幅图片中你能探究出作者运用了哪种手法，有何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探究结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是一种对比手法，用十多年前紫藤萝花的不幸遭遇反衬眼前这片紫藤萝花的生逢其时，从中曲折地反映出时代的发展变化、人类文明进步的历史轨迹，这样写为引出作者的深入思考作了铺垫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962520" cy="2382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0124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向日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712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爬山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7320" y="41803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串串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1920" y="41803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喇叭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34720" y="25909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请你欣赏某一种植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发挥联想，想想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哪些感悟，托物言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5080" y="-2768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拓展迁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13200" y="5410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赏图言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209680" y="1752480"/>
            <a:ext cx="50292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谢谢指导！</a:t>
            </a:r>
            <a:endParaRPr b="1" lang="en-US" sz="6000" spc="1" strike="noStrike">
              <a:ln w="9360">
                <a:solidFill>
                  <a:srgbClr val="6600cc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459520" y="280044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2519640" y="44956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了解紫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329520" y="297180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疑难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5562720" y="44956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诵读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27280" y="1197000"/>
            <a:ext cx="19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学 习 导 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38560" y="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宗璞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(1927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原名冯宗璞，当代女作家，为著名哲学家、哲学史家冯友兰之女。其小说《弦上的梦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年获全国优秀短篇小说奖，《三生石》获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年全国优秀中篇小说奖；另创作了大量游记、散文，《西湖漫笔》、《紫藤萝瀑布》、丁香结》、《水仙辞》、《三松堂断忆》等，清雅脱俗，温馨自然，充满了情趣、理趣和文化气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436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8634240" y="601992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251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62720" y="3213000"/>
            <a:ext cx="2681280" cy="364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2738520" cy="364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71640" y="32958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紫藤”简介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亦称“朱藤”、“藤萝”，豆科，高大木质藤本。奇数羽状复叶，成熟后无毛。春季开花，蝶形花冠，青紫色，总状花序，产于我国中部，供观赏，花含芳香油；茎皮纤维可织物；果实、根入药医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21300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6" action="ppaction://hlinksldjump"/>
          </p:cNvPr>
          <p:cNvSpPr/>
          <p:nvPr/>
        </p:nvSpPr>
        <p:spPr>
          <a:xfrm>
            <a:off x="8634240" y="600876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685800"/>
            <a:ext cx="4952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注音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迸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溅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仙露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盘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卧龙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295280"/>
            <a:ext cx="304812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迸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繁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伶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⑸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酒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挑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忍俊不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仙露琼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⑼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盘虬卧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1680" y="201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词语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75720" y="1371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向外溅出或喷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64720" y="1905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多而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1400" y="2362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稀稀疏疏，出现的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52040" y="2971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孤独，没有依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41040" y="3505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江米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96360" y="3962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逗引，招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8520" y="441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忍不住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4200" y="4952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形容鲜美的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07720" y="541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回旋地绕像卧着的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24160" y="1828800"/>
            <a:ext cx="12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èn</a:t>
            </a:r>
            <a:r>
              <a:rPr b="1" lang="zh-CN" sz="32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65280" y="25146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276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ión</a:t>
            </a:r>
            <a:r>
              <a:rPr b="1" lang="zh-CN" sz="32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i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634240" y="600876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4800" y="-16308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朗读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76360" y="1125360"/>
            <a:ext cx="6337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6600cc"/>
                </a:solidFill>
                <a:latin typeface="华文行楷"/>
              </a:rPr>
              <a:t>紫藤萝瀑布</a:t>
            </a:r>
            <a:endParaRPr b="1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6600cc"/>
              </a:solidFill>
              <a:latin typeface="华文行楷"/>
              <a:ea typeface="华文行楷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8634240" y="600876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981080" y="1828800"/>
            <a:ext cx="46800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朗读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句的停顿要得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的节奏要缓急适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朗读的语气、语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句子的重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准字音，注意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72200" y="541008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朗读比赛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80880"/>
            <a:ext cx="74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选择喜爱的一节，看谁读得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905120"/>
            <a:ext cx="762120" cy="220968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52480" y="5105520"/>
            <a:ext cx="1257480" cy="125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1960" y="2133720"/>
            <a:ext cx="11552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章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190512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7052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赏花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70520" y="2743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惜花之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70520" y="380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思花之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75440" y="1776240"/>
            <a:ext cx="13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-7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26120" y="3886200"/>
            <a:ext cx="15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0-11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75440" y="2819520"/>
            <a:ext cx="13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8-9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10080" y="152280"/>
            <a:ext cx="2895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整体感知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3" name=""/>
          <p:cNvSpPr/>
          <p:nvPr/>
        </p:nvSpPr>
        <p:spPr>
          <a:xfrm>
            <a:off x="8005320" y="3097440"/>
            <a:ext cx="60696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梳理出文章的结构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ff6600"/>
                </a:solidFill>
                <a:latin typeface="隶书"/>
                <a:ea typeface="隶书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①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者从哪几个方面描写盛开的紫藤萝树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②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者是怎样描写紫藤萝花的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③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找出作者描写紫藤萝的树和花运用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和比喻修辞手法的语句，分析其好处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5880" y="304920"/>
            <a:ext cx="271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黑体"/>
              </a:rPr>
              <a:t>精读课文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5:44:42Z</dcterms:created>
  <dc:creator>wutao</dc:creator>
  <dc:description/>
  <dc:language>en-US</dc:language>
  <cp:lastModifiedBy>周璟</cp:lastModifiedBy>
  <dcterms:modified xsi:type="dcterms:W3CDTF">2004-09-30T03:23:09Z</dcterms:modified>
  <cp:revision>100</cp:revision>
  <dc:subject/>
  <dc:title>幻灯片 1</dc:title>
</cp:coreProperties>
</file>