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33.gif" ContentType="image/gif"/>
  <Override PartName="/ppt/media/image36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F1A2-EE66-4D14-A8F4-299B39C6B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6F4B-F71C-4ECE-AF6B-97D6D2B08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1FB5-F830-4126-96D4-7DCBA94A0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5B54-FAEE-416F-803E-FF1FB98BF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7EADA-585B-41DC-8052-139402A8A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C552C-28BA-48F9-A458-D4345E28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B2E83-972D-4B09-807B-C6212945B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98BA3-FA35-4D37-A2F5-F0D43A8F6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A80CE-BB19-4A0F-9D3D-444DC288D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23BDD-E52A-4C33-B027-89277DF90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D093A-1396-4DE4-A181-8479F3FC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853B-91B0-453F-B0F6-7E4471AF9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DBE71-198F-4DA5-8909-54CD524D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1774C-8CD9-49D2-A946-6E85183A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7B153-7787-4965-95BD-B417F9DA2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781D4-BA90-407F-AD64-A91E1F39B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9D448-31E0-4FE9-B35C-D10B27692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AA93F-49DD-4696-B93C-DBC1C92CC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413FA-BE87-453C-A52A-212668A99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52B49-62A4-4E35-90E3-45E1D8442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DEF36-C80B-4978-8220-9DC88BFE8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07816-445E-40FA-9814-A06A77324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E121-3228-408C-ACBD-A4D030648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77CE3-44B5-4F8D-8116-187276095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6F30A-3C9A-4D1B-9C4B-F1AECEAB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724AA-7295-43C7-B71B-839837D6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AFB42-59DC-4BE7-A360-AA6A14F0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34E5A-8469-4BEA-A6FB-41F05DC03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9DA70-688E-4FB9-ADAA-0A46F1EEC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D0261-4AA2-4789-805E-BF51E485F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9981D-4798-4EC2-A3BA-C807EAE37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B1FD3-7121-4796-AA59-EF2566C16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6B444-C2AF-4522-B771-E2E1BF0C6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B501-1127-4483-ADEB-4B1D241DE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9E5B0-943E-4698-B403-138E04657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FE1F0-6431-42FC-8694-143ADF752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B6358-D1C3-4926-8673-74248ACF2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5C5BB-E856-4524-8DA9-79CEFAFB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701FA-5BDE-4476-BA10-391F5878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C85E3-87F6-4D31-A4D9-3B59C4A0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103FE-C1F2-44E9-A543-366620DAC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4A505-2EF4-4F55-BBAD-0DF1C6B30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9471D-A1C9-4070-8214-62BA2E883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B6373-DDC4-40EB-90E5-8DB45783E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5F52-B6AA-4AAB-84E4-347211E5A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8FEF7-A269-46E2-9E42-407CAD47E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B6836-3ADB-4BD0-9654-30A9B7A5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C07B7-D30A-4CB7-A37F-DED70363E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709BE6-AA7E-46C8-B5BD-1E6D269E0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A47D2-F2F2-4A7D-8BB3-3EB18D31E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E1716-00D3-43BC-89F3-E50B4BAE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96CA7-BE11-4DDA-8A3C-84AC3753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86C77-DD49-4A4A-BBFF-DA6F1989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62E4D-31A2-429B-93D7-10A4BF3BC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9FD7A-506C-43A2-B757-5B46D9692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7F8C-E487-40E8-B436-75D1F4503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CF678-242F-4848-B944-183F8C22E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3040D-D521-405A-920A-6A0F47727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4A83B-60D8-49DE-A288-507F0F667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E5DCB-495F-49ED-94D7-B97E9CAC5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665FE-80DE-426B-A294-45765EF07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D03DF-2A60-420C-AEE7-C4D1449BD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349107-31F8-4928-A5D1-2B80426FD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B8A26-1A03-45D0-BF57-2C56E8D3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16824-7734-43A2-9825-A5277AD3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B81BA-4A38-4C22-BAA2-7C1822A6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BC66-9A11-4DE2-AF99-73718E97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B5D94-64E9-4BB6-AC31-42FD05FD6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7F2D7-D4F7-4923-AB1D-6EB1C0B99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FADD0-B915-4346-B36A-8DA572AA2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90B9A1-2665-4194-91EA-9C4A56DB9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94303E-CFAD-4708-A84E-14FBBA100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69513-3C43-45BA-BBB7-CC9C3EB9C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BBE37-DD47-42AA-AA86-97CFAED3D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EC016-B0EA-4AAB-B4AD-B06AEF9E2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B7016-E901-4915-B2B9-96B47CF88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8D8C9-8D85-4C9F-8DCC-98AB3A2C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4DBB-2E3F-4729-84EE-7690C25E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7D98D-FCF0-4154-902E-930129EA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C6B6F-9B0F-4C77-9CA9-50966077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6852D-72F0-4535-8D43-997AC2E08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001466-DA8E-4BC0-8470-B0B488935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14951F-46E9-4705-A57A-BCF5A7AB7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7AD5ED-5072-499B-B868-24CA99EF9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2EE01C-8329-4DB8-A434-8A1FD6BE7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31C828-9401-4E3E-B654-0DBD741E3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5BA2B5-0920-4CCC-8904-41E123310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E2EF24-EC9B-425F-9BAE-977FD8364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2165-1225-4221-AE48-E69DCEC0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C06751-17CD-4CFE-ACAF-695A18457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59566A-85CD-4548-878C-330E3371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99D9EF-2F14-4F20-AA7F-13521637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69AC46-FDEA-4CB2-9D38-4DA45D79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93C2BF-5DCA-452C-A140-5EEB2F240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2E57A4-F510-4044-AA5B-2DD288971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A65950-E99A-4680-939D-69B2B6CFD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ffff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0F1DC-4131-4097-9A5C-1EAE822516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BC509-B9AC-4A34-BAD7-83B702F09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00FC5-D512-40A5-9D02-C34067E7C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0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1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2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35841-0117-49B3-BFA7-C4F1224CA0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3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4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5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8CF24-6995-4F43-83CE-E0646BF63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BA830-7548-459C-82CC-F707E59A0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44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48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50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57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23315-0CC7-4DD2-8D0A-FF9E39096C8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305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309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311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6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18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567B2-CEE5-4980-B91D-DF459294E6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" Target="slide1.xml"/><Relationship Id="rId5" Type="http://schemas.openxmlformats.org/officeDocument/2006/relationships/image" Target="../media/image33.gif"/><Relationship Id="rId6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3.gif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 rot="6076800">
            <a:off x="5051160" y="2589120"/>
            <a:ext cx="441972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行楷"/>
              </a:rPr>
              <a:t>紫藤萝瀑布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365" name=""/>
          <p:cNvSpPr txBox="1"/>
          <p:nvPr/>
        </p:nvSpPr>
        <p:spPr>
          <a:xfrm rot="6346800">
            <a:off x="7266240" y="4918680"/>
            <a:ext cx="1341360" cy="641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宗璞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9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M000000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M000000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M000000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M000000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M00000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M000002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M000001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M000001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M000001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4967280" y="380880"/>
            <a:ext cx="4176720" cy="5761080"/>
          </a:xfrm>
          <a:prstGeom prst="rect">
            <a:avLst/>
          </a:prstGeom>
          <a:ln w="0">
            <a:noFill/>
          </a:ln>
        </p:spPr>
      </p:pic>
      <p:pic>
        <p:nvPicPr>
          <p:cNvPr id="394" name="作家宗璞" descr=""/>
          <p:cNvPicPr/>
          <p:nvPr/>
        </p:nvPicPr>
        <p:blipFill>
          <a:blip r:embed="rId3"/>
          <a:stretch/>
        </p:blipFill>
        <p:spPr>
          <a:xfrm>
            <a:off x="0" y="1295280"/>
            <a:ext cx="5905440" cy="504216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228600" y="685800"/>
            <a:ext cx="23623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作者介绍：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396" name=""/>
          <p:cNvSpPr/>
          <p:nvPr/>
        </p:nvSpPr>
        <p:spPr>
          <a:xfrm>
            <a:off x="762120" y="1828800"/>
            <a:ext cx="761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Times New Roman"/>
                <a:ea typeface="隶书"/>
              </a:rPr>
              <a:t>宗璞，原名冯钟璞，出生于</a:t>
            </a:r>
            <a:r>
              <a:rPr b="1" lang="en-US" sz="4000" spc="-1" strike="noStrike">
                <a:solidFill>
                  <a:srgbClr val="800080"/>
                </a:solidFill>
                <a:latin typeface="Times New Roman"/>
                <a:ea typeface="隶书"/>
              </a:rPr>
              <a:t>1928</a:t>
            </a:r>
            <a:r>
              <a:rPr b="1" lang="en-US" sz="4000" spc="-1" strike="noStrike">
                <a:solidFill>
                  <a:srgbClr val="800080"/>
                </a:solidFill>
                <a:latin typeface="Times New Roman"/>
                <a:ea typeface="隶书"/>
              </a:rPr>
              <a:t>年，祖籍河南南阳。是一代宗师冯友兰之女。她的第一篇小说是《红豆》。后来又有短篇小说《弦上的梦》中篇小说《三生石》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7" name="4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229600" y="5600880"/>
            <a:ext cx="91440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shiliu" descr=""/>
          <p:cNvPicPr/>
          <p:nvPr/>
        </p:nvPicPr>
        <p:blipFill>
          <a:blip r:embed="rId2"/>
          <a:stretch/>
        </p:blipFill>
        <p:spPr>
          <a:xfrm>
            <a:off x="179280" y="836640"/>
            <a:ext cx="3529080" cy="38876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851280" y="2297880"/>
            <a:ext cx="504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牡丹花大而艳丽，一向被人们视为富贵昌盛的象征。传说我国第一们女皇武则天洒后醉言，下令百花于隆冬时节同时盛开，诸花不敢违抗，唯独牡丹抗旨未放，显示出坚贞的气节，武则天一怒之下，将牡丹贬谪洛阳。牡丹却因此赢得更多人的喜爱与赞赏。至今，洛阳的牡丹仍极富盛名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牡丹花色丰富，喻意不尽相同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红色的牡丹花：我将珍惜你的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粉色的牡丹花：相信我吧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白色的牡丹花；珍重你自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48706" descr=""/>
          <p:cNvPicPr/>
          <p:nvPr/>
        </p:nvPicPr>
        <p:blipFill>
          <a:blip r:embed="rId2"/>
          <a:stretch/>
        </p:blipFill>
        <p:spPr>
          <a:xfrm>
            <a:off x="1547640" y="836640"/>
            <a:ext cx="5977080" cy="410508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3205440" y="594900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宗璞在病榻前伺候老父冯友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3311640" y="69228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  <a:ea typeface="华文行楷"/>
              </a:rPr>
              <a:t>探究文意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28600" y="1600200"/>
            <a:ext cx="8532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Arial"/>
                <a:ea typeface="楷体_GB2312"/>
              </a:rPr>
              <a:t>初探感情：面对紫藤萝花的盛开与凋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Arial"/>
                <a:ea typeface="楷体_GB2312"/>
              </a:rPr>
              <a:t>                  </a:t>
            </a:r>
            <a:r>
              <a:rPr b="0" lang="en-US" sz="3600" spc="-1" strike="noStrike">
                <a:solidFill>
                  <a:srgbClr val="cc0066"/>
                </a:solidFill>
                <a:latin typeface="Arial"/>
                <a:ea typeface="楷体_GB2312"/>
              </a:rPr>
              <a:t>两种不同的情景，他的感情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Arial"/>
                <a:ea typeface="楷体_GB2312"/>
              </a:rPr>
              <a:t>                  </a:t>
            </a:r>
            <a:r>
              <a:rPr b="0" lang="en-US" sz="3600" spc="-1" strike="noStrike">
                <a:solidFill>
                  <a:srgbClr val="cc0066"/>
                </a:solidFill>
                <a:latin typeface="Arial"/>
                <a:ea typeface="楷体_GB2312"/>
              </a:rPr>
              <a:t>相同吗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04920" y="3745080"/>
            <a:ext cx="8064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Arial"/>
                <a:ea typeface="楷体_GB2312"/>
              </a:rPr>
              <a:t>盛开</a:t>
            </a:r>
            <a:r>
              <a:rPr b="0" lang="en-US" sz="3600" spc="-1" strike="noStrike">
                <a:solidFill>
                  <a:srgbClr val="cc0066"/>
                </a:solidFill>
                <a:latin typeface="Arial"/>
                <a:ea typeface="楷体_GB2312"/>
              </a:rPr>
              <a:t>----</a:t>
            </a:r>
            <a:r>
              <a:rPr b="0" lang="en-US" sz="3600" spc="-1" strike="noStrike">
                <a:solidFill>
                  <a:srgbClr val="cc0066"/>
                </a:solidFill>
                <a:latin typeface="Arial"/>
                <a:ea typeface="楷体_GB2312"/>
              </a:rPr>
              <a:t>欢笑、热闹、喜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Arial"/>
                <a:ea typeface="楷体_GB2312"/>
              </a:rPr>
              <a:t>(</a:t>
            </a:r>
            <a:r>
              <a:rPr b="0" lang="en-US" sz="3600" spc="-1" strike="noStrike">
                <a:solidFill>
                  <a:srgbClr val="cc0066"/>
                </a:solidFill>
                <a:latin typeface="Arial"/>
                <a:ea typeface="楷体_GB2312"/>
              </a:rPr>
              <a:t>感情</a:t>
            </a:r>
            <a:r>
              <a:rPr b="0" lang="en-US" sz="3600" spc="-1" strike="noStrike">
                <a:solidFill>
                  <a:srgbClr val="cc0066"/>
                </a:solidFill>
                <a:latin typeface="Arial"/>
                <a:ea typeface="楷体_GB2312"/>
              </a:rPr>
              <a:t>----</a:t>
            </a:r>
            <a:r>
              <a:rPr b="0" lang="en-US" sz="3600" spc="-1" strike="noStrike">
                <a:solidFill>
                  <a:srgbClr val="cc0066"/>
                </a:solidFill>
                <a:latin typeface="Arial"/>
                <a:ea typeface="楷体_GB2312"/>
              </a:rPr>
              <a:t>惊喜</a:t>
            </a:r>
            <a:r>
              <a:rPr b="0" lang="en-US" sz="3600" spc="-1" strike="noStrike">
                <a:solidFill>
                  <a:srgbClr val="cc0066"/>
                </a:solidFill>
                <a:latin typeface="Arial"/>
                <a:ea typeface="楷体_GB2312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Arial"/>
                <a:ea typeface="楷体_GB2312"/>
              </a:rPr>
              <a:t>凋零</a:t>
            </a:r>
            <a:r>
              <a:rPr b="0" lang="en-US" sz="3600" spc="-1" strike="noStrike">
                <a:solidFill>
                  <a:srgbClr val="cc0066"/>
                </a:solidFill>
                <a:latin typeface="Arial"/>
                <a:ea typeface="楷体_GB2312"/>
              </a:rPr>
              <a:t>----</a:t>
            </a:r>
            <a:r>
              <a:rPr b="0" lang="en-US" sz="3600" spc="-1" strike="noStrike">
                <a:solidFill>
                  <a:srgbClr val="cc0066"/>
                </a:solidFill>
                <a:latin typeface="Arial"/>
                <a:ea typeface="楷体_GB2312"/>
              </a:rPr>
              <a:t>稀落、伶仃、遗憾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Arial"/>
                <a:ea typeface="楷体_GB2312"/>
              </a:rPr>
              <a:t>(</a:t>
            </a:r>
            <a:r>
              <a:rPr b="0" lang="en-US" sz="3600" spc="-1" strike="noStrike">
                <a:solidFill>
                  <a:srgbClr val="cc0066"/>
                </a:solidFill>
                <a:latin typeface="Arial"/>
                <a:ea typeface="楷体_GB2312"/>
              </a:rPr>
              <a:t>感情</a:t>
            </a:r>
            <a:r>
              <a:rPr b="0" lang="en-US" sz="3600" spc="-1" strike="noStrike">
                <a:solidFill>
                  <a:srgbClr val="cc0066"/>
                </a:solidFill>
                <a:latin typeface="Arial"/>
                <a:ea typeface="楷体_GB2312"/>
              </a:rPr>
              <a:t>----</a:t>
            </a:r>
            <a:r>
              <a:rPr b="0" lang="en-US" sz="3600" spc="-1" strike="noStrike">
                <a:solidFill>
                  <a:srgbClr val="cc0066"/>
                </a:solidFill>
                <a:latin typeface="Arial"/>
                <a:ea typeface="楷体_GB2312"/>
              </a:rPr>
              <a:t>遗憾、失落</a:t>
            </a:r>
            <a:r>
              <a:rPr b="0" lang="en-US" sz="3600" spc="-1" strike="noStrike">
                <a:solidFill>
                  <a:srgbClr val="cc0066"/>
                </a:solidFill>
                <a:latin typeface="Arial"/>
                <a:ea typeface="楷体_GB2312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684360" y="1628640"/>
            <a:ext cx="7920000" cy="33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66"/>
                </a:solidFill>
                <a:latin typeface="Arial"/>
                <a:ea typeface="楷体_GB2312"/>
              </a:rPr>
              <a:t>朗读方法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Arial"/>
                <a:ea typeface="楷体_GB2312"/>
              </a:rPr>
              <a:t>盛开时：语调轻快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Arial"/>
                <a:ea typeface="楷体_GB2312"/>
              </a:rPr>
              <a:t>凋零时：语调低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900000" y="5950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404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404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321017" fill="hold"/>
                                        <p:tgtEl>
                                          <p:spTgt spid="4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1187280" y="549360"/>
            <a:ext cx="7274160" cy="27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  <a:ea typeface="华文新魏"/>
              </a:rPr>
              <a:t>发现问题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  <a:ea typeface="华文新魏"/>
              </a:rPr>
              <a:t>紫藤萝花的盛开、凋零后面，是否隐藏着作者的一些人生经历？花的由衰到盛表现作者什么意图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  <a:ea typeface="华文新魏"/>
              </a:rPr>
              <a:t>文中对花的描写特别精彩，为什么会有这样的效果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  <a:ea typeface="华文新魏"/>
              </a:rPr>
              <a:t>课文的结尾“我不觉加快了脚步”去干什么？这句话好象还有什么作用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4" descr=""/>
          <p:cNvPicPr/>
          <p:nvPr/>
        </p:nvPicPr>
        <p:blipFill>
          <a:blip r:embed="rId1"/>
          <a:stretch/>
        </p:blipFill>
        <p:spPr>
          <a:xfrm>
            <a:off x="8229600" y="5600880"/>
            <a:ext cx="914400" cy="125712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3851280" y="1700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cc"/>
                </a:solidFill>
                <a:latin typeface="Times New Roman"/>
                <a:ea typeface="隶书"/>
              </a:rPr>
              <a:t>看花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55640" y="21337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停住脚步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012000" y="21337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加快了脚步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924360" y="2708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cc"/>
                </a:solidFill>
                <a:latin typeface="Times New Roman"/>
                <a:ea typeface="隶书"/>
              </a:rPr>
              <a:t>忆花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924360" y="378936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cc"/>
                </a:solidFill>
                <a:latin typeface="Times New Roman"/>
                <a:ea typeface="隶书"/>
              </a:rPr>
              <a:t>思花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1692360" y="3284640"/>
            <a:ext cx="5867280" cy="1295280"/>
            <a:chOff x="1692360" y="3284640"/>
            <a:chExt cx="5867280" cy="1295280"/>
          </a:xfrm>
        </p:grpSpPr>
        <p:grpSp>
          <p:nvGrpSpPr>
            <p:cNvPr id="413" name=""/>
            <p:cNvGrpSpPr/>
            <p:nvPr/>
          </p:nvGrpSpPr>
          <p:grpSpPr>
            <a:xfrm>
              <a:off x="1692360" y="3284640"/>
              <a:ext cx="5867280" cy="1295280"/>
              <a:chOff x="1692360" y="3284640"/>
              <a:chExt cx="5867280" cy="1295280"/>
            </a:xfrm>
          </p:grpSpPr>
          <p:sp>
            <p:nvSpPr>
              <p:cNvPr id="414" name=""/>
              <p:cNvSpPr/>
              <p:nvPr/>
            </p:nvSpPr>
            <p:spPr>
              <a:xfrm>
                <a:off x="1692360" y="3284640"/>
                <a:ext cx="0" cy="1295280"/>
              </a:xfrm>
              <a:prstGeom prst="line">
                <a:avLst/>
              </a:prstGeom>
              <a:ln w="63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692360" y="4579920"/>
                <a:ext cx="5867280" cy="0"/>
              </a:xfrm>
              <a:prstGeom prst="line">
                <a:avLst/>
              </a:prstGeom>
              <a:ln w="63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16" name=""/>
            <p:cNvSpPr/>
            <p:nvPr/>
          </p:nvSpPr>
          <p:spPr>
            <a:xfrm flipV="1">
              <a:off x="7559640" y="3360240"/>
              <a:ext cx="0" cy="1219320"/>
            </a:xfrm>
            <a:prstGeom prst="line">
              <a:avLst/>
            </a:prstGeom>
            <a:ln w="63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3708360" y="2421000"/>
            <a:ext cx="0" cy="1676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3492360" y="5229360"/>
            <a:ext cx="187668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华文行楷"/>
              </a:rPr>
              <a:t>前后呼应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19" name=""/>
          <p:cNvSpPr txBox="1"/>
          <p:nvPr/>
        </p:nvSpPr>
        <p:spPr>
          <a:xfrm rot="5400000">
            <a:off x="2476080" y="3003480"/>
            <a:ext cx="1643040" cy="477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00ffcc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华文行楷"/>
              </a:rPr>
              <a:t>层层深入</a:t>
            </a:r>
            <a:endParaRPr b="1" lang="en-US" sz="2400" spc="1" strike="noStrike">
              <a:ln w="9360">
                <a:solidFill>
                  <a:srgbClr val="993366"/>
                </a:solidFill>
                <a:miter/>
              </a:ln>
              <a:solidFill>
                <a:srgbClr val="00ffcc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20" name=""/>
          <p:cNvSpPr/>
          <p:nvPr/>
        </p:nvSpPr>
        <p:spPr>
          <a:xfrm>
            <a:off x="539640" y="404640"/>
            <a:ext cx="36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华文彩云"/>
              </a:rPr>
              <a:t>文章结构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4" descr=""/>
          <p:cNvPicPr/>
          <p:nvPr/>
        </p:nvPicPr>
        <p:blipFill>
          <a:blip r:embed="rId2"/>
          <a:stretch/>
        </p:blipFill>
        <p:spPr>
          <a:xfrm>
            <a:off x="8229600" y="5600880"/>
            <a:ext cx="914400" cy="125712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1066680" y="1447920"/>
            <a:ext cx="7696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57200" y="45720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主题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4" name="button13" descr=""/>
          <p:cNvPicPr/>
          <p:nvPr/>
        </p:nvPicPr>
        <p:blipFill>
          <a:blip r:embed="rId3"/>
          <a:stretch/>
        </p:blipFill>
        <p:spPr>
          <a:xfrm>
            <a:off x="468360" y="19890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900000" y="19162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本文通过紫藤萝瀑布的描绘及一株紫藤萝的遭遇的记叙，抒发了自己对生命的顽强和美好的赞扬之情，表达了自己焦虑的精神宁静的心情及对生命永恒的领悟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拓展阅读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24000" y="2565360"/>
            <a:ext cx="8540640" cy="25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在你的生活中，有没有可以印证“花和人都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遇到各种各样的不幸，但是，生命的长河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无止境的”这句话的经历或见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533520" y="457200"/>
            <a:ext cx="152388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词语：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429" name=""/>
          <p:cNvSpPr/>
          <p:nvPr/>
        </p:nvSpPr>
        <p:spPr>
          <a:xfrm>
            <a:off x="609480" y="16765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迸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溅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692440" y="16765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繁密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775040" y="16765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稀落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58000" y="16765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伶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仃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33520" y="31240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发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19520" y="30481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挑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逗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800600" y="29718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绽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781680" y="30481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伫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44956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忍俊不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124080" y="44956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仙露琼浆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91320" y="449568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盘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虬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卧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0" name="4" descr=""/>
          <p:cNvPicPr/>
          <p:nvPr/>
        </p:nvPicPr>
        <p:blipFill>
          <a:blip r:embed="rId1"/>
          <a:stretch/>
        </p:blipFill>
        <p:spPr>
          <a:xfrm>
            <a:off x="8229600" y="5600880"/>
            <a:ext cx="914400" cy="125712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685800" y="228600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èn</a:t>
            </a: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0" y="23623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īn</a:t>
            </a: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666880" y="36576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iǎ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800600" y="365760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zh</a:t>
            </a: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4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705720" y="36576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zh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828800" y="51055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jī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095880" y="51814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qiú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h13_jpg" descr=""/>
          <p:cNvPicPr/>
          <p:nvPr/>
        </p:nvPicPr>
        <p:blipFill>
          <a:blip r:embed="rId2"/>
          <a:stretch/>
        </p:blipFill>
        <p:spPr>
          <a:xfrm>
            <a:off x="0" y="0"/>
            <a:ext cx="4500720" cy="3611520"/>
          </a:xfrm>
          <a:prstGeom prst="rect">
            <a:avLst/>
          </a:prstGeom>
          <a:ln w="0">
            <a:noFill/>
          </a:ln>
        </p:spPr>
      </p:pic>
      <p:pic>
        <p:nvPicPr>
          <p:cNvPr id="369" name="h02_jpg" descr=""/>
          <p:cNvPicPr/>
          <p:nvPr/>
        </p:nvPicPr>
        <p:blipFill>
          <a:blip r:embed="rId3"/>
          <a:stretch/>
        </p:blipFill>
        <p:spPr>
          <a:xfrm>
            <a:off x="4500720" y="0"/>
            <a:ext cx="4643280" cy="3557520"/>
          </a:xfrm>
          <a:prstGeom prst="rect">
            <a:avLst/>
          </a:prstGeom>
          <a:ln w="0">
            <a:noFill/>
          </a:ln>
        </p:spPr>
      </p:pic>
      <p:pic>
        <p:nvPicPr>
          <p:cNvPr id="370" name="h04_jpg" descr=""/>
          <p:cNvPicPr/>
          <p:nvPr/>
        </p:nvPicPr>
        <p:blipFill>
          <a:blip r:embed="rId4"/>
          <a:stretch/>
        </p:blipFill>
        <p:spPr>
          <a:xfrm>
            <a:off x="4427640" y="3573360"/>
            <a:ext cx="4716360" cy="3284640"/>
          </a:xfrm>
          <a:prstGeom prst="rect">
            <a:avLst/>
          </a:prstGeom>
          <a:ln w="0">
            <a:noFill/>
          </a:ln>
        </p:spPr>
      </p:pic>
      <p:pic>
        <p:nvPicPr>
          <p:cNvPr id="371" name="h10_jpg" descr=""/>
          <p:cNvPicPr/>
          <p:nvPr/>
        </p:nvPicPr>
        <p:blipFill>
          <a:blip r:embed="rId5"/>
          <a:stretch/>
        </p:blipFill>
        <p:spPr>
          <a:xfrm>
            <a:off x="0" y="3573360"/>
            <a:ext cx="450072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gl041t01" descr=""/>
          <p:cNvPicPr/>
          <p:nvPr/>
        </p:nvPicPr>
        <p:blipFill>
          <a:blip r:embed="rId2"/>
          <a:stretch/>
        </p:blipFill>
        <p:spPr>
          <a:xfrm>
            <a:off x="4154400" y="0"/>
            <a:ext cx="5024520" cy="5805360"/>
          </a:xfrm>
          <a:prstGeom prst="rect">
            <a:avLst/>
          </a:prstGeom>
          <a:ln w="0">
            <a:noFill/>
          </a:ln>
        </p:spPr>
      </p:pic>
      <p:pic>
        <p:nvPicPr>
          <p:cNvPr id="373" name="1010979831_ly3" descr=""/>
          <p:cNvPicPr/>
          <p:nvPr/>
        </p:nvPicPr>
        <p:blipFill>
          <a:blip r:embed="rId3"/>
          <a:stretch/>
        </p:blipFill>
        <p:spPr>
          <a:xfrm>
            <a:off x="-36360" y="0"/>
            <a:ext cx="4181400" cy="685800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5148360" y="5907240"/>
            <a:ext cx="331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腊梅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105" descr=""/>
          <p:cNvPicPr/>
          <p:nvPr/>
        </p:nvPicPr>
        <p:blipFill>
          <a:blip r:embed="rId2"/>
          <a:stretch/>
        </p:blipFill>
        <p:spPr>
          <a:xfrm>
            <a:off x="-109440" y="-171360"/>
            <a:ext cx="5618160" cy="4095720"/>
          </a:xfrm>
          <a:prstGeom prst="rect">
            <a:avLst/>
          </a:prstGeom>
          <a:ln w="0">
            <a:noFill/>
          </a:ln>
        </p:spPr>
      </p:pic>
      <p:pic>
        <p:nvPicPr>
          <p:cNvPr id="376" name="72" descr=""/>
          <p:cNvPicPr/>
          <p:nvPr/>
        </p:nvPicPr>
        <p:blipFill>
          <a:blip r:embed="rId3"/>
          <a:stretch/>
        </p:blipFill>
        <p:spPr>
          <a:xfrm>
            <a:off x="5278320" y="0"/>
            <a:ext cx="3895920" cy="6858000"/>
          </a:xfrm>
          <a:prstGeom prst="rect">
            <a:avLst/>
          </a:prstGeom>
          <a:ln w="0">
            <a:noFill/>
          </a:ln>
        </p:spPr>
      </p:pic>
      <p:pic>
        <p:nvPicPr>
          <p:cNvPr id="377" name="35" descr=""/>
          <p:cNvPicPr/>
          <p:nvPr/>
        </p:nvPicPr>
        <p:blipFill>
          <a:blip r:embed="rId4"/>
          <a:stretch/>
        </p:blipFill>
        <p:spPr>
          <a:xfrm>
            <a:off x="1440" y="3716280"/>
            <a:ext cx="5291280" cy="314172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6300720" y="5950080"/>
            <a:ext cx="23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丁香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2yue%20new" descr=""/>
          <p:cNvPicPr/>
          <p:nvPr/>
        </p:nvPicPr>
        <p:blipFill>
          <a:blip r:embed="rId2"/>
          <a:stretch/>
        </p:blipFill>
        <p:spPr>
          <a:xfrm>
            <a:off x="0" y="1085760"/>
            <a:ext cx="9144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jcyj2" descr=""/>
          <p:cNvPicPr/>
          <p:nvPr/>
        </p:nvPicPr>
        <p:blipFill>
          <a:blip r:embed="rId2"/>
          <a:stretch/>
        </p:blipFill>
        <p:spPr>
          <a:xfrm>
            <a:off x="0" y="0"/>
            <a:ext cx="7389720" cy="685800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7740720" y="189000"/>
            <a:ext cx="93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紫藤萝花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M000000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M000000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6T14:12:18Z</dcterms:created>
  <dc:creator>wutao</dc:creator>
  <dc:description/>
  <dc:language>en-US</dc:language>
  <cp:lastModifiedBy>周璟</cp:lastModifiedBy>
  <dcterms:modified xsi:type="dcterms:W3CDTF">2004-09-30T03:35:40Z</dcterms:modified>
  <cp:revision>100</cp:revision>
  <dc:subject/>
  <dc:title>PowerPoint 演示文稿</dc:title>
</cp:coreProperties>
</file>