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F58-D31D-465E-866B-3EFD8B25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B56-4D2E-414F-80BF-03C6EFB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E1A-0F54-4ECD-B127-26722982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289-08C3-449F-9096-A96BE8F0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D378-5F45-4D43-8072-C95F46F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772-E28A-4B91-B890-F961902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1764-D274-49DF-BCC8-DD3E44C0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FE38-E766-4A55-9D19-BE1E3C0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E804-F712-4FF4-8FEE-646B3B54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9A7-EC07-4931-B7BE-0CACE0BE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66E7-E5F2-4236-B278-6436488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E80-F8C9-4B66-A157-90F24FB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3E5A-4AA6-4B51-8184-7443423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EC17-6FD3-48D4-BBC0-628E9A1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A812-E190-4351-B7BE-9FFDA3C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48A3-216B-4850-9AB8-9D36C2CB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BD92-BFFD-448B-AE77-57FE7480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4C4-D81D-4103-883B-F5672F4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733-6466-41AA-960A-F0C3283F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E0E-7C7E-4FC7-89C4-18EA4DE2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819-1812-4386-9003-29411443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229-1E88-4672-BA33-BD7C908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A91-50F8-4F07-9E4F-0E10A96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E78-67A8-4724-A698-20D59A2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667-EF4C-435F-AC9F-AF9FF34E17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89E7-BD1B-4D80-8E18-1C3573A2B38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7400" y="2971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   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我在开花”它们在笑。“我在开花”它们嚷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0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运用拟人手法，生动地表现出花的童稚和欢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香气也是浅紫色的，梦幻一般轻轻地笼罩着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410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这用通感的修辞，使无形的香味化成有形的颜色，具体地表现花香带给作者那种飘渺轻柔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609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花朵儿一串挨着一串，一朵接着一朵，彼此推着挤着，好不活泼热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运用拟人手法，生动地表现出花的勃勃生机和烂漫情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09680" y="1905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四  理解课文，揣摩作者的思想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048120"/>
            <a:ext cx="67820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者借紫藤萝瀑布，表达情意，你能找出一两个句子来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能用自己的话概括全文的主旨来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90920" y="0"/>
            <a:ext cx="3886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接受挑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04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32767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紫藤萝瀑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长春蔓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长春蔓" descr="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28800" y="838080"/>
            <a:ext cx="6629400" cy="346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宋体"/>
              </a:rPr>
              <a:t>紫藤萝瀑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4346640" y="365760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f01"/>
                </a:solidFill>
                <a:latin typeface="Times New Roman"/>
                <a:ea typeface="华文行楷"/>
              </a:rPr>
              <a:t>宗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云中峭壁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8580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8108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习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7672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167652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248520"/>
            <a:ext cx="175248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标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长春蔓" descr=""/>
          <p:cNvPicPr/>
          <p:nvPr/>
        </p:nvPicPr>
        <p:blipFill>
          <a:blip r:embed="rId2"/>
          <a:stretch/>
        </p:blipFill>
        <p:spPr>
          <a:xfrm>
            <a:off x="3733920" y="0"/>
            <a:ext cx="312084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长春蔓" descr="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长春蔓" descr=""/>
          <p:cNvPicPr/>
          <p:nvPr/>
        </p:nvPicPr>
        <p:blipFill>
          <a:blip r:embed="rId4"/>
          <a:stretch/>
        </p:blipFill>
        <p:spPr>
          <a:xfrm>
            <a:off x="1752480" y="0"/>
            <a:ext cx="31212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长春蔓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182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yarea-01idx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25146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写作背景简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宗璞一家，在“文化大革命”中深受迫害，“焦虑和悲痛”“一直压在”作者的心头。这篇文章写于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982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月，当时作者的小弟身患绝症，作者非常悲痛（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982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月小弟病逝），徘徊于庭院中，见一树盛开的紫藤萝花，睹物释怀，由花儿自衰到盛，感悟到生的美好和生命的永恒，于是写成此文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宗璞     女作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6960" y="1752480"/>
            <a:ext cx="7898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057400"/>
            <a:ext cx="5867640" cy="9471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朗读课文，思考课文从哪几个方面     描写盛开的紫藤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685800"/>
            <a:ext cx="556272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工具书，掌握新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191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886200"/>
            <a:ext cx="5638680" cy="459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解课文，揣摩作者的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5334120"/>
            <a:ext cx="57150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品味文中优美的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华文行楷"/>
              </a:rPr>
              <a:t>检查预习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430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810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33cc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给下面加点的字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落（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仃（    ） 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仙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浆（     ）   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卧龙（    ）  忍俊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ji</a:t>
            </a:r>
            <a:r>
              <a:rPr b="0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lí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ì</a:t>
            </a:r>
            <a:r>
              <a:rPr b="0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qió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1240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qi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ī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886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2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找出文中的一个比喻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648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只见一片辉煌的淡紫色，像一条瀑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每一朵盛开的花像是一个张满了的小小的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9144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ahoma"/>
                <a:ea typeface="华文行楷"/>
              </a:rPr>
              <a:t>教学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209680"/>
            <a:ext cx="7848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朗读课文，思考问题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作者是从哪几个方面描写盛开的紫藤萝花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课文用了哪几种修辞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219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二    讨论下面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362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作者是从哪几个方面描写盛开的紫藤萝花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895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看花   忆花   思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花瀑        花穗         花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505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我喜悦     花受难      又生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962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</a:rPr>
              <a:t>感悟到生命的美好和永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572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课文用了哪几种修辞方法？举例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02920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比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拟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7621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   揣摩下列各句，体会写景的妙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9051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未见过开得这样盛的藤萝，只见一片辉煌的淡紫色，像一条瀑布，从空中垂下，不见其发端，也不见其终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3352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将花喻为“瀑”形象地表现了花之繁茂，隐含了生命的绵延长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419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只是深深浅浅的紫，仿佛在流动，在欢笑，在不停地生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ahoma"/>
              </a:rPr>
              <a:t>用“流动”“欢笑”“生长”等动词，使静态的花色跃动起来。表现出花的生趣盎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867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6:12:26Z</dcterms:created>
  <dc:creator>wutao</dc:creator>
  <dc:description/>
  <dc:language>en-US</dc:language>
  <cp:lastModifiedBy>周璟</cp:lastModifiedBy>
  <dcterms:modified xsi:type="dcterms:W3CDTF">2004-09-30T03:40:00Z</dcterms:modified>
  <cp:revision>100</cp:revision>
  <dc:subject/>
  <dc:title>PowerPoint 演示文稿</dc:title>
</cp:coreProperties>
</file>