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8.gif" ContentType="image/gif"/>
  <Override PartName="/ppt/media/image4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75F-69E8-4201-AF68-CC841948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6BB-2EE8-45BE-9119-F7E08DBD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AAE-885E-4903-AEB7-2DE06702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452-4482-4D44-B6C9-39562B35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036-9E73-459E-86BC-7F2C71C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DF0-DB81-4B44-ACEB-B36197A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AF6-97A9-43D2-87C1-30C929F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56B-F1D8-4BE2-81F5-A2136160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BA6-8A0B-4375-BC48-6BD208A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5F-86A2-4E52-88CC-E79BCA91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55B-1EFC-4872-8127-53BA96E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F28-BD04-48F1-96B8-3EBC782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59C0-E1B6-45AF-B589-643240970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8248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秀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36640" y="7826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981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题目为什么要加上“瀑布”？   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f8f7"/>
                </a:solidFill>
                <a:latin typeface="Times New Roman"/>
                <a:ea typeface="_x000b__x000c_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宗璞一家，在文化大革命中深受迫害，“焦虑和悲痛”“一直压在”作者的心上。这篇文章写于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98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月，当时作者的小弟身患绝症，作者非常悲痛，徘徊于庭院中，见一树盛开的紫藤萝花，睹物释怀，由花儿自衰到盛，感悟到生的美好和生命的永恒，于是写成此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5240" y="393840"/>
            <a:ext cx="5280120" cy="121896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璞《哭小弟》片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9320" y="2514600"/>
            <a:ext cx="7007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是他去了，过早地去了。这一年多，真像是个梦，是个永远不能令人相信的梦。我总觉得他还会回来，从我们那冬夏一律显得十分荒凉的后院走到我窗下，叫一声“小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-----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6008f"/>
            </a:gs>
            <a:gs pos="100000">
              <a:srgbClr val="0b00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“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这些时一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压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在我心上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焦虑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悲痛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哭小弟，哭他那在剧痛中还拿着那本航空资料“想再看看”……我也哭蒋筑英抱病奔波，客殇成都；我也哭罗健夫不肯一个人坐一辆汽车！我还要哭那些没有见诸报章的过早离去的我的同辈人。他们几经雪欺霜冻，好不容易奋斗着张开几片花瓣，尚未盛开，就骤然凋谢。我哭我们这迟开而早谢的一代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95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结构脉络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3657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一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看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二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忆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三）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悟花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23336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133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16542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7920" y="217656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花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24468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048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赏花的感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733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忆花的劫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419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颂花的生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71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长河无止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858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不由得停住了脚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4582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从侧面烘托出紫藤花引人止步，眩人眼目的美丽，也引出下文，照应结尾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74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70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2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600" y="556272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203480"/>
            <a:ext cx="74674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124080"/>
            <a:ext cx="75438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952880"/>
            <a:ext cx="73911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R_040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0920" y="1676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143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为什么把花香说成 “ 似乎也是淡紫色的，梦幻一般轻轻地笼罩着我 ”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86704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香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97180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743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嗅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743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（幻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581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636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人的感觉相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3720" y="4572000"/>
            <a:ext cx="75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用：使语言更加清新、活泼、灵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95480" y="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9933"/>
                </a:solidFill>
                <a:latin typeface="Times New Roman"/>
                <a:ea typeface="华文琥珀"/>
              </a:rPr>
              <a:t>悟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79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人生如花，劫难总要被幸福战胜，时代的洪流总会冲走不快，只要加快脚步，鼓足生命的勇气前进，你便会是那灿烂瀑布中的一朵浪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插入一段写十多年前家门外的一大株紫藤萝起什么作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372600" cy="4043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用十多年前紫藤萝花的稀落与现在花开的繁盛形成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对比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，突出了现在花的生气盎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类比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23880" y="45720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三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2240" y="60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三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R_05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花和人都会遇到各种各样的不幸。但是只要生活的态度积极，那就会迎来美好的明天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75248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32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十多年前花的稀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51460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现在花开的繁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505320"/>
            <a:ext cx="685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6576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2000" y="3505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花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1148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人的不幸遭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76720"/>
            <a:ext cx="990720" cy="304560"/>
          </a:xfrm>
          <a:custGeom>
            <a:avLst/>
            <a:gdLst>
              <a:gd name="textAreaLeft" fmla="*/ 12384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作者把花写得这么美，看完花后，对她焦虑和悲痛的心情有改变吗？（从原文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1148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心情改变的原因是什么呢？  （ 联系写作背景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花4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78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5880" y="1143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3290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说明作者从花中得到感悟，心中的失弟悲痛焦虑化为精神的宁静和前进的动力，感悟到生命的永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生命虽然短暂，也会有各种不幸，如：小弟身患绝症而死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896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FR_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657600" y="39625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752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他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宗璞《西湖漫笔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西湖胜景很多，各处有不同的好处，即使一个绿字，也各有不同。黄龙洞绿得幽，屏风山绿得野，九曲十八涧绿得闲。不能一一去说。……在花港观鱼，又看到一种绿。那是满地的新荷，圆圆的绿叶，或亭亭立于水上，或宛转靠在水面，只觉得一种蓬勃的生机跳跃满池。绿色，本来是生命力的颜色。我最爱初春的杨柳嫩枝，那样鲜，那样亮，柳枝儿一摆，似乎蹬着脚告诉你，春天来了。荷叶，则要持重一些，初夏，则更成熟一些，但那透过活泼的绿色表现出来的茁壮生命力，是一样的。再加上叶面上的水球儿滴滴溜溜滚着，简直好像满池荷叶都要裙袂飞扬，翩然起舞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55600" y="838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铁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91960" y="1219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三角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69800" y="1143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扶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R_05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自然景物是丰富多彩、婀娜多姿的，尤其是美丽的花朵，它会令人心旷神怡，会令人浮想联篇，甚至会让你由此而感悟到人生的真谛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49766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0"/>
            <a:ext cx="211788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紫藤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紫藤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紫藤萝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紫藤3" descr=""/>
          <p:cNvPicPr/>
          <p:nvPr/>
        </p:nvPicPr>
        <p:blipFill>
          <a:blip r:embed="rId4"/>
          <a:stretch/>
        </p:blipFill>
        <p:spPr>
          <a:xfrm>
            <a:off x="0" y="-762120"/>
            <a:ext cx="5676840" cy="7620120"/>
          </a:xfrm>
          <a:prstGeom prst="rect">
            <a:avLst/>
          </a:prstGeom>
          <a:ln w="0">
            <a:noFill/>
          </a:ln>
        </p:spPr>
      </p:pic>
      <p:pic>
        <p:nvPicPr>
          <p:cNvPr id="60" name="紫藤花%20" descr=""/>
          <p:cNvPicPr/>
          <p:nvPr/>
        </p:nvPicPr>
        <p:blipFill>
          <a:blip r:embed="rId5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紫藤花%20" descr=""/>
          <p:cNvPicPr/>
          <p:nvPr/>
        </p:nvPicPr>
        <p:blipFill>
          <a:blip r:embed="rId6"/>
          <a:stretch/>
        </p:blipFill>
        <p:spPr>
          <a:xfrm>
            <a:off x="480060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ziteng" descr=""/>
          <p:cNvPicPr/>
          <p:nvPr/>
        </p:nvPicPr>
        <p:blipFill>
          <a:blip r:embed="rId7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ziteng" descr=""/>
          <p:cNvPicPr/>
          <p:nvPr/>
        </p:nvPicPr>
        <p:blipFill>
          <a:blip r:embed="rId8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iteng" descr=""/>
          <p:cNvPicPr/>
          <p:nvPr/>
        </p:nvPicPr>
        <p:blipFill>
          <a:blip r:embed="rId1"/>
          <a:stretch/>
        </p:blipFill>
        <p:spPr>
          <a:xfrm>
            <a:off x="-38088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43400" y="179280"/>
            <a:ext cx="48006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紫藤萝亦称“紫藤”、“藤萝”，豆科，羽状复叶，春季开花，蝶形花冠，青紫色，总状花序，产于我国中部，供观赏，花、种、子供食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1:33:46Z</dcterms:modified>
  <cp:revision>100</cp:revision>
  <dc:subject/>
  <dc:title>PowerPoint Presentation</dc:title>
</cp:coreProperties>
</file>