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09A-DC27-4F82-A81E-44345CB3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E5F-D265-4FE9-B081-630F7330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38C-44EB-4629-AB7E-9BEBB69A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570-E807-4054-91C0-6E11C89E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1F30-3CDA-4075-8473-94385948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9910-FB5D-4D05-B52F-D092D414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E767-717E-4EF2-A6C7-37138DF3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3E37-DC23-48AF-987F-50A76028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E8C5-74E4-4581-B05D-47F7DE63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7454-EFF2-4993-BD21-010C38AF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79FD-E56A-4EBE-9660-276DEE85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78CF-C849-4719-8BA4-6C7063A5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3A08-858B-48B6-BD07-8B981F77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6F01-051E-4A67-BEA9-C75082CA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0824-31A5-4B19-A55E-F76AD25A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0557-8430-4D6E-BAC5-910A31D9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5055-3D33-40D4-BDFD-70211DFA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4177-392B-4EC2-8A7F-82160659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2CA1-DD64-4FE3-AC11-9620E2A4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2282-D94B-4454-9E58-4698E6E7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42B1-B897-4304-A3B3-C2A203C5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B60-C793-4494-BF45-92644963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FE8-A6AA-4465-B3C0-316E2F18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00C-3226-4D4E-B306-1AD65B88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4C54-3E32-4921-A8FA-B4B3B7BC9CB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FC62-36CD-4314-B97E-64C7F74D19D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ziteng" descr=""/>
          <p:cNvPicPr/>
          <p:nvPr/>
        </p:nvPicPr>
        <p:blipFill>
          <a:blip r:embed="rId1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紫藤萝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6629400" y="0"/>
            <a:ext cx="2117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447920" y="5562720"/>
            <a:ext cx="7391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仿佛在流动，在欢笑，在不停地生长。在和阳光互相挑逗，彼此推着挤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从哪几个方面描写盛开的紫藤萝花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268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思 考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2840" y="144792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⑴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色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3124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2)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5410080"/>
            <a:ext cx="15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⑶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态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1371600"/>
            <a:ext cx="63514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一片辉煌淡紫色、深深浅浅的紫、紫色的大条幅上，泛着点点银光，就像迸溅的水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200400"/>
            <a:ext cx="6777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像一条瀑布，从空中垂下，不见其发端，也不见其终极。一树闪光的、盛开的藤萝。花朵儿一串挨着一串，一朵接着一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7160" y="609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总体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74400" y="0"/>
            <a:ext cx="49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是怎样具体描写单体紫藤萝花的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295280"/>
            <a:ext cx="38862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先写花穗的色彩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然后写花的形状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最后写花的香味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67760" y="9144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先写每一穗花，再写每一朵花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198108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每一穗花都是上面的盛开、下面的待放。颜色便上浅下深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3429000"/>
            <a:ext cx="8686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像张满了的小小的帆，帆下带着尖底的舱，船舱鼓鼓的，又像一个忍俊不禁的笑容，就要绽开似的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579132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淡淡的芳香，香气似乎也是浅紫色的，梦幻一般轻轻地笼罩着我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685800"/>
            <a:ext cx="8763120" cy="764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面对一树盛开的紫藤萝花，作者的情绪体验起了什么变化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62960" y="223848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焦虑、悲痛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08440" y="307008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72600" y="22860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宁静、喜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57600" y="251460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32767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是什么使作者“宁静、喜悦”了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4495680"/>
            <a:ext cx="77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找最能感受这种情绪的写花的句子， 并观察其写作顺序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799080" y="533520"/>
            <a:ext cx="155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面对这样美丽的一树花，作者除了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宁静、喜悦的情绪体验之外，还想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了些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06560" y="251460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、十几年藤萝花的盛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、人生的感悟：花和人都会遇到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种各样的不幸，但是生命的长河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无此境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914400"/>
            <a:ext cx="71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人的生命是短暂的，有时会遇到各种各样的不幸。为什么又说“生命的长河是无止境的”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4:10:35Z</dcterms:created>
  <dc:creator>wutao</dc:creator>
  <dc:description/>
  <dc:language>en-US</dc:language>
  <cp:lastModifiedBy>a</cp:lastModifiedBy>
  <dcterms:modified xsi:type="dcterms:W3CDTF">2002-12-22T15:43:17Z</dcterms:modified>
  <cp:revision>100</cp:revision>
  <dc:subject/>
  <dc:title>PowerPoint 演示文稿</dc:title>
</cp:coreProperties>
</file>