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16F-8A89-4102-BFCB-B323B01E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539-4A0F-4A66-840C-06C6FE9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174-888C-4463-ABFB-A40588C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C33-EDD9-471C-85A7-FA2A76B0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08C-8360-42DE-8433-5DAC085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A91-E8FB-4F97-80F6-C3C997FD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0C5-6006-4CB6-AF74-CCE5C73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F4C-D9B8-473D-8418-03F3706A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187-0F43-486F-863E-3A9A2E6E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552-D1C3-40CE-B6B2-B180257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7E9-8A9B-4618-B66E-34D1E9E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E5C-D3D5-4896-9F33-8DCE684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6476-2462-495C-8B5E-F9D9AD6FA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7花丛" descr=""/>
          <p:cNvPicPr/>
          <p:nvPr/>
        </p:nvPicPr>
        <p:blipFill>
          <a:blip r:embed="rId1"/>
          <a:stretch/>
        </p:blipFill>
        <p:spPr>
          <a:xfrm>
            <a:off x="-304920" y="0"/>
            <a:ext cx="10439640" cy="711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295280"/>
            <a:ext cx="685800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华文新魏"/>
              </a:rPr>
              <a:t>紫藤萝瀑布</a:t>
            </a:r>
            <a:endParaRPr b="1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4120" y="4191120"/>
            <a:ext cx="24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宗  璞</a:t>
            </a:r>
            <a:endParaRPr b="1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324480" y="45720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拓展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286000"/>
            <a:ext cx="1828800" cy="35053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欣赏电视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《黄山泉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边欣赏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思考，谈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你从电视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中得到的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生命和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的感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919080"/>
            <a:ext cx="5638680" cy="502452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讨论题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写景与抒情二者有哪几种排列顺序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写景与抒情二者在文章中占怎样的比例比较好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景物怎样才能写得细腻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如何在观察景物中得到感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24480" y="45720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学习写作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22" name="pic003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22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《紫藤萝瀑布》是一幅精细的工笔画，也是一首深沉的歌。文章委婉地道出了当时人们的心声：“美好的事物是遏止不了，也戮杀不灭的，生活的河流必将冲决各种障碍，日复日、年复年地涓涓流动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中外还有大量文学作品从不同角度咏叹生命的伟大与壮丽，多阅读此类文章能使我们得到很多的人生启迪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结束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001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5943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理清思路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训练朗读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研讨内容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赏析语言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感悟人生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学习写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001" descr=""/>
          <p:cNvPicPr/>
          <p:nvPr/>
        </p:nvPicPr>
        <p:blipFill>
          <a:blip r:embed="rId2"/>
          <a:stretch/>
        </p:blipFill>
        <p:spPr>
          <a:xfrm>
            <a:off x="6553080" y="4114800"/>
            <a:ext cx="2019600" cy="20192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1219320" y="457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1219320" y="1219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1219320" y="2514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4956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0666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35812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深入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57200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拓展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590920"/>
            <a:ext cx="1828800" cy="53316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粗略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运用圈、点、勾、画的方法，快速阅读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理清文章思路，体会文章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朗读技巧，提高朗读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赏析本文形象、饱含感情的语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借景抒情的写作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457200"/>
            <a:ext cx="2867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学习目标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676520"/>
            <a:ext cx="4419360" cy="6094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看导语，快速默读课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①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圈出文中的生字、词，利用注释词典正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②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点出文中能够表现紫藤萝特点的词句；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③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画出文中作者感悟的哲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304920"/>
            <a:ext cx="2895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整体感知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一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1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我被吸引，停下脚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二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2-6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看到了紫藤萝，突出了紫藤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（         ）的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7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的感情由（      ）、（         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变为（       ）、（        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四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8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回忆起十年多前家门外的紫藤萝，突出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了紫藤萝（          ）的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五部分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9-10 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感悟到的人生哲理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（                         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六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11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：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“我”被激励加快了脚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2200" y="30492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自我检测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219320"/>
            <a:ext cx="2361960" cy="3808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本文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003" descr=""/>
          <p:cNvPicPr/>
          <p:nvPr/>
        </p:nvPicPr>
        <p:blipFill>
          <a:blip r:embed="rId2"/>
          <a:stretch/>
        </p:blipFill>
        <p:spPr>
          <a:xfrm>
            <a:off x="7391520" y="52578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29718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盛、辉煌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333216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焦虑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5200" y="3332160"/>
            <a:ext cx="60948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悲痛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00600" y="365760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宁静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53080" y="365760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喜悦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57800" y="43434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稀落、伶仃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28800" y="5029200"/>
            <a:ext cx="5562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花和人都会遇到各种各样的不幸，但是生命的长河是无止境的。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91440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4419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指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出文章的内容和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7220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朗读训练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6477120" y="2819520"/>
            <a:ext cx="533160" cy="406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533520" cy="39204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477120" y="3683160"/>
            <a:ext cx="533160" cy="35532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543800" y="3657600"/>
            <a:ext cx="533520" cy="38088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477120" y="4495680"/>
            <a:ext cx="533160" cy="35568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543800" y="4495680"/>
            <a:ext cx="533520" cy="38124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sp>
        <p:nvSpPr>
          <p:cNvPr id="89" name=""/>
          <p:cNvSpPr txBox="1"/>
          <p:nvPr/>
        </p:nvSpPr>
        <p:spPr>
          <a:xfrm>
            <a:off x="6629400" y="32767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96080" y="32767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29400" y="41148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772400" y="49528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29400" y="49528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96080" y="411480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590920"/>
            <a:ext cx="2133720" cy="2819160"/>
          </a:xfrm>
          <a:prstGeom prst="flowChartAlternateProcess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5486400"/>
            <a:ext cx="1295640" cy="762120"/>
          </a:xfrm>
          <a:prstGeom prst="wedgeRoundRectCallout">
            <a:avLst>
              <a:gd name="adj1" fmla="val 52083"/>
              <a:gd name="adj2" fmla="val -121875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朗读录音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85800"/>
            <a:ext cx="4419360" cy="99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先选择自己喜欢的段落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朗读，再听录音琢磨朗读技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一、面对紫藤萝作者的感情为什么会发生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、前文作者情感的变化与后文作者对生命的感悟有何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、文章第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自然段中，作者说“生命的长河是无止境的”，想想从这个信念中可以引出什么结论来作为人生的指南？作者描写一朵朵花与整树花的河流，花的瀑布，二者的关系给我们什么启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1992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粗略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1" name="pic003" descr=""/>
          <p:cNvPicPr/>
          <p:nvPr/>
        </p:nvPicPr>
        <p:blipFill>
          <a:blip r:embed="rId2"/>
          <a:stretch/>
        </p:blipFill>
        <p:spPr>
          <a:xfrm>
            <a:off x="6858000" y="47242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79132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01992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深入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4" name="tengluo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95480" cy="4352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3772080" cy="360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85800"/>
            <a:ext cx="5105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隶书"/>
                <a:ea typeface="隶书"/>
              </a:rPr>
              <a:t>仔细观察下面两幅图片，思考下列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这两幅图片能让你联想到文章的哪些句子，并简要分析其写景的妙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写景怎样才能写得生动亲切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09480"/>
            <a:ext cx="4724640" cy="4572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隶书"/>
                <a:ea typeface="隶书"/>
              </a:rPr>
              <a:t>仔细观察下面两幅图片，思考下列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397160"/>
          <a:ext cx="8381880" cy="4332240"/>
        </p:xfrm>
        <a:graphic>
          <a:graphicData uri="http://schemas.openxmlformats.org/drawingml/2006/table">
            <a:tbl>
              <a:tblPr/>
              <a:tblGrid>
                <a:gridCol w="838080"/>
                <a:gridCol w="3048120"/>
                <a:gridCol w="1828800"/>
                <a:gridCol w="2666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修辞手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例      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妙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拟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仔细看时，才知道那是每一朵紫花中的最浅淡的部分，在和阳光互相挑逗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我在开花！”它们在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细腻地写出了每一朵花不同部分的深浅；使紫藤萝具有灵性和生命力，既富有动感又富有情趣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每一朵盛开的花就像是一个小小的张满了的帆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又像一个忍俊不禁的笑容，就要绽开了似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细致地写出了紫藤萝盛开时的状态，显得生机勃勃，美好可爱，也抒发了作者喜悦的心情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742840" y="456840"/>
            <a:ext cx="2971800" cy="685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探究经验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457200" cy="38124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001" descr=""/>
          <p:cNvPicPr/>
          <p:nvPr/>
        </p:nvPicPr>
        <p:blipFill>
          <a:blip r:embed="rId2"/>
          <a:stretch/>
        </p:blipFill>
        <p:spPr>
          <a:xfrm>
            <a:off x="7620120" y="52578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2:38:49Z</dcterms:created>
  <dc:creator>wutao</dc:creator>
  <dc:description/>
  <dc:language>en-US</dc:language>
  <cp:lastModifiedBy>周璟</cp:lastModifiedBy>
  <dcterms:modified xsi:type="dcterms:W3CDTF">2004-09-24T08:40:16Z</dcterms:modified>
  <cp:revision>100</cp:revision>
  <dc:subject/>
  <dc:title>PowerPoint 演示文稿</dc:title>
</cp:coreProperties>
</file>