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5.gif" ContentType="image/gif"/>
  <Override PartName="/ppt/media/image12.png" ContentType="image/png"/>
  <Override PartName="/ppt/media/image4.jpeg" ContentType="image/jpeg"/>
  <Override PartName="/ppt/media/image17.png" ContentType="image/png"/>
  <Override PartName="/ppt/media/image14.gif" ContentType="image/gif"/>
  <Override PartName="/ppt/media/image11.png" ContentType="image/png"/>
  <Override PartName="/ppt/media/image6.gif" ContentType="image/gif"/>
  <Override PartName="/ppt/media/image2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13.gif" ContentType="image/gif"/>
  <Override PartName="/ppt/media/image1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7E0-0524-4844-9B20-27DE5887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393-E8EE-4701-B53C-72F4CCF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635-88F8-4877-9CCC-E965A198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72B-6CC9-4307-AAB0-8AA06247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DDA-12CA-40A3-94EA-F753EC7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E1E-9B48-46AF-AC51-49C290A2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FDC-F756-4797-8166-52BBC34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62F-3523-460C-AC3C-69F4CFB9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331-7C2B-4B98-B45D-26DF4861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03B-62D9-49DA-8F48-0F5ABFD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B86-05CB-4ADB-9102-0CDF990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C5D-3FE0-4BDB-80CA-68B8A6F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560-7210-44FC-94D7-73CD60AD17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花3" descr=""/>
          <p:cNvPicPr/>
          <p:nvPr/>
        </p:nvPicPr>
        <p:blipFill>
          <a:blip r:embed="rId1"/>
          <a:stretch/>
        </p:blipFill>
        <p:spPr>
          <a:xfrm>
            <a:off x="228600" y="0"/>
            <a:ext cx="8381880" cy="6324480"/>
          </a:xfrm>
          <a:prstGeom prst="rect">
            <a:avLst/>
          </a:prstGeom>
          <a:ln w="0">
            <a:noFill/>
          </a:ln>
        </p:spPr>
      </p:pic>
      <p:pic>
        <p:nvPicPr>
          <p:cNvPr id="42" name="RT_011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167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R_073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52480" y="228600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6666ff"/>
                </a:solidFill>
                <a:latin typeface="Times New Roman"/>
              </a:rPr>
              <a:t>作者从什么角度写紫藤萝呢 ？用了什么修辞手法 </a:t>
            </a:r>
            <a:r>
              <a:rPr b="1" lang="zh-CN" sz="4800" spc="-1" strike="noStrike">
                <a:solidFill>
                  <a:srgbClr val="6666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R_033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153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请你找出你最喜欢    的关于写紫藤萝      的句子，并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说原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8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2" descr=""/>
          <p:cNvPicPr/>
          <p:nvPr/>
        </p:nvPicPr>
        <p:blipFill>
          <a:blip r:embed="rId2"/>
          <a:stretch/>
        </p:blipFill>
        <p:spPr>
          <a:xfrm>
            <a:off x="6934320" y="489096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57200"/>
            <a:ext cx="876312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颜色：一片辉煌淡紫色、深深浅浅的紫、紫色的大条幅上，泛着点点银光，就像进溅的水花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形状：像一条瀑布、花朵儿一串挨着一串，一朵接着一朵、一个张满了的帆、鼓鼓的船舱、忍俊不禁的笑容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花态：仿佛在流动，在欢笑，在不停地生长。在和阳光互相挑逗，彼此推着挤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花香：淡淡的花香，梦幻般笼罩着我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R_040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1676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143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为什么把花香说成 “ 似乎也是淡紫色的，梦幻一般轻轻地笼罩着我 ”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86704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香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97180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嗅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743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幻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581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通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36360" y="3657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人的感觉相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85960" y="457200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用：使语言更加清新、活泼、灵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81080" y="22096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把花写得这么美，看完花后，对她焦虑和悲痛的心情有改变吗？（从原文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41148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心情改变的原因是什么呢？  （ 联系写作背景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R_054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57600" y="22860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文中插入一段写十多年前家门外的一大株紫藤萝起什么作用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R_05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257800" y="22093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花和人都会遇到各种各样的不幸。但是只要生活的态度积极，那就会迎来美好的明天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75248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1828800"/>
            <a:ext cx="32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十多年前花的稀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51460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现在花开的繁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1981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50532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6576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2000" y="35053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花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2000" y="41148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人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276720"/>
            <a:ext cx="990720" cy="304560"/>
          </a:xfrm>
          <a:custGeom>
            <a:avLst/>
            <a:gdLst>
              <a:gd name="textAreaLeft" fmla="*/ 12384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5120" y="2362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作者由花的勃勃生机感悟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生命的长河是无止境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说说你对这个问题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800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的长河是无止境的，我们应该以一种乐观的态度去面对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04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十多年前花稀落，遭遇不幸，过了这么多年，花却开得这样盛，这样生机勃勃，表现自然界生命的顽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14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生命虽然短暂，也会有各种不幸，如：小弟身患绝症而死，但人类的生命长河并不因某个人的逝去而停止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9200" y="114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紫藤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896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FR_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57600" y="3962520"/>
            <a:ext cx="396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沉舟侧畔千帆过  病树前头万木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1752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生活就像一面镜子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你对她笑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他就对你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花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花4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78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5880" y="1143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这淡紫色的芳香中，“我”为什么不觉加快了脚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43290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说明作者从花中得到感悟，心中的失弟悲痛焦虑化为精神的宁静和前进的动力，感悟到生命的永恒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　第一段：从开头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想摘一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　　写作者偶见一树茂盛的紫藤萝。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看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二段：从“但是我没有摘”到“流向人的心底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写作者睹物释怀，心上的焦虑和悲痛化为精神的宁静和生的喜悦。（忆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三段：从“花和人都会遇到各种各样的不幸”到完。写作者由此感悟到生命的永恒。（悟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花1" descr=""/>
          <p:cNvPicPr/>
          <p:nvPr/>
        </p:nvPicPr>
        <p:blipFill>
          <a:blip r:embed="rId1"/>
          <a:stretch/>
        </p:blipFill>
        <p:spPr>
          <a:xfrm>
            <a:off x="561960" y="905040"/>
            <a:ext cx="802008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W_011" descr=""/>
          <p:cNvPicPr/>
          <p:nvPr/>
        </p:nvPicPr>
        <p:blipFill>
          <a:blip r:embed="rId1"/>
          <a:stretch/>
        </p:blipFill>
        <p:spPr>
          <a:xfrm>
            <a:off x="3846600" y="0"/>
            <a:ext cx="5297400" cy="6989760"/>
          </a:xfrm>
          <a:prstGeom prst="rect">
            <a:avLst/>
          </a:prstGeom>
          <a:ln w="0">
            <a:noFill/>
          </a:ln>
        </p:spPr>
      </p:pic>
      <p:pic>
        <p:nvPicPr>
          <p:cNvPr id="49" name="ZW_041" descr=""/>
          <p:cNvPicPr/>
          <p:nvPr/>
        </p:nvPicPr>
        <p:blipFill>
          <a:blip r:embed="rId2"/>
          <a:stretch/>
        </p:blipFill>
        <p:spPr>
          <a:xfrm>
            <a:off x="0" y="0"/>
            <a:ext cx="385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R_05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自然景物是丰富多彩、婀娜多姿的，尤其是美丽的花朵，它会令人心旷神怡，会令人浮想联篇，甚至会让你由此而感悟到人生的真谛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R_0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Wingdings"/>
                <a:ea typeface="Wingdings"/>
              </a:rPr>
              <a:t>紫藤萝瀑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        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宗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ZW_011" descr=""/>
          <p:cNvPicPr/>
          <p:nvPr/>
        </p:nvPicPr>
        <p:blipFill>
          <a:blip r:embed="rId2">
            <a:lum contrast="6000"/>
          </a:blip>
          <a:stretch/>
        </p:blipFill>
        <p:spPr>
          <a:xfrm flipH="1" rot="10800000">
            <a:off x="2438280" y="3733920"/>
            <a:ext cx="12286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宗蹼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542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39424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9933ff"/>
                </a:solidFill>
                <a:latin typeface="Times New Roman"/>
              </a:rPr>
              <a:t>自幼生长于清华大学，受和谐淳厚的文化教育，可以说是出自书香门第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0"/>
            <a:ext cx="549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457200"/>
            <a:ext cx="54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304920" y="533520"/>
            <a:ext cx="9448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迸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溅：                 向外溅出或喷射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繁密：                  多而密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稀落：                  稀稀疏疏，出现得少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伶仃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                  孤独，没有依靠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酒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酿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；                  江米酒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挑逗：                  逗引，招惹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俊不禁：          忍不住笑。忍俊：含笑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仙露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琼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浆：            形容鲜美的酒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盘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卧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龙：            回旋地绕像卧着的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嚷               穗            舱              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457200"/>
            <a:ext cx="137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( b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è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4100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19810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( l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í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 d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ī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3828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ni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4290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r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ĕ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886200"/>
            <a:ext cx="152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( qi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ó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6172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4197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q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ĭ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u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r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3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87692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( su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ì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8769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c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1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48769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zh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36640" y="7826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9810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题目为什么要加上“瀑布”？   （说明花开得怎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9:28:46Z</dcterms:created>
  <dc:creator>wutao</dc:creator>
  <dc:description/>
  <dc:language>en-US</dc:language>
  <cp:lastModifiedBy>周璟</cp:lastModifiedBy>
  <dcterms:modified xsi:type="dcterms:W3CDTF">2004-09-30T05:44:59Z</dcterms:modified>
  <cp:revision>100</cp:revision>
  <dc:subject/>
  <dc:title>PowerPoint 演示文稿</dc:title>
</cp:coreProperties>
</file>