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7B52-A2E1-44A6-9B1C-61A615D93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B61E-91C6-4786-820F-BAA5B43C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2A7F-9CAF-43A8-93FB-9C1AB0E25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802A-58C7-442C-A358-C62FD6D36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FA38-A20E-44C3-84ED-FD96FB185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7208-4944-46F6-92C8-9D38364B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3A2D-B53C-4038-9A86-9139C2F3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DF8C-81A6-4644-8F1F-8AC38702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0960-1A60-4DD1-A013-26D483E6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96D7-371A-45CD-BF1B-E5B5B83E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78A5-87D4-4538-A860-0E64ADAD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35FE-20FC-4664-8375-DF569AD8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7F99-E107-4D72-9387-72D52EAB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47A7-7FFF-4D6F-915F-7BE4231B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B043-FE15-4005-84D6-3324343B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8069-114F-468B-A8F9-DC790C8B7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64E7-2333-473B-9F2D-CBC297DD4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8EBC-762B-4D63-95C8-5158851A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19A4-0ABA-4825-ABA5-456A19E7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1F9B-2C8A-4BBB-97E6-CFB42F9C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BA0F-A8F5-43B6-AEF9-A7496E56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9F59-BB74-4188-80B0-A0573631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9FA0-DC0A-4534-8001-EC3CD582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6C59-C291-4A1F-8CE2-EC07A05F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D712-4B52-4C23-860C-CBD476F33A14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8736-7B88-460E-A665-B72370947AA7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c1c1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 rot="5400000">
            <a:off x="-1676880" y="2590920"/>
            <a:ext cx="5410440" cy="1447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d60093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幼圆"/>
              </a:rPr>
              <a:t>紫藤萝瀑布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ccff"/>
                  </a:gs>
                  <a:gs pos="100000">
                    <a:srgbClr val="d60093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幼圆"/>
              <a:ea typeface="幼圆"/>
            </a:endParaRPr>
          </a:p>
        </p:txBody>
      </p:sp>
      <p:pic>
        <p:nvPicPr>
          <p:cNvPr id="91" name="一枝紫藤萝" descr=""/>
          <p:cNvPicPr/>
          <p:nvPr/>
        </p:nvPicPr>
        <p:blipFill>
          <a:blip r:embed="rId1"/>
          <a:stretch/>
        </p:blipFill>
        <p:spPr>
          <a:xfrm>
            <a:off x="4343400" y="228600"/>
            <a:ext cx="1620720" cy="2895480"/>
          </a:xfrm>
          <a:prstGeom prst="rect">
            <a:avLst/>
          </a:prstGeom>
          <a:ln w="0">
            <a:noFill/>
          </a:ln>
        </p:spPr>
      </p:pic>
      <p:pic>
        <p:nvPicPr>
          <p:cNvPr id="92" name="瀑布" descr=""/>
          <p:cNvPicPr/>
          <p:nvPr/>
        </p:nvPicPr>
        <p:blipFill>
          <a:blip r:embed="rId2"/>
          <a:stretch/>
        </p:blipFill>
        <p:spPr>
          <a:xfrm>
            <a:off x="6172200" y="1676520"/>
            <a:ext cx="2182680" cy="4171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627920" y="2901240"/>
            <a:ext cx="109476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80"/>
                </a:solidFill>
                <a:latin typeface="Times New Roman"/>
                <a:ea typeface="华文行楷"/>
              </a:rPr>
              <a:t>宗璞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4" name="紫藤花%20" descr=""/>
          <p:cNvPicPr/>
          <p:nvPr/>
        </p:nvPicPr>
        <p:blipFill>
          <a:blip r:embed="rId3"/>
          <a:stretch/>
        </p:blipFill>
        <p:spPr>
          <a:xfrm>
            <a:off x="2666880" y="2362320"/>
            <a:ext cx="1843200" cy="2590560"/>
          </a:xfrm>
          <a:prstGeom prst="rect">
            <a:avLst/>
          </a:prstGeom>
          <a:ln w="0">
            <a:noFill/>
          </a:ln>
        </p:spPr>
      </p:pic>
      <p:pic>
        <p:nvPicPr>
          <p:cNvPr id="95" name="紫藤萝瀑布3" descr=""/>
          <p:cNvPicPr/>
          <p:nvPr/>
        </p:nvPicPr>
        <p:blipFill>
          <a:blip r:embed="rId4"/>
          <a:stretch/>
        </p:blipFill>
        <p:spPr>
          <a:xfrm>
            <a:off x="4419720" y="3962520"/>
            <a:ext cx="1574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隶书"/>
                <a:ea typeface="隶书"/>
              </a:rPr>
              <a:t>为什么面对紫藤萝瀑布，作者的感情有那样的变化，对生命有那样的感悟？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作者因为兄弟早逝心头一直</a:t>
            </a:r>
            <a:r>
              <a:rPr b="1" lang="zh-CN" sz="4400" spc="-1" strike="noStrike">
                <a:solidFill>
                  <a:srgbClr val="cc6600"/>
                </a:solidFill>
                <a:latin typeface="Times New Roman"/>
                <a:ea typeface="华文新魏"/>
              </a:rPr>
              <a:t>焦虑而悲痛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，在看到生机勃发，光辉灿烂的紫藤萝瀑布后，产生了精神上的</a:t>
            </a:r>
            <a:r>
              <a:rPr b="1" lang="zh-CN" sz="4400" spc="-1" strike="noStrike">
                <a:solidFill>
                  <a:srgbClr val="cc6600"/>
                </a:solidFill>
                <a:latin typeface="Times New Roman"/>
                <a:ea typeface="华文新魏"/>
              </a:rPr>
              <a:t>宁静和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生的</a:t>
            </a:r>
            <a:r>
              <a:rPr b="1" lang="zh-CN" sz="4400" spc="-1" strike="noStrike">
                <a:solidFill>
                  <a:srgbClr val="cc6600"/>
                </a:solidFill>
                <a:latin typeface="Times New Roman"/>
                <a:ea typeface="华文新魏"/>
              </a:rPr>
              <a:t>喜悦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，进而感悟出人生的哲理。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  <a:ea typeface="隶书"/>
              </a:rPr>
              <a:t>    “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  <a:ea typeface="隶书"/>
              </a:rPr>
              <a:t>花和人都会遇到各种各样的不幸，但是生命的长河是无止境的。”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华文新魏"/>
                <a:ea typeface="华文新魏"/>
              </a:rPr>
              <a:t>结合全文，说说你对这一句话的理解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华文新魏"/>
                <a:ea typeface="华文新魏"/>
              </a:rPr>
              <a:t>参考：个体生命是有止境的，人类生命的长河是无止境，不能让昨天的不幸把人压垮，我们应象紫藤萝的花朵一样以饱满的生命力，投身到生命的长河中去，与祖国人民同命运，共呼吸。             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a3d7a"/>
                </a:solidFill>
                <a:latin typeface="Times New Roman"/>
                <a:ea typeface="隶书"/>
              </a:rPr>
              <a:t>揣摩语言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读着宗璞的这篇文章，仿佛在你眼前，就展现出一条紫色的瀑布，绚丽的色彩曳动你的目光，郁郁的幽香缭绕在你的鼻前……我们一起来感受作者卓越的笔力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      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画出你最欣赏的写景句，有感情地朗读出来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语句揣摩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（一）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：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华文细黑"/>
              </a:rPr>
              <a:t>从未见过开得这样盛的藤萝，只见一片辉煌的淡紫色，像一条瀑布，从空中垂下，不见其发端，也不见其终极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华文细黑"/>
              </a:rPr>
              <a:t>      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方正舒体"/>
              </a:rPr>
              <a:t>体会：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  <a:ea typeface="方正姚体"/>
              </a:rPr>
              <a:t>将花喻为“瀑”，形象地表现了花之繁茂，隐含了生命的绵延长远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华文细黑"/>
              </a:rPr>
              <a:t>2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华文细黑"/>
              </a:rPr>
              <a:t>、只是深深浅浅的紫，仿佛在流动，在欢笑，在不停地生长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华文细黑"/>
              </a:rPr>
              <a:t>      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方正舒体"/>
              </a:rPr>
              <a:t>体会：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  <a:ea typeface="方正姚体"/>
              </a:rPr>
              <a:t>用“流动”“欢笑”“生长”等动词，使静态的花色跃动起来，表现出花的生趣盎然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语句揣摩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（二）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：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20570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华文细黑"/>
              </a:rPr>
              <a:t>3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华文细黑"/>
              </a:rPr>
              <a:t>、花朵儿一串挨着一串，一朵接着一朵，彼此推着挤着，好不活泼热闹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华文细黑"/>
              </a:rPr>
              <a:t>      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方正舒体"/>
              </a:rPr>
              <a:t>体会：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  <a:ea typeface="方正姚体"/>
              </a:rPr>
              <a:t>运用拟人的手法，生动地表现出花的勃勃生机和浪漫情趣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华文细黑"/>
              </a:rPr>
              <a:t>4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华文细黑"/>
              </a:rPr>
              <a:t>、香气似乎也是浅紫色的，梦幻一般轻轻地笼罩着我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华文细黑"/>
              </a:rPr>
              <a:t>      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方正舒体"/>
              </a:rPr>
              <a:t>体会：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  <a:ea typeface="方正姚体"/>
              </a:rPr>
              <a:t>使无形的香味化成有形的颜色（通感），具体地表现花香带给作者的那种飘渺轻柔的感觉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129492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a3d7a"/>
                </a:solidFill>
                <a:latin typeface="Times New Roman"/>
                <a:ea typeface="隶书"/>
              </a:rPr>
              <a:t>写作方法探讨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方正舒体"/>
              </a:rPr>
              <a:t>这是一篇借景抒情的典范美文，你是否能从中获得写这类文章的启示呢？请说说你的心得，并在小组内交流。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a3d7a"/>
                </a:solidFill>
                <a:latin typeface="Times New Roman"/>
                <a:ea typeface="隶书"/>
              </a:rPr>
              <a:t>学习目标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有节奏，有感情地朗读课文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整体把握：理清作者的感情变化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体会作者对人生的独特感受，体味人生，感悟生命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揣摩精妙语句及学习作者写景状物的妙处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Times New Roman"/>
              </a:rPr>
              <a:t>读一读，写一写：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rǎn</a:t>
            </a:r>
            <a:r>
              <a:rPr b="1" lang="zh-CN" sz="3200" spc="-1" strike="noStrike">
                <a:solidFill>
                  <a:srgbClr val="5b5249"/>
                </a:solidFill>
                <a:latin typeface="zypyyb"/>
                <a:ea typeface="zypyyb"/>
              </a:rPr>
              <a:t>g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  suì   cān</a:t>
            </a:r>
            <a:r>
              <a:rPr b="1" lang="zh-CN" sz="3200" spc="-1" strike="noStrike">
                <a:solidFill>
                  <a:srgbClr val="5b5249"/>
                </a:solidFill>
                <a:latin typeface="zypyyb"/>
                <a:ea typeface="zypyyb"/>
              </a:rPr>
              <a:t>g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  zh</a:t>
            </a:r>
            <a:r>
              <a:rPr b="1" lang="zh-CN" sz="3200" spc="-1" strike="noStrike">
                <a:solidFill>
                  <a:srgbClr val="5b5249"/>
                </a:solidFill>
                <a:latin typeface="zypyyb"/>
                <a:ea typeface="zypyyb"/>
              </a:rPr>
              <a:t>4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n  còu  ni</a:t>
            </a:r>
            <a:r>
              <a:rPr b="1" lang="zh-CN" sz="3200" spc="-1" strike="noStrike">
                <a:solidFill>
                  <a:srgbClr val="5b5249"/>
                </a:solidFill>
                <a:latin typeface="zypyyb"/>
                <a:ea typeface="zypyyb"/>
              </a:rPr>
              <a:t>4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5b5249"/>
                </a:solidFill>
                <a:latin typeface="zypyyb"/>
                <a:ea typeface="zypyyb"/>
              </a:rPr>
              <a:t>g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  bèn</a:t>
            </a:r>
            <a:r>
              <a:rPr b="1" lang="zh-CN" sz="3200" spc="-1" strike="noStrike">
                <a:solidFill>
                  <a:srgbClr val="5b5249"/>
                </a:solidFill>
                <a:latin typeface="zypyyb"/>
                <a:ea typeface="zypyyb"/>
              </a:rPr>
              <a:t>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嚷    穗    舱    绽     凑     酿    迸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溅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tiǎo          zhù       nín</a:t>
            </a:r>
            <a:r>
              <a:rPr b="1" lang="zh-CN" sz="3200" spc="-1" strike="noStrike">
                <a:solidFill>
                  <a:srgbClr val="5b5249"/>
                </a:solidFill>
                <a:latin typeface="zypyyb"/>
                <a:ea typeface="zypyyb"/>
              </a:rPr>
              <a:t>g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       lǒn</a:t>
            </a:r>
            <a:r>
              <a:rPr b="1" lang="zh-CN" sz="3200" spc="-1" strike="noStrike">
                <a:solidFill>
                  <a:srgbClr val="5b5249"/>
                </a:solidFill>
                <a:latin typeface="zypyyb"/>
                <a:ea typeface="zypyyb"/>
              </a:rPr>
              <a:t>g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     lín</a:t>
            </a:r>
            <a:r>
              <a:rPr b="1" lang="zh-CN" sz="3200" spc="-1" strike="noStrike">
                <a:solidFill>
                  <a:srgbClr val="5b5249"/>
                </a:solidFill>
                <a:latin typeface="zypyyb"/>
                <a:ea typeface="zypyyb"/>
              </a:rPr>
              <a:t>g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dīn</a:t>
            </a:r>
            <a:r>
              <a:rPr b="1" lang="zh-CN" sz="3200" spc="-1" strike="noStrike">
                <a:solidFill>
                  <a:srgbClr val="5b5249"/>
                </a:solidFill>
                <a:latin typeface="zypyyb"/>
                <a:ea typeface="zypyyb"/>
              </a:rPr>
              <a:t>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挑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逗     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 伫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立    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凝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望     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笼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罩    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 伶仃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             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jīn             qión</a:t>
            </a:r>
            <a:r>
              <a:rPr b="1" lang="zh-CN" sz="3200" spc="-1" strike="noStrike">
                <a:solidFill>
                  <a:srgbClr val="5b5249"/>
                </a:solidFill>
                <a:latin typeface="zypyyb"/>
                <a:ea typeface="zypyyb"/>
              </a:rPr>
              <a:t>g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            qiú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忍俊不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禁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      仙露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琼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浆      盘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虬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卧龙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Times New Roman"/>
                <a:ea typeface="隶书"/>
              </a:rPr>
              <a:t>作者介绍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876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宗璞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，当代女作家，原名冯钟璞。她出身学者世家，细腻儒雅的气质使她的文章明朗而又含蓄，流畅而有余韵，请同学们在朗读中好好品味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0" b="14283"/>
          <a:stretch/>
        </p:blipFill>
        <p:spPr>
          <a:xfrm>
            <a:off x="5410080" y="2057400"/>
            <a:ext cx="3505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Times New Roman"/>
                <a:ea typeface="隶书"/>
              </a:rPr>
              <a:t>有感情地朗读课文，并整体把握课文。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试着给课文划分层次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作者的思想感情发生了哪些变化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作者感悟到什么哲理，划出能表现课文中心的句子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b5249"/>
                </a:solidFill>
                <a:latin typeface="Times New Roman"/>
                <a:ea typeface="隶书"/>
              </a:rPr>
              <a:t>文章脉络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76160" y="16761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c0600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cc6600"/>
                </a:solidFill>
                <a:latin typeface="隶书"/>
                <a:ea typeface="隶书"/>
              </a:rPr>
              <a:t>层次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c0600"/>
                </a:solidFill>
                <a:latin typeface="华文新魏"/>
                <a:ea typeface="华文新魏"/>
              </a:rPr>
              <a:t>赏花</a:t>
            </a:r>
            <a:r>
              <a:rPr b="0" lang="zh-CN" sz="3600" spc="-1" strike="noStrike">
                <a:solidFill>
                  <a:srgbClr val="0c0600"/>
                </a:solidFill>
                <a:latin typeface="华文新魏"/>
                <a:ea typeface="华文新魏"/>
              </a:rPr>
              <a:t>-----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c06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c0600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c0600"/>
                </a:solidFill>
                <a:latin typeface="华文新魏"/>
                <a:ea typeface="华文新魏"/>
              </a:rPr>
              <a:t>1—6</a:t>
            </a:r>
            <a:r>
              <a:rPr b="0" lang="zh-CN" sz="2800" spc="-1" strike="noStrike">
                <a:solidFill>
                  <a:srgbClr val="0c060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c0600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c0600"/>
                </a:solidFill>
                <a:latin typeface="华文新魏"/>
                <a:ea typeface="华文新魏"/>
              </a:rPr>
              <a:t>忆花</a:t>
            </a:r>
            <a:r>
              <a:rPr b="0" lang="zh-CN" sz="3600" spc="-1" strike="noStrike">
                <a:solidFill>
                  <a:srgbClr val="0c0600"/>
                </a:solidFill>
                <a:latin typeface="华文新魏"/>
                <a:ea typeface="华文新魏"/>
              </a:rPr>
              <a:t>-----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c06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c0600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c0600"/>
                </a:solidFill>
                <a:latin typeface="华文新魏"/>
                <a:ea typeface="华文新魏"/>
              </a:rPr>
              <a:t>7—9</a:t>
            </a:r>
            <a:r>
              <a:rPr b="0" lang="zh-CN" sz="2800" spc="-1" strike="noStrike">
                <a:solidFill>
                  <a:srgbClr val="0c0600"/>
                </a:solidFill>
                <a:latin typeface="华文新魏"/>
                <a:ea typeface="华文新魏"/>
              </a:rPr>
              <a:t>）</a:t>
            </a:r>
            <a:r>
              <a:rPr b="0" lang="zh-CN" sz="3600" spc="-1" strike="noStrike">
                <a:solidFill>
                  <a:srgbClr val="0c06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c0600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c0600"/>
                </a:solidFill>
                <a:latin typeface="华文新魏"/>
                <a:ea typeface="华文新魏"/>
              </a:rPr>
              <a:t>悟花</a:t>
            </a:r>
            <a:r>
              <a:rPr b="0" lang="zh-CN" sz="3600" spc="-1" strike="noStrike">
                <a:solidFill>
                  <a:srgbClr val="0c0600"/>
                </a:solidFill>
                <a:latin typeface="华文新魏"/>
                <a:ea typeface="华文新魏"/>
              </a:rPr>
              <a:t>-----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163a3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c0600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c060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c0600"/>
                </a:solidFill>
                <a:latin typeface="华文新魏"/>
                <a:ea typeface="华文新魏"/>
              </a:rPr>
              <a:t>、</a:t>
            </a:r>
            <a:r>
              <a:rPr b="0" lang="zh-CN" sz="2800" spc="-1" strike="noStrike">
                <a:solidFill>
                  <a:srgbClr val="0c0600"/>
                </a:solidFill>
                <a:latin typeface="华文新魏"/>
                <a:ea typeface="华文新魏"/>
              </a:rPr>
              <a:t>11</a:t>
            </a:r>
            <a:r>
              <a:rPr b="0" lang="zh-CN" sz="2800" spc="-1" strike="noStrike">
                <a:solidFill>
                  <a:srgbClr val="0c060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580920" y="1676520"/>
            <a:ext cx="3429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隶书"/>
                <a:ea typeface="隶书"/>
              </a:rPr>
              <a:t>作者情感变化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402264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c0600"/>
                </a:solidFill>
                <a:latin typeface="隶书"/>
                <a:ea typeface="华文新魏"/>
              </a:rPr>
              <a:t>百感交集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32360" y="5211720"/>
            <a:ext cx="3054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c0600"/>
                </a:solidFill>
                <a:latin typeface="隶书"/>
                <a:ea typeface="华文新魏"/>
              </a:rPr>
              <a:t>精神振奋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2849400"/>
            <a:ext cx="228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c0600"/>
                </a:solidFill>
                <a:latin typeface="隶书"/>
                <a:ea typeface="华文新魏"/>
              </a:rPr>
              <a:t>愉悦快乐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a3d7a"/>
                </a:solidFill>
                <a:latin typeface="Times New Roman"/>
                <a:ea typeface="隶书"/>
              </a:rPr>
              <a:t>作者感悟到什么哲理，划出能表现课文中心的句子。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2971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华文新魏"/>
                <a:ea typeface="华文新魏"/>
              </a:rPr>
              <a:t> “</a:t>
            </a:r>
            <a:r>
              <a:rPr b="1" lang="zh-CN" sz="4400" spc="-1" strike="noStrike">
                <a:solidFill>
                  <a:srgbClr val="5b5249"/>
                </a:solidFill>
                <a:latin typeface="华文新魏"/>
                <a:ea typeface="华文新魏"/>
              </a:rPr>
              <a:t>花和人都会遇到各种各样的不幸，但是生命的长河是无止境的。”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Times New Roman"/>
                <a:ea typeface="隶书"/>
              </a:rPr>
              <a:t>品味人生，感悟生命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华文新魏"/>
                <a:ea typeface="华文新魏"/>
              </a:rPr>
              <a:t>为什么面对紫藤萝瀑布，作者的感情有那样的变化，对生命有那样的感悟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5b5249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5b5249"/>
                </a:solidFill>
                <a:latin typeface="华文新魏"/>
                <a:ea typeface="华文新魏"/>
              </a:rPr>
              <a:t>、请画出作者所说的藤萝变迁史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5b5249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5b5249"/>
                </a:solidFill>
                <a:latin typeface="华文新魏"/>
                <a:ea typeface="华文新魏"/>
              </a:rPr>
              <a:t>、“生死谜，手足情”透露出作者遇到了什么不幸呢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宗璞《哭小弟》片段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635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1828800"/>
            <a:ext cx="6858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方正舒体"/>
                <a:ea typeface="方正舒体"/>
              </a:rPr>
              <a:t>      </a:t>
            </a:r>
            <a:r>
              <a:rPr b="1" lang="zh-CN" sz="3600" spc="-1" strike="noStrike">
                <a:solidFill>
                  <a:srgbClr val="5b5249"/>
                </a:solidFill>
                <a:latin typeface="方正舒体"/>
                <a:ea typeface="方正舒体"/>
              </a:rPr>
              <a:t>可是他去了，过早地去了。这一年多，真像是个梦，是个永远不能令人相信的梦。我总觉得他还会回来，从我们那冬夏一律显得十分荒凉的后院走到我窗下，叫一声“小姊</a:t>
            </a:r>
            <a:r>
              <a:rPr b="1" lang="zh-CN" sz="3600" spc="-1" strike="noStrike">
                <a:solidFill>
                  <a:srgbClr val="5b5249"/>
                </a:solidFill>
                <a:latin typeface="方正舒体"/>
                <a:ea typeface="方正舒体"/>
              </a:rPr>
              <a:t>------”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8" name="0063" descr=""/>
          <p:cNvPicPr/>
          <p:nvPr/>
        </p:nvPicPr>
        <p:blipFill>
          <a:blip r:embed="rId1"/>
          <a:srcRect l="4771" t="4786" r="4771" b="4786"/>
          <a:stretch/>
        </p:blipFill>
        <p:spPr>
          <a:xfrm>
            <a:off x="7086600" y="5638680"/>
            <a:ext cx="1600200" cy="895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06:44:06Z</dcterms:created>
  <dc:creator>wutao</dc:creator>
  <dc:description/>
  <dc:language>en-US</dc:language>
  <cp:lastModifiedBy>周璟</cp:lastModifiedBy>
  <dcterms:modified xsi:type="dcterms:W3CDTF">2004-10-08T00:50:37Z</dcterms:modified>
  <cp:revision>100</cp:revision>
  <dc:subject/>
  <dc:title>PowerPoint 演示文稿</dc:title>
</cp:coreProperties>
</file>