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chimes.wav" ContentType="audio/x-wav"/>
  <Override PartName="/ppt/media/image6.jpeg" ContentType="image/jpeg"/>
  <Override PartName="/ppt/media/projctor.wav" ContentType="audio/x-wav"/>
  <Override PartName="/ppt/media/type.wav" ContentType="audio/x-wav"/>
  <Override PartName="/ppt/media/applause.wav" ContentType="audio/x-wav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  <p:custShowLst>
    <p:custShow name="自定义放映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3AB5-674B-44D1-8470-9FFBD69035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教学方法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自读点拨法：以学生自读为主，教师加以点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诵读法：文意让学生在诵读中领悟，不必讲析过多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做卡片，摘抄优美语句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AB4-7F1E-4181-93E6-0BAF22AA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4D6-91BE-48CD-A48E-63E719C1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250-54F2-4BD3-80BC-0CC72405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8F1-D0CF-474A-BE5B-C4BD5492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E817-31EA-4E78-AAC7-3E53734D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B5E1-22DF-4D4F-B73F-CFEE4BA1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2887-F040-4995-B612-A5023197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FF30-FDBD-4485-B172-978A6CA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665D-A8D2-405C-A8F3-F5F38EA8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759A-2FEA-4F7A-A6A2-62EAD7E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7963-CEF0-4089-9588-A0AC4646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5EA-AE1C-4BC0-94BC-A1876439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15E0-97FB-4306-8CA3-306D2CA0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0EC2-C450-40A1-9DA3-7D99485C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8018-FCE0-4A13-953A-969E49B5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2526-4DC3-4883-BAD9-6D0C57AE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41C9-68B1-40CF-BDC2-5EA1A573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72E-FD05-470F-8DDA-19F1B300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C48-5E08-4B72-A83B-C63CB407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1B9-DF1F-4C70-ADDC-2A076D0E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2C1-8A78-4892-BD2B-0E915058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326-5C82-41A5-975D-D9B35A25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2B9-D100-4942-9B97-7E913AC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6BD-131A-4C28-BE5C-4901FBEE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F3F8-7865-494A-8767-2DEE695EFD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CECC-C308-4F24-BFCB-06E125D7A3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ff"/>
                </a:solidFill>
                <a:latin typeface="Times New Roman"/>
                <a:ea typeface="华文行楷"/>
              </a:rPr>
              <a:t>紫藤萝瀑布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作者：宗璞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7621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教学目的</a:t>
            </a:r>
            <a:r>
              <a:rPr b="0" lang="zh-CN" sz="4400" spc="-1" strike="noStrike">
                <a:solidFill>
                  <a:srgbClr val="ff0000"/>
                </a:solidFill>
                <a:latin typeface="方正姚体"/>
                <a:ea typeface="方正姚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213372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 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诵读品味，体会写景的精妙和作者的情感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学习借景抒情的写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NA01062_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2635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学习要求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读不准的字查字典，弄清字音、字形、字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把你认为写得最美最精彩的的句子画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文中从欣赏紫藤萝写到回忆紫藤萝，再思索到人生。读后分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提出自己阅读中不能解决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27080" y="3276720"/>
            <a:ext cx="1349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èn</a:t>
            </a:r>
            <a:r>
              <a:rPr b="0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i</a:t>
            </a:r>
            <a:r>
              <a:rPr b="0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h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i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ión</a:t>
            </a:r>
            <a:r>
              <a:rPr b="0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</a:t>
            </a:r>
            <a:r>
              <a:rPr b="0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3276720"/>
            <a:ext cx="10094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迸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伫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095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2133720" cy="4495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结构脉络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一）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看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二）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忆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三）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悟花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190512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057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花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438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花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819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花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2004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352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赏花的感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733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忆花的劫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1911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颂花的生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0292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生命长河无止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写法分析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本文重在对紫藤萝花作精细、真切的描写，展现紫藤萝积极的内在精神：充满蓬勃的生命力和奔放而又耐得住寂寞的纯朴本性。作者不用直接的渲染抒发，不作直接的说教，而是客观的叙写自己所体味到的，使读者自己去领略紫藤萝花的精神与意义。作者通过驻足惜花写出了自己与如瀑的花沟通，在宁静与喜悦中把美丽的感触升华为对生命的感触。而把回想和展望交织，内在精神和外在情态并举，读者才更加体会到今日花的丰茂的来之不易，在倍加珍惜的心情下，鼓舞起生活的热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语句揣摩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一）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从未见过开得这样盛的藤萝，只见一片辉煌的淡紫色，像一条瀑布，从空中垂下，不见其发端，也不见其终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将花喻为“瀑”，形象地表现了花之繁茂，隐含了生命的绵延长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只是深深浅浅的紫，仿佛在流动，在欢笑，在不停地生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用“流动”“欢笑”“生长”等动词，使静态的花色跃动起来，表现出花的生趣盎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语句揣摩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二）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花朵儿一串挨着一串，一朵接着一朵，彼此推着挤着，好不活泼热闹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运用拟人的手法，生动地表现出花的勃勃生机和浪漫情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香气似乎也是浅紫色的，梦幻一般轻轻地笼罩着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使无形的香味化成有形的颜色，具体地表现花香带给作者的那种飘渺轻柔的感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课后作业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743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本文还能给你什么联想和启示？课后写一篇一课一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9051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：两题任选其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4114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以《绿色的海洋》为题，抓住森林的特点，运用恰当的修辞手法，借景抒情，写一段落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50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字左右的文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01:31:59Z</dcterms:created>
  <dc:creator>wutao</dc:creator>
  <dc:description/>
  <dc:language>en-US</dc:language>
  <cp:lastModifiedBy>周璟</cp:lastModifiedBy>
  <dcterms:modified xsi:type="dcterms:W3CDTF">2004-09-30T06:00:30Z</dcterms:modified>
  <cp:revision>100</cp:revision>
  <dc:subject/>
  <dc:title>教学方案设计 紫藤萝瀑布 (宗璞)</dc:title>
</cp:coreProperties>
</file>