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C11-AAE8-4CE0-9F0C-E076E4D4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D52-A9E2-4746-A29B-F6442DB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BBD-811F-497E-84A4-9032C5AE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43A-8494-4A12-AC41-7BB171B8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407-457E-41CA-B4B4-BDDE9A7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6FF-1FA3-4BA3-80C3-32F255F3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69E-B58B-4548-9C7E-7B09BA38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4B9-702F-42E6-B2DE-1369F4E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1BC-482D-47A5-8259-E7A7A2E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80E-5FAA-4C10-94DD-3752410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3E5-5C7E-46FB-8542-69F4A59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D0D-2A01-4DDD-9724-588BBFB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E47-C709-4BE3-8B26-88323AF3A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瀑布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R_054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7600" y="22860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文中插入一段写十多年前家门外的一大株紫藤萝起什么作用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040" y="228600"/>
            <a:ext cx="88599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用十多年前紫藤萝花的稀落与现在花开得繁盛形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对比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，突出了现在花的生机盎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类比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虽然短暂，也会有各种不幸，如：小弟身患绝症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508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5880" y="9907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495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说明作者从花中得到感悟，心中的悲痛焦虑化为精神的宁静和前进的动力，感悟到生命的永恒，同时受到花的感染而激励自己奋发进取，有所作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紫藤萝瀑布6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9907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124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她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作文训练：写一种对自己有启示性的植物。题目自拟，字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0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紫藤萝瀑布7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紫藤萝瀑布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紫藤萝瀑布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紫藤萝瀑布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19810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黑体"/>
              </a:rPr>
              <a:t>题目为什么要加上“瀑布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048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2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2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宗璞，当代女作家，原名冯钟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主要作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中短篇小说《知音》、《弦上的梦》、《红豆》 ，散文集《丁香结》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宗璞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7996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f8f7"/>
                </a:solidFill>
                <a:latin typeface="Times New Roman"/>
                <a:ea typeface="_x000b__x000c_"/>
              </a:rPr>
              <a:t>——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宗璞一家，在文化大革命中深受迫害，“</a:t>
            </a:r>
            <a:r>
              <a:rPr b="1" lang="zh-CN" sz="4200" spc="-1" strike="noStrike">
                <a:solidFill>
                  <a:srgbClr val="3333cc"/>
                </a:solidFill>
                <a:latin typeface="宋体"/>
              </a:rPr>
              <a:t>焦虑和悲痛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”“一直压在”作者的心上。这篇文章写于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1982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月，当时作者的小弟身患绝症，作者非常悲痛，徘徊于庭院中，见一树盛开的紫藤萝花，睹物释怀，由花儿自衰到盛，感悟到生的美好和生命的永恒，于是写成此文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黑体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ziteng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33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听录音，梳理课文思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198108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赏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98108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忆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198108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悟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90920"/>
            <a:ext cx="121896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2590920"/>
            <a:ext cx="121932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276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－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7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3526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3526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9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－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阅读课文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-8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小节思考以下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作者从哪几个方面描写盛开的紫藤萝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描绘出了紫藤萝的哪些特点？                                    字里行间流露了作者什么样的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运用了哪些修辞手法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作者是怎样把景物描绘得生动、传神，令人如临其境、如见其景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2296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0"/>
            <a:ext cx="7848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淡淡的花香，香气似乎也是浅紫色的，梦幻一般轻轻地笼罩着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8088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04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一片辉煌的淡紫色。深深浅浅的紫。         紫色的大条幅上，泛着点点银光，就像迸溅的水花。                                                          颜色便上浅下深，好像那紫色沉淀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362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像一条瀑布，不见其发端，也不见其终极。每一朵盛开的花像一个张满了的小小的帆，帆下带着尖底的舱。船舱鼓鼓的，又像一个忍俊不禁的笑容，就要绽开似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680" y="83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468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形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4680" y="4648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香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1:51:53Z</dcterms:created>
  <dc:creator>wutao</dc:creator>
  <dc:description/>
  <dc:language>en-US</dc:language>
  <cp:lastModifiedBy>周璟</cp:lastModifiedBy>
  <dcterms:modified xsi:type="dcterms:W3CDTF">2004-09-30T06:11:57Z</dcterms:modified>
  <cp:revision>100</cp:revision>
  <dc:subject/>
  <dc:title>PowerPoint 演示文稿</dc:title>
</cp:coreProperties>
</file>