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type.wav" ContentType="audio/x-wav"/>
  <Override PartName="/ppt/media/image9.jpeg" ContentType="image/jpeg"/>
  <Override PartName="/ppt/media/image11.jpeg" ContentType="image/jpeg"/>
  <Override PartName="/ppt/media/voltage.wav" ContentType="audio/x-wav"/>
  <Override PartName="/ppt/media/image7.jpeg" ContentType="image/jpeg"/>
  <Override PartName="/ppt/media/image8.jpeg" ContentType="image/jpeg"/>
  <Override PartName="/ppt/media/image10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coin.wav" ContentType="audio/x-wav"/>
  <Override PartName="/ppt/media/image13.jpeg" ContentType="image/jpeg"/>
  <Override PartName="/ppt/media/image12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3D0-C01C-454B-AB02-16A3BEDF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4AB-6CB2-4A13-ACE3-F4F2D76A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D61-8DB6-4967-85AF-9C220079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374-C740-475C-BB65-F911E116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EAAB-5424-4EFA-8B1C-17702DBD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F333-613A-44C8-AA2E-AF376BCA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C445-1AAF-4F99-865B-4836D22B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4C17-5DAF-49E0-871C-3BD05D4D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DCBD-F91F-4BBF-B05E-6E16F4CF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9B3D-C0A3-4272-8C5B-AA8168EC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C8FE-FB7F-423C-B7CE-DDA029C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487-09CF-4111-A1E5-4586910F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1C12-6C0D-4419-B772-0B2FE4BD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2A84-1724-4C60-BE72-4E5161D5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55AC-2EA1-4979-9275-CCD5B3C1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8EC3-9F61-4DBE-AF10-101F57B6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DBCC-7E41-415B-83FB-B71E5BD4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0B939-7A5C-4600-8EF6-A040495B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30125-63BC-4DA2-A2EF-CAB7943C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87BEC-B73F-47FD-A27B-48D00DC4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2E6A6-8023-4DC2-988A-2C6EAD7C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1427-C881-46D6-A5D0-463D982D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A52-ECC6-42C0-B19B-C0805728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2CBD7-6EC3-42ED-80C2-7529C775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2A88B-F940-4037-940E-8DBD1D7A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850D2-68AC-4D30-8856-B337A303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660B6-A0BC-4E38-8445-8DD72B06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85D9-2FFA-4126-97A7-BA1A63AC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01CAF-9465-4B1C-BD9E-AFF93FF5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D92F-B5E2-4B78-B611-5F587314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E4813-9ECB-4768-B500-BFF9A1FA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23431-E474-42E9-B800-69857E91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570B-BBCD-480F-839E-E6ABBB93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2A2-BF48-425A-9C41-FC42B1D1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FA4E-DD1D-4E41-8901-E5EB627F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2B4C5-37BA-4AA3-B47B-8653D8EB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6EA03-F29E-415B-8220-7D00DA0A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6E356-861C-44C4-9C3D-62583599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083AB-640B-4F66-8D54-85C555F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A1A8C-77E4-4326-B99D-CE686EE9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6D4EC-BDF5-4EEB-B81E-0AE651EC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4D25F-E3A2-4DA7-AC1A-2DBF2E86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315FA-9FDF-4762-97D1-7AD71EF0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0FE56-F211-40D7-8A08-B5D162DC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4BD-DD67-4E3A-8D62-8AAFD21A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4C97-DE5A-45D5-B3D0-3949ED64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0D88-2F38-4EF1-926E-71841F41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E283E-067E-485C-8F94-588722DC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E7F8F-F22B-4D29-ABD3-CB4287EE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7D300-32D9-4F48-BBA7-60F4FDA8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21D37-90EE-4A42-8C00-548795B6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77839-9E86-4E98-98BA-5C5D77A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CFB41-6483-49F0-91EC-1BE34696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C8D21-000B-42F0-84CA-21DC3161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1212-D0A6-415B-9BCF-F4801355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4AA-CE42-40E5-8841-5468F75F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48E44-CEED-4C92-895D-0DC0EC95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B6BB0-EB79-4286-A784-23A40831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1A14E-2B05-43E0-BFBD-3FE59C68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2029E-A31C-476F-957B-30B5BCCB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28F38-B02C-4BFD-A660-4DDE677F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2885F-18E1-4CBE-896A-3B3EDF12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CE13F-E4C0-4092-BA72-DBF6D2D2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17575-CD77-4392-AE02-51323588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D2857-D59D-4EE2-9912-818BFBE2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EF1C2-EFDC-4CBD-B66C-53771DD4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C45-53A2-4872-B4E0-A95FD4EF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CD81E-80E9-4CF9-AA01-ED865065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AA552-40D7-426D-ABCC-135D35C0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ED9EB-5E75-4C56-BAA2-85C7AD2B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75665-FC8F-48D6-8519-78E952CF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CC8E0-188B-4A43-8715-91D495E3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24994-C2EB-410B-9D82-27B1EF54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B2A89-CF96-4BCF-969A-30AEAA52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1FCE-F84B-45BC-963A-DBDC85B1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EBCFB-9BCA-4B0B-AF86-ED28D61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1A1F7-B4DC-47C8-A31D-3E043BD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918-CB5F-4A98-9619-2DCB649D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DDD9B-0ACB-4ADC-8E40-26D09718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3086E-62C3-4453-BA5E-619BA38E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24053-53AD-410B-A662-803E7717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9C506-EAD9-41E1-8C98-911FFD38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E5093-9C8F-407E-B6E9-9F905110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F8742-3082-43F4-B0F1-FA6DB88C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768B3-2FC3-43F2-8D0C-48E9C2D4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C5C65-5CE6-46DC-820D-A28034CD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7A89C-2402-46BE-A054-C604DB59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BD205-A531-43CC-B983-0D80CF30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117-9DFC-421A-A7AE-3C1C1486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08B02-175F-44DD-8ADE-9CA15F6F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42328-D3CA-4B0D-A4AC-9B2FA2A1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932D5-9AFD-4E6F-9EE2-BFA8D6E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F8ED8-91BE-45D9-9370-5B86E02E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54A19-D91F-425B-B58F-2B57582F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C75F0-C91B-4E8C-9047-19E6A61D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56A53-86F7-43C8-BEF1-4245C72E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2FB4-62D7-492D-B6F7-483C31B04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E66C-B29E-4129-85BB-2C0C01107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A8A8-25B3-4CC8-AFC0-E53E34344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0B88-A18F-43AC-B32B-D4AC4BEDA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41A5-0EED-4F69-A895-3C6B77E68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5641-6C9F-48C1-959F-FAA603DAE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B485-5017-4DB9-A96B-C54F18AA1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CCB0-591F-49F7-BE34-FE417D1BF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zyk.chy-bjedu.com.cn/internet/pep/zhongyu/0330.htm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undavid.net/mulu.htm" TargetMode="External"/><Relationship Id="rId2" Type="http://schemas.openxmlformats.org/officeDocument/2006/relationships/image" Target="../media/image15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law.cdbnet.com.cn/article/pic/rsrh/hua/hua.shtml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houhui.com/show.php?type=chuyi&amp;id=1063117292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1.people.com.cn/GB/kejiao/41/20030414/971008.html" TargetMode="External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ziteng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Arial"/>
                <a:ea typeface="隶书"/>
              </a:rPr>
              <a:t> 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Arial"/>
                <a:ea typeface="隶书"/>
              </a:rPr>
              <a:t>紫藤萝瀑布   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Arial"/>
                <a:ea typeface="隶书"/>
              </a:rPr>
              <a:t>宗璞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c-0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82520"/>
            <a:ext cx="9144000" cy="72230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826920" y="0"/>
            <a:ext cx="705672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探究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作者感到焦虑、悲伤时看到了紫藤萝花，紫藤萝又有什么样的遭遇变迁？作者为什么会对它产生深厚的感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怎样理解“花和人都会遇到各种各样的不幸，但生命的长河是无止境的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隶书"/>
              </a:rPr>
              <a:t>赏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隶书"/>
              </a:rPr>
              <a:t>　　我们读过美文、赏过藤萝之后，是不是该一起品一品佳句啦？请同学们再次有感情的朗读课文，然后用笔划出你喜欢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050920" y="907920"/>
            <a:ext cx="60501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  <a:ea typeface="幼圆"/>
              </a:rPr>
              <a:t>写法指导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１、通过学习本文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觉得应该如何写好一篇写景、状物散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２、你觉的怎样写景状物才能更加细致、生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2916360" y="981000"/>
            <a:ext cx="561636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迁移训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-方正超大字符集"/>
              </a:rPr>
              <a:t>１、生活中那些景、那些物化解过你你心中的“结”，试者讲一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-方正超大字符集"/>
              </a:rPr>
              <a:t>２、下面有几种植物，现在大家可以根据自己的喜好，任选一种进行描述，注意运用本文学过的写作方法，看谁描写的最生动、逼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1360"/>
            <a:ext cx="939636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22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2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664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10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9721800" cy="811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571680" y="228600"/>
            <a:ext cx="80010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预习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词语：                             发端               终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多音字：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ǎ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别嚷了）（妈妈又嚷我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嚷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ā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嚷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听写：嚷  穗  舱  绽  凑  酿  发端  终极  迸溅  挑逗  繁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伫立    凝望    笼罩    伶仃  稀零 忍俊不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仙露琼浆      蜂围蝶阵       盘虬卧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14600" y="16765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cyj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514600"/>
            <a:ext cx="9416880" cy="129538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380880" y="609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28600"/>
            <a:ext cx="601992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幼圆"/>
              </a:rPr>
              <a:t>整体感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1—6 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看花     繁花似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7—9  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忆花     思绪万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10—11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思花    振奋精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58000" y="27115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}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91520" y="2895480"/>
            <a:ext cx="1752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生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永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28600" y="533520"/>
            <a:ext cx="69343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探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作者的心情是怎样变化    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为什么会有“ 一直压在我心上的焦虑和悲痛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af187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70836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4572000" y="2286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作者简介</a:t>
            </a:r>
            <a:r>
              <a:rPr b="1" lang="en-US" sz="2000" spc="-1" strike="noStrike">
                <a:solidFill>
                  <a:srgbClr val="ff0066"/>
                </a:solidFill>
                <a:latin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  宗璞，原名冯钟璞。著名哲学家冯友兰之女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928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月生于北京。自幼生长于清华园吸收了中国传统文化与西方文化之精华，学养深厚，气韵独特。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946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年考入天津南开大学外文系，后转人清华大学外文系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951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年毕业。曾任《文艺报》、《世界文学》等刊物编辑。 文革前主要作品有《红豆》、《桃园女儿嫁窝谷》 、《不沉的潮》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3933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6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加入中国作家协会。文革后主要作品有：《弦上的梦》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78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月《人民文学》），《三生石》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8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百花文艺出版社出版）。《宗璞小说散文选》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8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北京出版社出版），《丁香结》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86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百花文艺出版社出版）等。其中《三生石》获第一届全国优秀中篇小说奖，《弦上的梦》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78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全国优秀短篇小说奖。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出版的《宗璞散文选集》（百花文艺出版社）是她最具代表性的一部散文集。她的散文情深意长，隽永如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NewsMedia_25603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3419640" y="4762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cc"/>
                </a:solidFill>
                <a:latin typeface="Arial"/>
                <a:ea typeface="隶书"/>
              </a:rPr>
              <a:t>历史背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9368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66702" descr="802.jpg (40947 字节)"/>
          <p:cNvPicPr/>
          <p:nvPr/>
        </p:nvPicPr>
        <p:blipFill>
          <a:blip r:embed="rId1"/>
          <a:stretch/>
        </p:blipFill>
        <p:spPr>
          <a:xfrm>
            <a:off x="-457200" y="49320"/>
            <a:ext cx="96012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440" y="14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920960" y="1494000"/>
            <a:ext cx="5303880" cy="3870000"/>
            <a:chOff x="1920960" y="1494000"/>
            <a:chExt cx="5303880" cy="3870000"/>
          </a:xfrm>
        </p:grpSpPr>
        <p:sp>
          <p:nvSpPr>
            <p:cNvPr id="764" name=""/>
            <p:cNvSpPr/>
            <p:nvPr/>
          </p:nvSpPr>
          <p:spPr>
            <a:xfrm>
              <a:off x="1920960" y="14940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20960" y="1494000"/>
              <a:ext cx="5303880" cy="38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3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1440" y="17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0" y="0"/>
            <a:ext cx="7224480" cy="5128920"/>
            <a:chOff x="0" y="0"/>
            <a:chExt cx="7224480" cy="5128920"/>
          </a:xfrm>
        </p:grpSpPr>
        <p:sp>
          <p:nvSpPr>
            <p:cNvPr id="768" name=""/>
            <p:cNvSpPr/>
            <p:nvPr/>
          </p:nvSpPr>
          <p:spPr>
            <a:xfrm>
              <a:off x="0" y="0"/>
              <a:ext cx="7224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0" y="0"/>
              <a:ext cx="722448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0" name="U21P112T3D68449F48DT20040519153503" descr=""/>
          <p:cNvPicPr/>
          <p:nvPr/>
        </p:nvPicPr>
        <p:blipFill>
          <a:blip r:embed="rId1"/>
          <a:stretch/>
        </p:blipFill>
        <p:spPr>
          <a:xfrm>
            <a:off x="-457200" y="3240"/>
            <a:ext cx="9601200" cy="6960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44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920960" y="1905120"/>
            <a:ext cx="5303880" cy="3047760"/>
            <a:chOff x="1920960" y="1905120"/>
            <a:chExt cx="5303880" cy="3047760"/>
          </a:xfrm>
        </p:grpSpPr>
        <p:sp>
          <p:nvSpPr>
            <p:cNvPr id="773" name=""/>
            <p:cNvSpPr/>
            <p:nvPr/>
          </p:nvSpPr>
          <p:spPr>
            <a:xfrm>
              <a:off x="1920960" y="190512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920960" y="1905120"/>
              <a:ext cx="530388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5" name="U21P112T3D68452F48DT20040519153503" descr=""/>
          <p:cNvPicPr/>
          <p:nvPr/>
        </p:nvPicPr>
        <p:blipFill>
          <a:blip r:embed="rId1"/>
          <a:stretch/>
        </p:blipFill>
        <p:spPr>
          <a:xfrm>
            <a:off x="-914400" y="38160"/>
            <a:ext cx="10515600" cy="678492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2290680" y="2833560"/>
            <a:ext cx="456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6:44:58Z</dcterms:created>
  <dc:creator>wutao</dc:creator>
  <dc:description/>
  <dc:language>en-US</dc:language>
  <cp:lastModifiedBy>周璟</cp:lastModifiedBy>
  <dcterms:modified xsi:type="dcterms:W3CDTF">2004-09-30T07:26:28Z</dcterms:modified>
  <cp:revision>100</cp:revision>
  <dc:subject/>
  <dc:title>    紫藤萝瀑布     宗璞</dc:title>
</cp:coreProperties>
</file>