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F3F4-9F1C-4D82-B224-8F598C28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CA8-DBDD-4D41-BDD2-D379EC93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223-92AD-4AAA-A002-EA7E6AC7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E7DD-8E97-417A-B0B1-86028BFD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F35-5744-46BD-833B-56460757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966E-CFE5-414F-B7A9-01DA87A6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BCB-DD3F-41C4-9201-DF81758A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164E-DD2B-4235-863F-F42BCC91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D472-557D-402E-BE33-33AF7412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AE5-4809-4AE0-B881-C1274049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6417-E761-457F-92D0-BAE34A99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418-19D6-47DD-97CB-F7E58729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B378-7F7E-4A8C-9875-F7CCE4521D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476360" y="1125360"/>
            <a:ext cx="63374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6600cc"/>
                </a:solidFill>
                <a:latin typeface="华文行楷"/>
              </a:rPr>
              <a:t>紫藤萝瀑布</a:t>
            </a:r>
            <a:endParaRPr b="1" lang="en-US" sz="6600" spc="1" strike="noStrike">
              <a:ln w="9360">
                <a:solidFill>
                  <a:srgbClr val="00ffff"/>
                </a:solidFill>
                <a:miter/>
              </a:ln>
              <a:solidFill>
                <a:srgbClr val="6600cc"/>
              </a:solidFill>
              <a:latin typeface="华文行楷"/>
              <a:ea typeface="华文行楷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3645000"/>
            <a:ext cx="232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宗  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835280" y="6206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从哪几个方面描写盛开的紫藤萝树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5400" y="620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4240" y="21337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240" y="32767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5600" y="4869000"/>
            <a:ext cx="12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47760" y="2060640"/>
            <a:ext cx="50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片辉煌淡紫色、深深浅浅的紫、紫色的大条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上，泛着点点银光，就像迸溅的水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0560" y="335772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像一条瀑布，从空中垂下，不见其发端，也不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其终极。一树闪光的、盛开的藤萝。花朵儿一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挨着一串，一朵接着一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2560" y="501336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仿佛在流动，在欢笑，在不停地生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和阳光互相挑逗，彼此推着挤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60800" y="136440"/>
            <a:ext cx="426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是怎样描写紫藤萝花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295280"/>
            <a:ext cx="38862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先写花穗的色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然后写花的形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最后写花的香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97960" y="8366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先写每一穗花，再写每一朵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2060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每一穗花都是上面的盛开、下面的待放。颜色便上浅下深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500280"/>
            <a:ext cx="82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像张满了的小小的帆，帆下带着尖底的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船舱鼓鼓的，又像一个忍俊不禁的笑容，就要绽开似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566100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淡淡的芳香，香气似乎也是浅紫色的，梦幻一般轻轻地笼罩着我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描写紫藤萝的树和花运用了哪些修辞手法，这样写有什么好处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98108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见一片辉煌淡紫色，像一条瀑布，从空中垂下，不见其发端，也不见其终极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紫色的大条幅上，泛着点点银光，就像迸溅的水花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一朵盛开的花像是一个小小的张满了的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6680" y="1341360"/>
            <a:ext cx="12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07880" y="299736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形象、生动、具体地写出紫藤萝生长的繁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3400" y="4508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形象、生动地写出紫藤萝色彩上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72840" y="571500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形象、生动、具体地写出盛开的紫藤萝花的形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838080"/>
            <a:ext cx="861048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是深深浅浅的紫，仿佛在流动，在欢笑，在不停地生长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知那是每一朵紫花中的最浅淡的部分，在和阳光互相挑逗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朵儿一串挨着一串，一朵接着一朵，彼此推着挤着，好不活泼热闹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‘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在开花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’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在笑。‘我在开花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’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嚷嚷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6002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花的颜色写成人的动作行为，生动形象地写出花的神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526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花的颜色写成人的动作行为，生动形象地写出花色的耀眼与生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24680" y="51055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动态写花的静态，生动地写出花开的繁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3840" y="6359400"/>
            <a:ext cx="3546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动地写出花开之闹，突出花的勃勃生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1040" y="208080"/>
            <a:ext cx="12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拟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 rot="877800">
            <a:off x="6019920" y="533520"/>
            <a:ext cx="2638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探究赏析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3581280" cy="3962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3559320" cy="3967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76212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57200"/>
            <a:ext cx="5105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观察下面两幅图片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这两幅图片中你能探究出作者运用了哪种手法，有何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探究结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这是一种对比手法，用十多年前紫藤萝花的不幸遭遇反衬眼前这片紫藤萝花的生逢其时，从中曲折地反映出时代的发展变化、人类文明进步的历史轨迹，这样写为引出作者的深入思考作了铺垫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2520" cy="2362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3124080" cy="4038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172200" y="2819520"/>
            <a:ext cx="2971800" cy="4038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5181480" y="0"/>
            <a:ext cx="3962520" cy="2382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01240" y="2362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向日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97120" y="2362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爬山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7320" y="41803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串串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41920" y="41803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喇叭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34720" y="25909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请你欣赏某一种植物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发挥联想，想想产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哪些感悟，托物言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5080" y="-27684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华文行楷"/>
              </a:rPr>
              <a:t>拓展迁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13200" y="54100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华文行楷"/>
              </a:rPr>
              <a:t>赏图言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华文行楷"/>
              </a:rPr>
              <a:t>畅所欲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209680" y="1752480"/>
            <a:ext cx="50292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谢谢指导！</a:t>
            </a:r>
            <a:endParaRPr b="1" lang="en-US" sz="6000" spc="1" strike="noStrike">
              <a:ln w="9360">
                <a:solidFill>
                  <a:srgbClr val="6600cc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2459520" y="280044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2519640" y="449568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了解紫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6329520" y="297180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疑难字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5562720" y="44956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诵读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27280" y="1197000"/>
            <a:ext cx="195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学 习 导 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38560" y="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宗璞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(1927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原名冯宗璞，当代女作家，为著名哲学家、哲学史家冯友兰之女。其小说《弦上的梦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978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年获全国优秀短篇小说奖，《三生石》获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977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978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年全国优秀中篇小说奖；另创作了大量游记、散文，《西湖漫笔》、《紫藤萝瀑布》、丁香结》、《水仙辞》、《三松堂断忆》等，清雅脱俗，温馨自然，充满了情趣、理趣和文化气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4365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4" action="ppaction://hlinksldjump"/>
          </p:cNvPr>
          <p:cNvSpPr/>
          <p:nvPr/>
        </p:nvSpPr>
        <p:spPr>
          <a:xfrm>
            <a:off x="8634240" y="6019920"/>
            <a:ext cx="509760" cy="83808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838080"/>
              <a:gd name="textAreaBottom" fmla="*/ 805320 h 838080"/>
            </a:gdLst>
            <a:ahLst/>
            <a:rect l="textAreaLeft" t="textAreaTop" r="textAreaRight" b="textAreaBottom"/>
            <a:pathLst>
              <a:path w="21600" h="35502">
                <a:moveTo>
                  <a:pt x="0" y="0"/>
                </a:moveTo>
                <a:lnTo>
                  <a:pt x="21600" y="0"/>
                </a:lnTo>
                <a:lnTo>
                  <a:pt x="21600" y="35502"/>
                </a:lnTo>
                <a:lnTo>
                  <a:pt x="0" y="35502"/>
                </a:lnTo>
                <a:close/>
              </a:path>
              <a:path fill="lightenLess" w="21600" h="35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502">
                <a:moveTo>
                  <a:pt x="21600" y="0"/>
                </a:moveTo>
                <a:lnTo>
                  <a:pt x="21600" y="35502"/>
                </a:lnTo>
                <a:lnTo>
                  <a:pt x="20200" y="34102"/>
                </a:lnTo>
                <a:lnTo>
                  <a:pt x="20200" y="1400"/>
                </a:lnTo>
                <a:close/>
              </a:path>
              <a:path fill="darkenLess" w="21600" h="35502">
                <a:moveTo>
                  <a:pt x="21600" y="35502"/>
                </a:moveTo>
                <a:lnTo>
                  <a:pt x="0" y="35502"/>
                </a:lnTo>
                <a:lnTo>
                  <a:pt x="1400" y="34102"/>
                </a:lnTo>
                <a:lnTo>
                  <a:pt x="20200" y="34102"/>
                </a:lnTo>
                <a:close/>
              </a:path>
              <a:path fill="lighten" w="21600" h="35502">
                <a:moveTo>
                  <a:pt x="0" y="35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102"/>
                </a:lnTo>
                <a:close/>
              </a:path>
              <a:path fill="darken" w="21600" h="35502">
                <a:moveTo>
                  <a:pt x="3794" y="14444"/>
                </a:moveTo>
                <a:lnTo>
                  <a:pt x="7301" y="14444"/>
                </a:lnTo>
                <a:lnTo>
                  <a:pt x="7301" y="19779"/>
                </a:lnTo>
                <a:cubicBezTo>
                  <a:pt x="7301" y="20702"/>
                  <a:pt x="8102" y="21433"/>
                  <a:pt x="9138" y="21433"/>
                </a:cubicBezTo>
                <a:lnTo>
                  <a:pt x="10800" y="21433"/>
                </a:lnTo>
                <a:cubicBezTo>
                  <a:pt x="11836" y="21433"/>
                  <a:pt x="12636" y="20702"/>
                  <a:pt x="12636" y="19779"/>
                </a:cubicBezTo>
                <a:lnTo>
                  <a:pt x="12636" y="14444"/>
                </a:lnTo>
                <a:lnTo>
                  <a:pt x="10800" y="14444"/>
                </a:lnTo>
                <a:lnTo>
                  <a:pt x="14308" y="10936"/>
                </a:lnTo>
                <a:lnTo>
                  <a:pt x="17981" y="14444"/>
                </a:lnTo>
                <a:lnTo>
                  <a:pt x="16144" y="14444"/>
                </a:lnTo>
                <a:lnTo>
                  <a:pt x="16144" y="19779"/>
                </a:lnTo>
                <a:cubicBezTo>
                  <a:pt x="16144" y="22547"/>
                  <a:pt x="13568" y="25106"/>
                  <a:pt x="10800" y="25106"/>
                </a:cubicBezTo>
                <a:lnTo>
                  <a:pt x="9138" y="25106"/>
                </a:lnTo>
                <a:cubicBezTo>
                  <a:pt x="6370" y="25106"/>
                  <a:pt x="3794" y="22547"/>
                  <a:pt x="3794" y="19779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251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62720" y="3213000"/>
            <a:ext cx="2681280" cy="364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0" y="3213000"/>
            <a:ext cx="2738520" cy="364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71640" y="329580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紫藤”简介：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亦称“朱藤”、“藤萝”，豆科，高大木质藤本。奇数羽状复叶，成熟后无毛。春季开花，蝶形花冠，青紫色，总状花序，产于我国中部，供观赏，花含芳香油；茎皮纤维可织物；果实、根入药医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21300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6" action="ppaction://hlinksldjump"/>
          </p:cNvPr>
          <p:cNvSpPr/>
          <p:nvPr/>
        </p:nvSpPr>
        <p:spPr>
          <a:xfrm>
            <a:off x="8634240" y="6008760"/>
            <a:ext cx="509760" cy="83808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838080"/>
              <a:gd name="textAreaBottom" fmla="*/ 805320 h 838080"/>
            </a:gdLst>
            <a:ahLst/>
            <a:rect l="textAreaLeft" t="textAreaTop" r="textAreaRight" b="textAreaBottom"/>
            <a:pathLst>
              <a:path w="21600" h="35502">
                <a:moveTo>
                  <a:pt x="0" y="0"/>
                </a:moveTo>
                <a:lnTo>
                  <a:pt x="21600" y="0"/>
                </a:lnTo>
                <a:lnTo>
                  <a:pt x="21600" y="35502"/>
                </a:lnTo>
                <a:lnTo>
                  <a:pt x="0" y="35502"/>
                </a:lnTo>
                <a:close/>
              </a:path>
              <a:path fill="lightenLess" w="21600" h="35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502">
                <a:moveTo>
                  <a:pt x="21600" y="0"/>
                </a:moveTo>
                <a:lnTo>
                  <a:pt x="21600" y="35502"/>
                </a:lnTo>
                <a:lnTo>
                  <a:pt x="20200" y="34102"/>
                </a:lnTo>
                <a:lnTo>
                  <a:pt x="20200" y="1400"/>
                </a:lnTo>
                <a:close/>
              </a:path>
              <a:path fill="darkenLess" w="21600" h="35502">
                <a:moveTo>
                  <a:pt x="21600" y="35502"/>
                </a:moveTo>
                <a:lnTo>
                  <a:pt x="0" y="35502"/>
                </a:lnTo>
                <a:lnTo>
                  <a:pt x="1400" y="34102"/>
                </a:lnTo>
                <a:lnTo>
                  <a:pt x="20200" y="34102"/>
                </a:lnTo>
                <a:close/>
              </a:path>
              <a:path fill="lighten" w="21600" h="35502">
                <a:moveTo>
                  <a:pt x="0" y="35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102"/>
                </a:lnTo>
                <a:close/>
              </a:path>
              <a:path fill="darken" w="21600" h="35502">
                <a:moveTo>
                  <a:pt x="3794" y="14444"/>
                </a:moveTo>
                <a:lnTo>
                  <a:pt x="7301" y="14444"/>
                </a:lnTo>
                <a:lnTo>
                  <a:pt x="7301" y="19779"/>
                </a:lnTo>
                <a:cubicBezTo>
                  <a:pt x="7301" y="20702"/>
                  <a:pt x="8102" y="21433"/>
                  <a:pt x="9138" y="21433"/>
                </a:cubicBezTo>
                <a:lnTo>
                  <a:pt x="10800" y="21433"/>
                </a:lnTo>
                <a:cubicBezTo>
                  <a:pt x="11836" y="21433"/>
                  <a:pt x="12636" y="20702"/>
                  <a:pt x="12636" y="19779"/>
                </a:cubicBezTo>
                <a:lnTo>
                  <a:pt x="12636" y="14444"/>
                </a:lnTo>
                <a:lnTo>
                  <a:pt x="10800" y="14444"/>
                </a:lnTo>
                <a:lnTo>
                  <a:pt x="14308" y="10936"/>
                </a:lnTo>
                <a:lnTo>
                  <a:pt x="17981" y="14444"/>
                </a:lnTo>
                <a:lnTo>
                  <a:pt x="16144" y="14444"/>
                </a:lnTo>
                <a:lnTo>
                  <a:pt x="16144" y="19779"/>
                </a:lnTo>
                <a:cubicBezTo>
                  <a:pt x="16144" y="22547"/>
                  <a:pt x="13568" y="25106"/>
                  <a:pt x="10800" y="25106"/>
                </a:cubicBezTo>
                <a:lnTo>
                  <a:pt x="9138" y="25106"/>
                </a:lnTo>
                <a:cubicBezTo>
                  <a:pt x="6370" y="25106"/>
                  <a:pt x="3794" y="22547"/>
                  <a:pt x="3794" y="19779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685800"/>
            <a:ext cx="49528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注音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迸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溅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俊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仙露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琼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盘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卧龙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1295280"/>
            <a:ext cx="3048120" cy="50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迸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繁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伶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⑸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酒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挑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忍俊不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⑻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仙露琼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⑼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盘虬卧龙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1680" y="2016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词语解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75720" y="1371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向外溅出或喷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64720" y="1905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多而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31400" y="23623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稀稀疏疏，出现的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52040" y="29718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孤独，没有依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41040" y="35053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江米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96360" y="39625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逗引，招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8520" y="441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忍不住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4200" y="4952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形容鲜美的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07720" y="5410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回旋地绕像卧着的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24160" y="1828800"/>
            <a:ext cx="12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bèn</a:t>
            </a:r>
            <a:r>
              <a:rPr b="1" lang="zh-CN" sz="32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65280" y="251460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j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32767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qión</a:t>
            </a:r>
            <a:r>
              <a:rPr b="1" lang="zh-CN" sz="32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qi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634240" y="6008760"/>
            <a:ext cx="509760" cy="83808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838080"/>
              <a:gd name="textAreaBottom" fmla="*/ 805320 h 838080"/>
            </a:gdLst>
            <a:ahLst/>
            <a:rect l="textAreaLeft" t="textAreaTop" r="textAreaRight" b="textAreaBottom"/>
            <a:pathLst>
              <a:path w="21600" h="35502">
                <a:moveTo>
                  <a:pt x="0" y="0"/>
                </a:moveTo>
                <a:lnTo>
                  <a:pt x="21600" y="0"/>
                </a:lnTo>
                <a:lnTo>
                  <a:pt x="21600" y="35502"/>
                </a:lnTo>
                <a:lnTo>
                  <a:pt x="0" y="35502"/>
                </a:lnTo>
                <a:close/>
              </a:path>
              <a:path fill="lightenLess" w="21600" h="35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502">
                <a:moveTo>
                  <a:pt x="21600" y="0"/>
                </a:moveTo>
                <a:lnTo>
                  <a:pt x="21600" y="35502"/>
                </a:lnTo>
                <a:lnTo>
                  <a:pt x="20200" y="34102"/>
                </a:lnTo>
                <a:lnTo>
                  <a:pt x="20200" y="1400"/>
                </a:lnTo>
                <a:close/>
              </a:path>
              <a:path fill="darkenLess" w="21600" h="35502">
                <a:moveTo>
                  <a:pt x="21600" y="35502"/>
                </a:moveTo>
                <a:lnTo>
                  <a:pt x="0" y="35502"/>
                </a:lnTo>
                <a:lnTo>
                  <a:pt x="1400" y="34102"/>
                </a:lnTo>
                <a:lnTo>
                  <a:pt x="20200" y="34102"/>
                </a:lnTo>
                <a:close/>
              </a:path>
              <a:path fill="lighten" w="21600" h="35502">
                <a:moveTo>
                  <a:pt x="0" y="35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102"/>
                </a:lnTo>
                <a:close/>
              </a:path>
              <a:path fill="darken" w="21600" h="35502">
                <a:moveTo>
                  <a:pt x="3794" y="14444"/>
                </a:moveTo>
                <a:lnTo>
                  <a:pt x="7301" y="14444"/>
                </a:lnTo>
                <a:lnTo>
                  <a:pt x="7301" y="19779"/>
                </a:lnTo>
                <a:cubicBezTo>
                  <a:pt x="7301" y="20702"/>
                  <a:pt x="8102" y="21433"/>
                  <a:pt x="9138" y="21433"/>
                </a:cubicBezTo>
                <a:lnTo>
                  <a:pt x="10800" y="21433"/>
                </a:lnTo>
                <a:cubicBezTo>
                  <a:pt x="11836" y="21433"/>
                  <a:pt x="12636" y="20702"/>
                  <a:pt x="12636" y="19779"/>
                </a:cubicBezTo>
                <a:lnTo>
                  <a:pt x="12636" y="14444"/>
                </a:lnTo>
                <a:lnTo>
                  <a:pt x="10800" y="14444"/>
                </a:lnTo>
                <a:lnTo>
                  <a:pt x="14308" y="10936"/>
                </a:lnTo>
                <a:lnTo>
                  <a:pt x="17981" y="14444"/>
                </a:lnTo>
                <a:lnTo>
                  <a:pt x="16144" y="14444"/>
                </a:lnTo>
                <a:lnTo>
                  <a:pt x="16144" y="19779"/>
                </a:lnTo>
                <a:cubicBezTo>
                  <a:pt x="16144" y="22547"/>
                  <a:pt x="13568" y="25106"/>
                  <a:pt x="10800" y="25106"/>
                </a:cubicBezTo>
                <a:lnTo>
                  <a:pt x="9138" y="25106"/>
                </a:lnTo>
                <a:cubicBezTo>
                  <a:pt x="6370" y="25106"/>
                  <a:pt x="3794" y="22547"/>
                  <a:pt x="3794" y="19779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4800" y="-16308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朗读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76360" y="1125360"/>
            <a:ext cx="63374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6600cc"/>
                </a:solidFill>
                <a:latin typeface="华文行楷"/>
              </a:rPr>
              <a:t>紫藤萝瀑布</a:t>
            </a:r>
            <a:endParaRPr b="1" lang="en-US" sz="6600" spc="1" strike="noStrike">
              <a:ln w="9360">
                <a:solidFill>
                  <a:srgbClr val="00ffff"/>
                </a:solidFill>
                <a:miter/>
              </a:ln>
              <a:solidFill>
                <a:srgbClr val="6600cc"/>
              </a:solidFill>
              <a:latin typeface="华文行楷"/>
              <a:ea typeface="华文行楷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19720" y="38098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3" action="ppaction://hlinksldjump"/>
          </p:cNvPr>
          <p:cNvSpPr/>
          <p:nvPr/>
        </p:nvSpPr>
        <p:spPr>
          <a:xfrm>
            <a:off x="8634240" y="6008760"/>
            <a:ext cx="509760" cy="83808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838080"/>
              <a:gd name="textAreaBottom" fmla="*/ 805320 h 838080"/>
            </a:gdLst>
            <a:ahLst/>
            <a:rect l="textAreaLeft" t="textAreaTop" r="textAreaRight" b="textAreaBottom"/>
            <a:pathLst>
              <a:path w="21600" h="35502">
                <a:moveTo>
                  <a:pt x="0" y="0"/>
                </a:moveTo>
                <a:lnTo>
                  <a:pt x="21600" y="0"/>
                </a:lnTo>
                <a:lnTo>
                  <a:pt x="21600" y="35502"/>
                </a:lnTo>
                <a:lnTo>
                  <a:pt x="0" y="35502"/>
                </a:lnTo>
                <a:close/>
              </a:path>
              <a:path fill="lightenLess" w="21600" h="35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502">
                <a:moveTo>
                  <a:pt x="21600" y="0"/>
                </a:moveTo>
                <a:lnTo>
                  <a:pt x="21600" y="35502"/>
                </a:lnTo>
                <a:lnTo>
                  <a:pt x="20200" y="34102"/>
                </a:lnTo>
                <a:lnTo>
                  <a:pt x="20200" y="1400"/>
                </a:lnTo>
                <a:close/>
              </a:path>
              <a:path fill="darkenLess" w="21600" h="35502">
                <a:moveTo>
                  <a:pt x="21600" y="35502"/>
                </a:moveTo>
                <a:lnTo>
                  <a:pt x="0" y="35502"/>
                </a:lnTo>
                <a:lnTo>
                  <a:pt x="1400" y="34102"/>
                </a:lnTo>
                <a:lnTo>
                  <a:pt x="20200" y="34102"/>
                </a:lnTo>
                <a:close/>
              </a:path>
              <a:path fill="lighten" w="21600" h="35502">
                <a:moveTo>
                  <a:pt x="0" y="35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102"/>
                </a:lnTo>
                <a:close/>
              </a:path>
              <a:path fill="darken" w="21600" h="35502">
                <a:moveTo>
                  <a:pt x="3794" y="14444"/>
                </a:moveTo>
                <a:lnTo>
                  <a:pt x="7301" y="14444"/>
                </a:lnTo>
                <a:lnTo>
                  <a:pt x="7301" y="19779"/>
                </a:lnTo>
                <a:cubicBezTo>
                  <a:pt x="7301" y="20702"/>
                  <a:pt x="8102" y="21433"/>
                  <a:pt x="9138" y="21433"/>
                </a:cubicBezTo>
                <a:lnTo>
                  <a:pt x="10800" y="21433"/>
                </a:lnTo>
                <a:cubicBezTo>
                  <a:pt x="11836" y="21433"/>
                  <a:pt x="12636" y="20702"/>
                  <a:pt x="12636" y="19779"/>
                </a:cubicBezTo>
                <a:lnTo>
                  <a:pt x="12636" y="14444"/>
                </a:lnTo>
                <a:lnTo>
                  <a:pt x="10800" y="14444"/>
                </a:lnTo>
                <a:lnTo>
                  <a:pt x="14308" y="10936"/>
                </a:lnTo>
                <a:lnTo>
                  <a:pt x="17981" y="14444"/>
                </a:lnTo>
                <a:lnTo>
                  <a:pt x="16144" y="14444"/>
                </a:lnTo>
                <a:lnTo>
                  <a:pt x="16144" y="19779"/>
                </a:lnTo>
                <a:cubicBezTo>
                  <a:pt x="16144" y="22547"/>
                  <a:pt x="13568" y="25106"/>
                  <a:pt x="10800" y="25106"/>
                </a:cubicBezTo>
                <a:lnTo>
                  <a:pt x="9138" y="25106"/>
                </a:lnTo>
                <a:cubicBezTo>
                  <a:pt x="6370" y="25106"/>
                  <a:pt x="3794" y="22547"/>
                  <a:pt x="3794" y="19779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981080" y="1828800"/>
            <a:ext cx="46800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朗读指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长句的停顿要得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朗读的节奏要缓急适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朗读的语气、语调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句子的重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准字音，注意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172200" y="5410080"/>
            <a:ext cx="2638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朗读比赛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380880"/>
            <a:ext cx="749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华文行楷"/>
              </a:rPr>
              <a:t>选择喜爱的一节，看谁读得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905120"/>
            <a:ext cx="762120" cy="220968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52480" y="5105520"/>
            <a:ext cx="1257480" cy="1257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1960" y="2133720"/>
            <a:ext cx="115524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文章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1905120"/>
            <a:ext cx="380880" cy="2209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70520" y="1676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赏花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70520" y="2743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惜花之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70520" y="3809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思花之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75440" y="1776240"/>
            <a:ext cx="13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1-7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自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26120" y="3886200"/>
            <a:ext cx="15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10-11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自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75440" y="2819520"/>
            <a:ext cx="13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8-9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自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10080" y="152280"/>
            <a:ext cx="2895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整体感知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03" name=""/>
          <p:cNvSpPr/>
          <p:nvPr/>
        </p:nvSpPr>
        <p:spPr>
          <a:xfrm>
            <a:off x="8005320" y="3097440"/>
            <a:ext cx="60696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梳理出文章的结构思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隶书"/>
                <a:ea typeface="隶书"/>
              </a:rPr>
              <a:t>  </a:t>
            </a:r>
            <a:r>
              <a:rPr b="1" lang="zh-CN" sz="6000" spc="-1" strike="noStrike">
                <a:solidFill>
                  <a:srgbClr val="ff6600"/>
                </a:solidFill>
                <a:latin typeface="隶书"/>
                <a:ea typeface="隶书"/>
              </a:rPr>
              <a:t>思考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① 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作者从哪几个方面描写盛开的紫藤萝树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② 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作者是怎样描写紫藤萝花的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③ 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找出作者描写紫藤萝的树和花运用拟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0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和比喻修辞手法的语句，分析其好处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5880" y="304920"/>
            <a:ext cx="2714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精读课文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5:44:42Z</dcterms:created>
  <dc:creator>wutao</dc:creator>
  <dc:description/>
  <dc:language>en-US</dc:language>
  <cp:lastModifiedBy>周璟</cp:lastModifiedBy>
  <dcterms:modified xsi:type="dcterms:W3CDTF">2004-09-30T03:23:09Z</dcterms:modified>
  <cp:revision>100</cp:revision>
  <dc:subject/>
  <dc:title>幻灯片 1</dc:title>
</cp:coreProperties>
</file>